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42113" cy="9893300"/>
  <p:custShowLst>
    <p:custShow name="Presentazione personalizzata 1" id="0">
      <p:sldLst>
        <p:sld r:id="rId3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D72-DAE2-4853-8051-033A9234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3AB-85E8-4105-9ED4-9BF2C48F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74C-8A84-4B41-A0C1-4A3C8472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CD7-CAA1-4FE8-9F4D-7C35869B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6E9-B2BF-455E-9929-F2EA80DE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CCD-A939-433F-AB39-12BD4FF2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6C7-3DBE-4A2E-B7BB-78084488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B5C-C51A-4781-A774-4FD7C26D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35A-431A-4A9A-B4DC-E51F1BCC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CDB-90DA-48AD-8F40-D1E61FC6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3A2-65BC-4719-860A-2255FC2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844-7563-4859-B14D-9B78538F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ABEF-AE3D-432D-A193-3AD7AEDC1DFE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5A81-7AF8-4172-B457-BBF8070FD14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789-AF9C-4F88-9461-68DBE55565FC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28835-548D-48FB-91F2-7769402C83F4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Segmen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84360" y="1125360"/>
            <a:ext cx="8135640" cy="4989600"/>
            <a:chOff x="684360" y="1125360"/>
            <a:chExt cx="8135640" cy="4989600"/>
          </a:xfrm>
        </p:grpSpPr>
        <p:sp>
          <p:nvSpPr>
            <p:cNvPr id="243" name=""/>
            <p:cNvSpPr/>
            <p:nvPr/>
          </p:nvSpPr>
          <p:spPr>
            <a:xfrm>
              <a:off x="684360" y="1125360"/>
              <a:ext cx="78483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segmentazione di un’immagine (memorizzata su un grafo) è realizzata da algoritm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artizionamento dei grafi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" y="2278080"/>
              <a:ext cx="81356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anno parte della stessa partizione nodi adiacenti aventi valori di intensità simi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403280" y="3357720"/>
              <a:ext cx="6408720" cy="2757240"/>
              <a:chOff x="1403280" y="3357720"/>
              <a:chExt cx="6408720" cy="2757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403280" y="3357720"/>
                <a:ext cx="6408720" cy="2757240"/>
                <a:chOff x="1403280" y="3357720"/>
                <a:chExt cx="6408720" cy="2757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03280" y="3357720"/>
                  <a:ext cx="6408720" cy="27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1527840" y="3419640"/>
                  <a:ext cx="6157440" cy="2615040"/>
                  <a:chOff x="1527840" y="3419640"/>
                  <a:chExt cx="6157440" cy="2615040"/>
                </a:xfrm>
              </p:grpSpPr>
              <p:pic>
                <p:nvPicPr>
                  <p:cNvPr id="24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046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1" name=""/>
                  <p:cNvSpPr/>
                  <p:nvPr/>
                </p:nvSpPr>
                <p:spPr>
                  <a:xfrm>
                    <a:off x="4418280" y="4572720"/>
                    <a:ext cx="440640" cy="317520"/>
                  </a:xfrm>
                  <a:prstGeom prst="rightArrow">
                    <a:avLst>
                      <a:gd name="adj1" fmla="val 41741"/>
                      <a:gd name="adj2" fmla="val 57656"/>
                    </a:avLst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"/>
              <p:cNvSpPr/>
              <p:nvPr/>
            </p:nvSpPr>
            <p:spPr>
              <a:xfrm>
                <a:off x="4001400" y="5169240"/>
                <a:ext cx="25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49240" y="5658480"/>
                <a:ext cx="25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26000" y="5445720"/>
                <a:ext cx="447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it-IT" sz="1600" spc="-1" strike="noStrike" baseline="-25000">
                    <a:solidFill>
                      <a:srgbClr val="000000"/>
                    </a:solidFill>
                    <a:latin typeface="Arial"/>
                  </a:rPr>
                  <a:t>x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BD3-9B64-4D2A-A9D1-18FD857326F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4957F-9CDA-47D1-943F-C4E4767D1C3D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Applic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1280" y="1268280"/>
            <a:ext cx="8066160" cy="1468080"/>
            <a:chOff x="611280" y="1268280"/>
            <a:chExt cx="8066160" cy="1468080"/>
          </a:xfrm>
        </p:grpSpPr>
        <p:sp>
          <p:nvSpPr>
            <p:cNvPr id="258" name="PlaceHolder 2"/>
            <p:cNvSpPr>
              <a:spLocks noGrp="1"/>
            </p:cNvSpPr>
            <p:nvPr>
              <p:ph/>
            </p:nvPr>
          </p:nvSpPr>
          <p:spPr>
            <a:xfrm>
              <a:off x="611280" y="1268280"/>
              <a:ext cx="80661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 fontScale="95000"/>
            </a:bodyPr>
            <a:p>
              <a:pPr marL="325800" indent="-325800">
                <a:lnSpc>
                  <a:spcPct val="80000"/>
                </a:lnSpc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Si applica la tecnica di Grady alle mammografie digitali considerando solo le regioni di interesse – ROI (lesion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2000" y="2276640"/>
              <a:ext cx="72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l background (tessuto sano) rimane sfuoc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32000" y="191628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 lesioni sono “messe a fuoco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651640" y="350208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861080" y="523080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mmografia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5237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i di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52308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pionamento visivo 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165480" y="3803760"/>
            <a:ext cx="2595600" cy="1092240"/>
            <a:chOff x="3165480" y="3803760"/>
            <a:chExt cx="2595600" cy="1092240"/>
          </a:xfrm>
        </p:grpSpPr>
        <p:sp>
          <p:nvSpPr>
            <p:cNvPr id="268" name=""/>
            <p:cNvSpPr/>
            <p:nvPr/>
          </p:nvSpPr>
          <p:spPr>
            <a:xfrm rot="15640800">
              <a:off x="4116240" y="3091680"/>
              <a:ext cx="693720" cy="2516400"/>
            </a:xfrm>
            <a:custGeom>
              <a:avLst/>
              <a:gdLst>
                <a:gd name="textAreaLeft" fmla="*/ 239400 w 693720"/>
                <a:gd name="textAreaRight" fmla="*/ 454320 w 693720"/>
                <a:gd name="textAreaTop" fmla="*/ 868320 h 2516400"/>
                <a:gd name="textAreaBottom" fmla="*/ 1648080 h 251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34" y="21600"/>
                  </a:lnTo>
                  <a:lnTo>
                    <a:pt x="1026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13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28840" y="4208400"/>
              <a:ext cx="576360" cy="57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87640" y="3835440"/>
            <a:ext cx="2724120" cy="544320"/>
            <a:chOff x="2987640" y="3835440"/>
            <a:chExt cx="2724120" cy="544320"/>
          </a:xfrm>
        </p:grpSpPr>
        <p:sp>
          <p:nvSpPr>
            <p:cNvPr id="271" name=""/>
            <p:cNvSpPr/>
            <p:nvPr/>
          </p:nvSpPr>
          <p:spPr>
            <a:xfrm rot="16200000">
              <a:off x="4077360" y="2745360"/>
              <a:ext cx="544320" cy="2724120"/>
            </a:xfrm>
            <a:custGeom>
              <a:avLst/>
              <a:gdLst>
                <a:gd name="textAreaLeft" fmla="*/ 189000 w 544320"/>
                <a:gd name="textAreaRight" fmla="*/ 355320 w 544320"/>
                <a:gd name="textAreaTop" fmla="*/ 946080 h 2724120"/>
                <a:gd name="textAreaBottom" fmla="*/ 1778040 h 27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247" y="21600"/>
                  </a:lnTo>
                  <a:lnTo>
                    <a:pt x="1035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87640" y="3860640"/>
              <a:ext cx="504720" cy="504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486240" y="3205080"/>
            <a:ext cx="2303280" cy="1343520"/>
            <a:chOff x="3486240" y="3205080"/>
            <a:chExt cx="2303280" cy="1343520"/>
          </a:xfrm>
        </p:grpSpPr>
        <p:sp>
          <p:nvSpPr>
            <p:cNvPr id="274" name=""/>
            <p:cNvSpPr/>
            <p:nvPr/>
          </p:nvSpPr>
          <p:spPr>
            <a:xfrm rot="16903800">
              <a:off x="4176000" y="2796120"/>
              <a:ext cx="923760" cy="2160720"/>
            </a:xfrm>
            <a:custGeom>
              <a:avLst/>
              <a:gdLst>
                <a:gd name="textAreaLeft" fmla="*/ 317520 w 923760"/>
                <a:gd name="textAreaRight" fmla="*/ 606240 w 923760"/>
                <a:gd name="textAreaTop" fmla="*/ 742680 h 2160720"/>
                <a:gd name="textAreaBottom" fmla="*/ 141804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87" y="21600"/>
                  </a:lnTo>
                  <a:lnTo>
                    <a:pt x="1021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5280" y="3384720"/>
              <a:ext cx="719280" cy="719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2C1-1B01-4466-9E03-853557F1E05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7F39A-2815-4F3B-8E0B-1C7B18EA470A}" type="datetime1">
              <a:rPr lang="en-US"/>
              <a:t>07/30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600"/>
                            </p:stCondLst>
                            <p:childTnLst>
                              <p:par>
                                <p:cTn id="4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6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900"/>
                            </p:stCondLst>
                            <p:childTnLst>
                              <p:par>
                                <p:cTn id="462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4" dur="2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6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9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3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8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300"/>
                            </p:stCondLst>
                            <p:childTnLst>
                              <p:par>
                                <p:cTn id="49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1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641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odolog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4360" y="1341360"/>
            <a:ext cx="7920000" cy="4248360"/>
            <a:chOff x="684360" y="1341360"/>
            <a:chExt cx="7920000" cy="4248360"/>
          </a:xfrm>
        </p:grpSpPr>
        <p:sp>
          <p:nvSpPr>
            <p:cNvPr id="279" name=""/>
            <p:cNvSpPr/>
            <p:nvPr/>
          </p:nvSpPr>
          <p:spPr>
            <a:xfrm>
              <a:off x="4788000" y="2708280"/>
              <a:ext cx="345600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88000" y="3718080"/>
              <a:ext cx="3456000" cy="86328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88000" y="5014800"/>
              <a:ext cx="3456000" cy="57492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4360" y="3573360"/>
              <a:ext cx="2735280" cy="8654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erca contor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1280" y="27813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51280" y="392904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1280" y="50799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1341360"/>
              <a:ext cx="7848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cniche sperimentate per identificare correttamente il contorno delle lesioni tumor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E0E-106F-46C6-9240-DE514D32F36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613FE-3674-4E83-B596-02E5C48A17B3}" type="datetime1">
              <a:rPr lang="en-US"/>
              <a:t>07/30/26</a:t>
            </a:fld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3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8560" y="1844640"/>
              <a:ext cx="75610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520" y="523224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51D-6C6C-4363-B944-E82611AB41B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58DF2-75B9-4834-BD55-096C865A67E0}" type="datetime1">
              <a:rPr lang="en-US"/>
              <a:t>07/30/26</a:t>
            </a:fld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98560" y="184464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4720" y="5232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E46-BDE4-4537-BAD1-6139C241113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C1CAB-7219-4BDD-BCA2-8A4C5FC73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3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68360" y="1182600"/>
            <a:ext cx="7991280" cy="4873680"/>
            <a:chOff x="468360" y="1182600"/>
            <a:chExt cx="7991280" cy="487368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900000" y="184464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900000" y="3284640"/>
              <a:ext cx="7559640" cy="13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900000" y="472428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1560" y="5232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D47-1341-4E81-8DD6-D9147533624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EB613-F5F0-4DFF-B6B4-BB11155948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880" y="1365120"/>
            <a:ext cx="8763120" cy="4233960"/>
            <a:chOff x="380880" y="1365120"/>
            <a:chExt cx="8763120" cy="4233960"/>
          </a:xfrm>
        </p:grpSpPr>
        <p:sp>
          <p:nvSpPr>
            <p:cNvPr id="332" name=""/>
            <p:cNvSpPr/>
            <p:nvPr/>
          </p:nvSpPr>
          <p:spPr>
            <a:xfrm>
              <a:off x="958680" y="2940120"/>
              <a:ext cx="730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Esecuzione dei tes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71640" y="2436840"/>
              <a:ext cx="8172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Implementazione degli algoritmi di segmentazion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7360" y="1365120"/>
              <a:ext cx="77565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Realizzazione d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0880" y="4005360"/>
              <a:ext cx="8496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226080" indent="-226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Dal confronto visivo dei risultati dei test è emerso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41360" y="4579920"/>
              <a:ext cx="3995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Segmentazione miglior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5078520"/>
              <a:ext cx="70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Region growing + Active Contour Snak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844640"/>
              <a:ext cx="79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Advanced Segmentation Toolbox in Matlab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3FC-CD34-4781-BEEF-B4F2C578DA1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273EB-0617-46A6-B020-B14078FD15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viluppi Fut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5640" y="1339920"/>
            <a:ext cx="7848720" cy="4249800"/>
            <a:chOff x="755640" y="1339920"/>
            <a:chExt cx="7848720" cy="4249800"/>
          </a:xfrm>
        </p:grpSpPr>
        <p:sp>
          <p:nvSpPr>
            <p:cNvPr id="342" name=""/>
            <p:cNvSpPr/>
            <p:nvPr/>
          </p:nvSpPr>
          <p:spPr>
            <a:xfrm>
              <a:off x="900000" y="2635200"/>
              <a:ext cx="3024360" cy="8636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0000" y="4724280"/>
              <a:ext cx="3097440" cy="8654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Grady /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2271240" y="3928680"/>
              <a:ext cx="504720" cy="365400"/>
            </a:xfrm>
            <a:prstGeom prst="rightArrow">
              <a:avLst>
                <a:gd name="adj1" fmla="val 41741"/>
                <a:gd name="adj2" fmla="val 5738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4500720" y="3210120"/>
              <a:ext cx="1874520" cy="187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6588000" y="3210120"/>
              <a:ext cx="1873440" cy="1873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7" name=""/>
            <p:cNvSpPr/>
            <p:nvPr/>
          </p:nvSpPr>
          <p:spPr>
            <a:xfrm>
              <a:off x="755640" y="133992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secuzione di ulteriori test per il miglioramento della 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C2A-1C2A-4E98-98BA-D1E0C6CEEDD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0C9C5-E3BA-4ED6-BA1D-97C36BDE90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3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17E-A9DE-4325-AF8D-CA31EF453A07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619C0-A78F-4659-BA31-85CB301E695E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826920" y="1195560"/>
            <a:ext cx="7773840" cy="4900320"/>
            <a:chOff x="826920" y="1195560"/>
            <a:chExt cx="7773840" cy="4900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993920" y="2421000"/>
              <a:ext cx="2671920" cy="36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409400" y="2709720"/>
              <a:ext cx="233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In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Mammografia           digita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2400" y="4708440"/>
              <a:ext cx="2887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Out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Segnalazione di       eventuali les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2307960" y="407520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920" y="1195560"/>
              <a:ext cx="777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si inserita nel progetto di sviluppo di un sistema CAD      per i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onoscimento di lesioni tumorali in mammografie digit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Aided Detection - C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994280" y="2421000"/>
            <a:ext cx="2670120" cy="367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276-2EC9-4891-9A46-146717415D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518F9-10EF-4BB3-866C-E7E0F5DCFFB4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4560" y="1125360"/>
            <a:ext cx="8101080" cy="4969440"/>
            <a:chOff x="574560" y="1125360"/>
            <a:chExt cx="8101080" cy="4969440"/>
          </a:xfrm>
        </p:grpSpPr>
        <p:sp>
          <p:nvSpPr>
            <p:cNvPr id="63" name=""/>
            <p:cNvSpPr/>
            <p:nvPr/>
          </p:nvSpPr>
          <p:spPr>
            <a:xfrm>
              <a:off x="576360" y="2838600"/>
              <a:ext cx="190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Tahoma"/>
                </a:rPr>
                <a:t>OBIETTIV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6360" y="42274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ETODOLOG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30480" y="461628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30480" y="533700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30480" y="569592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30480" y="497664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560" y="1125360"/>
              <a:ext cx="29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ASSE TUMOR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4000" y="1508040"/>
              <a:ext cx="51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uminose sul mammogram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4000" y="1878120"/>
              <a:ext cx="74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nde variabilità in dimensione (3-40 mm), bordo e densit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24000" y="2239920"/>
              <a:ext cx="57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ifficoltà nella distinzione dalle zone s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00000" y="3284640"/>
              <a:ext cx="777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Aumento del numero di lesioni rilevate dal CAD attraverso una corretta identificazione dei loro contorn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2800" y="3381480"/>
              <a:ext cx="108000" cy="576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44A-8FE9-4738-B3A5-9E6D9A649B4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8E558-5F11-4F4C-A5D7-C90CF8DA43E6}" type="datetime1">
              <a:rPr lang="en-US"/>
              <a:t>07/30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55640" y="1484280"/>
            <a:ext cx="7920000" cy="4308120"/>
            <a:chOff x="755640" y="1484280"/>
            <a:chExt cx="7920000" cy="4308120"/>
          </a:xfrm>
        </p:grpSpPr>
        <p:sp>
          <p:nvSpPr>
            <p:cNvPr id="77" name=""/>
            <p:cNvSpPr/>
            <p:nvPr/>
          </p:nvSpPr>
          <p:spPr>
            <a:xfrm>
              <a:off x="755640" y="1959120"/>
              <a:ext cx="7691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no snake è una curva modellata da forze che la spingono 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formarsi alla periferia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di un ogget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5640" y="1484280"/>
              <a:ext cx="79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eliminare concavit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42920" y="3213000"/>
              <a:ext cx="2579400" cy="2579400"/>
              <a:chOff x="1042920" y="3213000"/>
              <a:chExt cx="2579400" cy="257940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2920" y="3213000"/>
                <a:ext cx="2579400" cy="25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1266840" y="3419640"/>
                <a:ext cx="2148840" cy="214920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ctive Contour Sn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227480" y="3429000"/>
            <a:ext cx="44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inizi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7480" y="4249800"/>
            <a:ext cx="415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fin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7480" y="5089680"/>
            <a:ext cx="31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D4D-2A36-418E-A94A-A045F6BC45D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42AE6-78AE-426F-921B-0D90D7812AB3}" type="datetime1">
              <a:rPr lang="en-US"/>
              <a:t>07/30/2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684360" y="1311120"/>
            <a:ext cx="8640360" cy="4921200"/>
            <a:chOff x="684360" y="1311120"/>
            <a:chExt cx="8640360" cy="49212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900000" y="2708280"/>
              <a:ext cx="3167280" cy="316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1" name=""/>
            <p:cNvSpPr/>
            <p:nvPr/>
          </p:nvSpPr>
          <p:spPr>
            <a:xfrm>
              <a:off x="684360" y="1311120"/>
              <a:ext cx="77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Raggruppa pixel adiacenti aventi valor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tensità simili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ra lor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356000" y="2421000"/>
              <a:ext cx="4897080" cy="752400"/>
              <a:chOff x="4356000" y="2421000"/>
              <a:chExt cx="4897080" cy="752400"/>
            </a:xfrm>
          </p:grpSpPr>
          <p:sp>
            <p:nvSpPr>
              <p:cNvPr id="93" name=""/>
              <p:cNvSpPr/>
              <p:nvPr/>
            </p:nvSpPr>
            <p:spPr>
              <a:xfrm>
                <a:off x="4438800" y="2805120"/>
                <a:ext cx="48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sceglie il seme R (pixel iniziale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56000" y="2421000"/>
                <a:ext cx="22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ZIALIZZAZI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356000" y="3357720"/>
              <a:ext cx="4968720" cy="2874600"/>
              <a:chOff x="4356000" y="3357720"/>
              <a:chExt cx="4968720" cy="2874600"/>
            </a:xfrm>
          </p:grpSpPr>
          <p:sp>
            <p:nvSpPr>
              <p:cNvPr id="96" name=""/>
              <p:cNvSpPr/>
              <p:nvPr/>
            </p:nvSpPr>
            <p:spPr>
              <a:xfrm>
                <a:off x="4437000" y="4311720"/>
                <a:ext cx="44053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siderano tutti i pixel p adiacenti ad R: sia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l’intensità di p corrent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7000" y="3716280"/>
                <a:ext cx="40856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alcola la media 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dei valori di intensità di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56000" y="3357720"/>
                <a:ext cx="296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CRITERIO DI SIMILARIT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8800" y="4935600"/>
                <a:ext cx="48859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 |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–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| è abbastanza piccolo           si aggiunge p ad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37000" y="5589720"/>
                <a:ext cx="488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tinua finchè nessun pixel supera        il criterio di similarità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175248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6056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056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684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684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684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6056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056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684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492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74920" y="44006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74920" y="46083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481644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684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056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7492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476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4760" y="4818240"/>
            <a:ext cx="20772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476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876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6840" y="397656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4920" y="3978360"/>
            <a:ext cx="208080" cy="21276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81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81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81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1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81200" y="48164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28760" y="44020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28760" y="46101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2760" y="419112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74920" y="37702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81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7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97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97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97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97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2760" y="39830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684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7492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1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97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13200" y="37702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13200" y="3976560"/>
            <a:ext cx="20772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1320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1320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7492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9480" y="397512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74920" y="3141720"/>
            <a:ext cx="208080" cy="1969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4760" y="46101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30320" y="4575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84160" y="269388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986-2716-4618-AD1E-5FE4DC5955B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9446C-1100-4C8B-BBAD-BC2AB3E9119C}" type="datetime1">
              <a:rPr lang="en-US"/>
              <a:t>07/30/2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5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5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5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5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5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5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5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9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95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15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2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5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3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5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4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45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6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65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7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75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186920" y="3033360"/>
            <a:ext cx="864000" cy="864000"/>
            <a:chOff x="1186920" y="3033360"/>
            <a:chExt cx="864000" cy="864000"/>
          </a:xfrm>
        </p:grpSpPr>
        <p:sp>
          <p:nvSpPr>
            <p:cNvPr id="161" name=""/>
            <p:cNvSpPr/>
            <p:nvPr/>
          </p:nvSpPr>
          <p:spPr>
            <a:xfrm>
              <a:off x="1187280" y="3033720"/>
              <a:ext cx="86364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8728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5736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8728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736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55736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084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86920" y="352728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86920" y="3403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57360" y="3403800"/>
              <a:ext cx="123480" cy="12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wah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3029040"/>
            <a:ext cx="2519640" cy="25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692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692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2200" y="359712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684680"/>
            <a:ext cx="2890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469728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30680" y="3592440"/>
            <a:ext cx="28872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6692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62728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186920" y="446868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186920" y="410832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4108320"/>
            <a:ext cx="3603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26971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1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413000"/>
            <a:ext cx="7993080" cy="4466520"/>
            <a:chOff x="826920" y="1413000"/>
            <a:chExt cx="7993080" cy="4466520"/>
          </a:xfrm>
        </p:grpSpPr>
        <p:sp>
          <p:nvSpPr>
            <p:cNvPr id="189" name=""/>
            <p:cNvSpPr/>
            <p:nvPr/>
          </p:nvSpPr>
          <p:spPr>
            <a:xfrm>
              <a:off x="4127400" y="3936960"/>
              <a:ext cx="42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calcola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varianza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 delle regioni 1,2,3 e 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40360" y="4780080"/>
              <a:ext cx="4390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l pixel centrale (i, j) assume il valore della media della regione con varianza minima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6920" y="1413000"/>
              <a:ext cx="73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l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servazione dei bor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6920" y="1844640"/>
              <a:ext cx="79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Per ogni pixel dell’immagine si applica il seguente proced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27400" y="2781360"/>
              <a:ext cx="4248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suddivide una finestra quadrata in 4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regioni sovrapposte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81A-DA65-418A-AF86-6C5181A0947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AF0B1-68B2-4DFC-81FF-A0BB7B1A0304}" type="datetime1">
              <a:rPr lang="en-US"/>
              <a:t>07/30/26</a:t>
            </a:fld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remove" presetClass="emph" presetID="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297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"/>
                            </p:stCondLst>
                            <p:childTnLst>
                              <p:par>
                                <p:cTn id="3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0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remove" presetClass="emph" presetID="1" presetSubtype="1" repeatCount="75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06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98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1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remove" presetClass="emph" presetID="1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15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97"/>
                            </p:stCondLst>
                            <p:childTnLst>
                              <p:par>
                                <p:cTn id="3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1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24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97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10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33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133920"/>
            <a:ext cx="8435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Visualizzazione Bi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3860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inuisce la dimensione dei camp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50880" y="57261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p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421080"/>
            <a:ext cx="144360" cy="1808280"/>
          </a:xfrm>
          <a:prstGeom prst="upArrow">
            <a:avLst>
              <a:gd name="adj1" fmla="val 30398"/>
              <a:gd name="adj2" fmla="val 193228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3280" y="337968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menta la risol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197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basa sul campionamento non lineare di un immagine effettuato da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stema visivo u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0559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risoluzione spaziale non è uniform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tutta l’area osserv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01880" y="3041640"/>
            <a:ext cx="2590560" cy="2590920"/>
            <a:chOff x="1001880" y="3041640"/>
            <a:chExt cx="2590560" cy="2590920"/>
          </a:xfrm>
        </p:grpSpPr>
        <p:sp>
          <p:nvSpPr>
            <p:cNvPr id="205" name=""/>
            <p:cNvSpPr/>
            <p:nvPr/>
          </p:nvSpPr>
          <p:spPr>
            <a:xfrm>
              <a:off x="1001880" y="3041640"/>
              <a:ext cx="2590560" cy="2590920"/>
            </a:xfrm>
            <a:prstGeom prst="ellipse">
              <a:avLst/>
            </a:prstGeom>
            <a:solidFill>
              <a:srgbClr val="f8f8f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000" y="3475080"/>
              <a:ext cx="1728720" cy="1727280"/>
            </a:xfrm>
            <a:prstGeom prst="ellipse">
              <a:avLst/>
            </a:prstGeom>
            <a:solidFill>
              <a:srgbClr val="d6d6d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7520" y="3787920"/>
              <a:ext cx="1081080" cy="1081080"/>
            </a:xfrm>
            <a:prstGeom prst="ellipse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0040" y="3973680"/>
              <a:ext cx="717480" cy="718920"/>
            </a:xfrm>
            <a:prstGeom prst="ellipse">
              <a:avLst/>
            </a:prstGeom>
            <a:solidFill>
              <a:srgbClr val="474747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8680" y="4162320"/>
              <a:ext cx="346320" cy="34632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68720" y="3429000"/>
            <a:ext cx="432000" cy="1799640"/>
            <a:chOff x="4068720" y="3429000"/>
            <a:chExt cx="432000" cy="1799640"/>
          </a:xfrm>
        </p:grpSpPr>
        <p:sp>
          <p:nvSpPr>
            <p:cNvPr id="211" name=""/>
            <p:cNvSpPr/>
            <p:nvPr/>
          </p:nvSpPr>
          <p:spPr>
            <a:xfrm>
              <a:off x="4068720" y="3788640"/>
              <a:ext cx="432000" cy="364320"/>
            </a:xfrm>
            <a:prstGeom prst="rect">
              <a:avLst/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8720" y="4147560"/>
              <a:ext cx="432000" cy="362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68720" y="4507200"/>
              <a:ext cx="432000" cy="361800"/>
            </a:xfrm>
            <a:prstGeom prst="rect">
              <a:avLst/>
            </a:prstGeom>
            <a:solidFill>
              <a:srgbClr val="d6d6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68720" y="4866840"/>
              <a:ext cx="432000" cy="361800"/>
            </a:xfrm>
            <a:prstGeom prst="rect">
              <a:avLst/>
            </a:prstGeom>
            <a:solidFill>
              <a:srgbClr val="f8f8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8720" y="3429000"/>
              <a:ext cx="432000" cy="361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119-14E7-4A5E-809D-D1F49B0A685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C14B7-77C8-4E1C-94DD-6A722969A292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78480" y="4222800"/>
            <a:ext cx="2519280" cy="1295280"/>
            <a:chOff x="5478480" y="4222800"/>
            <a:chExt cx="2519280" cy="1295280"/>
          </a:xfrm>
        </p:grpSpPr>
        <p:sp>
          <p:nvSpPr>
            <p:cNvPr id="219" name=""/>
            <p:cNvSpPr/>
            <p:nvPr/>
          </p:nvSpPr>
          <p:spPr>
            <a:xfrm>
              <a:off x="5478480" y="4943520"/>
              <a:ext cx="251928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6482520" y="4292640"/>
              <a:ext cx="504720" cy="364680"/>
            </a:xfrm>
            <a:prstGeom prst="rightArrow">
              <a:avLst>
                <a:gd name="adj1" fmla="val 41741"/>
                <a:gd name="adj2" fmla="val 575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35640" y="1773360"/>
            <a:ext cx="2592360" cy="720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ma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478480" y="2709720"/>
            <a:ext cx="2592360" cy="1297080"/>
            <a:chOff x="5478480" y="2709720"/>
            <a:chExt cx="2592360" cy="1297080"/>
          </a:xfrm>
        </p:grpSpPr>
        <p:sp>
          <p:nvSpPr>
            <p:cNvPr id="223" name=""/>
            <p:cNvSpPr/>
            <p:nvPr/>
          </p:nvSpPr>
          <p:spPr>
            <a:xfrm>
              <a:off x="5478480" y="3430440"/>
              <a:ext cx="2592360" cy="5763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6482520" y="2779920"/>
              <a:ext cx="505080" cy="364680"/>
            </a:xfrm>
            <a:prstGeom prst="rightArrow">
              <a:avLst>
                <a:gd name="adj1" fmla="val 41741"/>
                <a:gd name="adj2" fmla="val 5754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229200" cy="32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8EB-901F-48EB-A461-8C8F1B69AC0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74CE8-3BDF-43C2-880A-BE7D20C5E2C8}" type="datetime1">
              <a:rPr lang="en-US"/>
              <a:t>07/30/26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Campion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1280" y="1413000"/>
            <a:ext cx="8353440" cy="4537080"/>
            <a:chOff x="611280" y="1413000"/>
            <a:chExt cx="8353440" cy="4537080"/>
          </a:xfrm>
        </p:grpSpPr>
        <p:sp>
          <p:nvSpPr>
            <p:cNvPr id="231" name=""/>
            <p:cNvSpPr/>
            <p:nvPr/>
          </p:nvSpPr>
          <p:spPr>
            <a:xfrm>
              <a:off x="4176720" y="1844640"/>
              <a:ext cx="47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mportazione dell’immagine su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042920" y="2781360"/>
              <a:ext cx="3168720" cy="316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3" name=""/>
            <p:cNvSpPr/>
            <p:nvPr/>
          </p:nvSpPr>
          <p:spPr>
            <a:xfrm>
              <a:off x="1189080" y="5518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6360" y="3573360"/>
              <a:ext cx="3889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Nod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nformazioni su un singolo campi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6360" y="4976640"/>
              <a:ext cx="39610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Lat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diacenza fra camp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6360" y="2852640"/>
              <a:ext cx="352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Contenuto informativo di 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280" y="1413000"/>
              <a:ext cx="820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 marL="250200" indent="-25020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topologia retinale umana è rappresentata da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fo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280" y="1851120"/>
              <a:ext cx="2881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90920" y="1987560"/>
              <a:ext cx="574560" cy="217440"/>
            </a:xfrm>
            <a:prstGeom prst="leftRightArrow">
              <a:avLst>
                <a:gd name="adj1" fmla="val 43065"/>
                <a:gd name="adj2" fmla="val 59123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8DD-A246-428E-B990-914114DCE50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25AB6-A685-4C23-86BA-3200DEA27245}" type="datetime1">
              <a:rPr lang="en-US"/>
              <a:t>07/30/26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5:18:52Z</dcterms:created>
  <dc:creator>Luca</dc:creator>
  <dc:description/>
  <dc:language>en-US</dc:language>
  <cp:lastModifiedBy>John Nash</cp:lastModifiedBy>
  <dcterms:modified xsi:type="dcterms:W3CDTF">2004-12-16T09:04:04Z</dcterms:modified>
  <cp:revision>788</cp:revision>
  <dc:subject/>
  <dc:title>Diapositiva 1</dc:title>
</cp:coreProperties>
</file>