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88F6-9CB4-48CA-B049-D7F0AA99B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Buongiorno,  mi chiamo Marco Gieri e presento una tesi dal tito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ALIZZAZIONE DI UNA APPLICAZIONE PER IL TRASFERIMENTO DI IMMAGINI MEDICHE TRAMITE PROTOCOLL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renderci conto di questi vantaggi, consideriamo un tipico flusso operazionale all’interno di una struttura ospedaliera, ricordando che ogni flusso è possibile grazie a funzionalità introdotte da DI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seguito un esame radiolog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le immagini generate dal dispositivo sono trasferite in un apposito archi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al quale il medico è in grado di  reperire, anche dopo molto tempo, le immagini desiderate per diagnosticare  o anche solo  consult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eventuali diagnosi sono salvate in archivi dedicati all’interno del P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alvate anche nella cartella clinica del paziente, pertinente al Sistema informativo Radi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Questi dati, sarann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ultabili quindi anche da altri sistemi informativi i quali potranno accedere sia ai dati relativi alle diagnosi , sia alle immag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1000" y="0"/>
            <a:ext cx="4208400" cy="31561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1120" y="3231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sì come all’interno di una struttura ospedaliera, DICOM comporta notevoli vantaggi anche per il paz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ideriamo uno scenario rea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paziente residente a Cesena effettua una mammografia all’ospedale di Cese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viene archiviata nel server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 questo punto il sistema CAD può prelevare le immagini da sottoporre ad analisi 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stituire al server dell’AUSL della Paziente l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alogamente il medico  specialista che per esempio si può trovare a Forlì, preleva l’immagine mammografia e la pre-diagnosi effettuata dal CAD 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ch’egli invia al server dell’AUSL la propri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caso di rilevazione di masse tumorali, il paziente si recherà all’Ospedale di Bolog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 medici dell’ospedale richiederanno al server DICOM di Cesena tutte le informazioni utili all’esecuzione dell’operazion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ed in seguito forniranno all’AUSL della Paziente l’esito di tale oper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quindi evidente come, grazie a DICOM,  tutte le fasi riguardanti il trasferimento di immagini possano essere efficientemente gestite, garantendo una piena compatibilità tra apparecchiature di produttori diversi e apportando indiscutibili vantaggi anche al paz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80920" y="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è scritta in C Standard, garantendo la portabilità su più piatta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i vede dal diagramma, l’applicazione comportandosi come un SCU, apre un’associazione con l’SCP e comunica con quest’ultimo attraverso i comandi ed il protocollo di comunicazione definiti dallo standar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iù in dettaglio, possiamo osservare che per tale implementazione sono utilizzati i seguenti comandi DIM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FI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MO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omando C-FIND è utilizzato come strumento per realizzare una qu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-MOVE  per ordinare all’ SCP il trasferimento dell’oggetto eventualmente restituito dalla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po aver aperto un’associazione con il SCP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provvede al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vio del comando C-FIND,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ramite il quale si comunicano i dati per effettuare una query, per esempio l’ID del Paziente o l’ID di una specifica immag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n seguito si pone in attesa della risposta per tale com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nel caso in cui la ricerca abbia succes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dopo un breve riepilogo dei dati individua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viene inviato la richiesta di retrieve attraverso il comando C-MOVE e si pone in attesa che l’SCP avvii la fase di trasferimento attraverso l’invio del comando 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ricevuto il comando C-STORE ha inizio il trasferimento vero e proprio dell’immagine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COM fino al salvataggio comp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cludendo, con questo lavoro di tesi si 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alizzata un’applicazione conforme allo Standard DICO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particolare si è Implementa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 Query/Retrieve Service Class Us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quale 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rnisce funzionalità di ricerca e trasferimento di immagini in format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viluppi futuri, affinché le funzionalità del sistema CAD siano completate, in un prossimo lavoro di tesi sarà implementato un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e Service Class User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 al fine di compiere l’upload dei risultati della fase di det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e non ci sono domande, avrei concluso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presentazione di questa tesi verterà sui punti mostrati nel luci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Introdurrò brevemente i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un gruppo di ricerca per il quale è stata progettata questa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Esporrò le motivazioni che hanno guidato lo sviluppo di questo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Tratterò quindi di come vengano attualmente gestite le immagini mediche nel mondo san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... in seguito illustrerò il protocollo DICOM, che negli ultimi anni si è affermato come lo Standard per il trattamento delle immagini med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Descriverò poi l’applicazione sviluppata come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… ed infine trarrò le conclusioni ed accennerò i possibili sviluppi fu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Medical Imaging Group (MI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Obiettivo è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reazione di un sistema CAD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puter Aided Detec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vvero un sistema automatico creato 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ricerca e lo sviluppo di metodologie e apparati che possano aiutare i medici nella rivelazione e nella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gnosi precoce di tumori al s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0920" y="35100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sistema CAD agisce su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immagini in formato digit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ali immagin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veng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ecedentemente digitalizza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rtendo da mammografie su supporto tradizionale, ovvero pellicole radiogr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s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già fornite in formato digital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dispositivi di acquisizione moderni, i cosiddetti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ammografi digit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o sviluppo della mia applicazione, lo scenario nel quale operava il sistema CAD era il segu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ffettuata una mammograf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mammografica digitale o opportunamente digitalizz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… veniva archiviata su server dedic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fornire le immagini al CAD, esse venivano poi scaricate manualmente sul filesystem del fileserver tramite supporti removibi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o lavoro di tesi è stato quindi sviluppato per fornire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un’applicazione in grado di trasferir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rendendo così automatico il passaggio delle immagini mammogafiche dai server delle immagini 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un prossimo lavoro di tesi, verrà realizzata l’applicazi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invio al server della diagnosi rilasciata d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evidente come, prima di realizzare l’applicazione, è stato necessario uno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udio sui metodi per il trattamento dell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427040" y="338040"/>
            <a:ext cx="4043520" cy="2735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9400" y="321768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maggiore uso di tecnologie avanza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 essere presenti le seguenti funzionalità: 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quisizione in formato digitale delle immagini fornite dalle diverse apparecchiature diagnostiche e dei dati ad esse associati (CLICK)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laborazione ed archiviazione di informazioni relative ai diversi momenti della storia clinica del paziente  (CLIC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divisione in rete di tutte le informazioni di utilità clinica ed amministr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soddisfare queste esigenze, attualmente, in una moderna struttura ospedaliera sono presenti 3 sistemi informativi, ovver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Radiologico o RI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per l'Archiviazione e la Comunicazione delle Immagini o PA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 responsabile prevalentemente della gestione complessiva del paziente (accettazione, prenotazione di esami, fatturazio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Informativo Radiologico o RIS responsabile prevalentemente della gestione delle attività specifiche locali (programmazione degli esami, esecuzione esame, archiviazione e distribuzione dei refert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per l'Archiviazione e la Comunicazione delle Immagini o PACS responsabile della parte riguardante le immagini (acquisizione, archiviazione e distribuzione d’immagi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ntegrazione dei dati clinici costituisce da lungo tempo un obiettivo di primaria importanza per tutte le strutture sani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progetto d’integrazione PACS-RIS-HIS deve partire dall’intento iniziale di realizzare un sistema aperto per l’archiviazione e la consultazione remota d’immagini e dati clinici nell’ambito delle strutture ospedali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mancanza di norme precise, tale intento era disatteso a causa di 3 motivi sostanzi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a mancanza d’uniformità tra i sistem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formato dei d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’INTRODUZIONE Dello STANDARD DICOM, infatti, come è possibile vedere dalla rappresentazione di un tipico PACS, mancavano le possibilità di realizzare in maniera efficiente e standard tutte quelle operazioni che coinvolgevano immagini mediche, ovvero il trasferimento, la visualizzazione, la stampa, poiché la presenza di apparecchiature di produttori diversi, spesso, comportava incompatibilità nella comun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50760" y="0"/>
            <a:ext cx="4437360" cy="3218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8120" y="3218040"/>
            <a:ext cx="5394240" cy="44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i problemi apparvero ancor più evidenti qu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modalità era, quindi, considerata un sistema isola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emplicemente collegato alla stazione di visualizzazione ed alla stampante dedic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amiglia di prodot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potenzialità di questi dispositivi, fecero emerge quindi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cessità di codificare (standardizzare) il formato delle immagini medicali in modo da poter realizzar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stemi aperti senza dover necessariamente adottare gli standard previsti dai produttori di moda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affrontare questo problema, dallo sforzo congiunto di numerosi organismi internazionali, dopo anni di studi, nacque nel  1993 uno standard  per le immagini mediche, denomin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ICOM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igital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aging and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munications in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edic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connessione tra sistem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formato delle immagini medich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o scambio di immagini mediche e dati correl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80920" y="193680"/>
            <a:ext cx="4362480" cy="2665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35040" y="2930040"/>
            <a:ext cx="53942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’entità del mondo reale come un paziente, un ricovero, un’immagine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, è modellata come un oggetto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definito Information Object Defini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gni oggetto ha in sé una serie d’attributi, per esempio l'oggetto paziente conterrà gli attributi dati anagrafici, data di ricovero e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efiniti gli oggetti d’intersesse e tutte le loro caratteristiche, DICOM definisce quali operazioni possono essere eseguite e su quali oggetti. Operazioni denominate DIM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ss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Le operazioni DIMSE realizzano funzionalità dette Servic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Modality Worklist Management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flusso d’informazioni dal RIS alle modal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erformed Procedure Step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comunicare al RIS che un esame è stato completat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ag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archiviazione di img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int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estisce le comunicazioni tra un’applicazione DICOM e la stampan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Query/Retriev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trasferimento di img DICOM tra modalità o tra modalità e altri sistemi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asato su un criterio di ricerca sempli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due applicazioni DICOM stabiliscono una comunicazi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razie all’utilizzo dello standard DICOM tutto il processo di archiviazione e successiva consultazione ottiene un notevole miglioramento, diventando più effi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AA33-5790-4058-BD32-9E3347016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E6BB-CA49-45AF-A2EC-97D7ADFA0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C3BA-24CD-44D2-AC98-EE9A9282D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716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716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8D94-79C0-424A-81E6-2D59D7FD4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F6AB-75FD-4714-8754-FA2D5750A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C20A-19E8-4F0D-B21B-B7FE13E01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7F82-2D9C-4F74-B0BC-59F80206A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58FE-641F-40F3-80C5-B1FA9D8AD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880" y="144000"/>
            <a:ext cx="822960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FB08-25E4-43E5-B8C2-5B14C1B49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ACD9-E356-4313-B0CE-34A6CA263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6921-2B96-45C4-BAE7-18F92BBD1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B5B3-6316-47EA-879B-2A02E8033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98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16480" y="6584760"/>
            <a:ext cx="5192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5640" y="6585120"/>
            <a:ext cx="439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DF41-9E96-44A4-9B73-D6678E441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48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68480" y="2044800"/>
            <a:ext cx="1676520" cy="533160"/>
            <a:chOff x="1968480" y="2044800"/>
            <a:chExt cx="1676520" cy="533160"/>
          </a:xfrm>
        </p:grpSpPr>
        <p:sp>
          <p:nvSpPr>
            <p:cNvPr id="226" name=""/>
            <p:cNvSpPr/>
            <p:nvPr/>
          </p:nvSpPr>
          <p:spPr>
            <a:xfrm>
              <a:off x="234972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2577960"/>
              <a:ext cx="167652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568680" y="1892160"/>
            <a:ext cx="1204920" cy="1357560"/>
            <a:chOff x="3568680" y="1892160"/>
            <a:chExt cx="1204920" cy="135756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3740400" y="1892160"/>
              <a:ext cx="858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568680" y="2884320"/>
              <a:ext cx="1204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v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mag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40280" y="4254480"/>
            <a:ext cx="1523880" cy="533520"/>
            <a:chOff x="4940280" y="4254480"/>
            <a:chExt cx="1523880" cy="533520"/>
          </a:xfrm>
        </p:grpSpPr>
        <p:sp>
          <p:nvSpPr>
            <p:cNvPr id="232" name=""/>
            <p:cNvSpPr/>
            <p:nvPr/>
          </p:nvSpPr>
          <p:spPr>
            <a:xfrm>
              <a:off x="4940280" y="4788000"/>
              <a:ext cx="15238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5720" y="4254480"/>
              <a:ext cx="761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20320" y="4254480"/>
            <a:ext cx="860400" cy="1310400"/>
            <a:chOff x="6520320" y="4254480"/>
            <a:chExt cx="860400" cy="1310400"/>
          </a:xfrm>
        </p:grpSpPr>
        <p:sp>
          <p:nvSpPr>
            <p:cNvPr id="235" name=""/>
            <p:cNvSpPr/>
            <p:nvPr/>
          </p:nvSpPr>
          <p:spPr>
            <a:xfrm>
              <a:off x="6520320" y="5168520"/>
              <a:ext cx="860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540120" y="4254480"/>
              <a:ext cx="77472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645840" y="1892160"/>
            <a:ext cx="1273320" cy="1279800"/>
            <a:chOff x="645840" y="1892160"/>
            <a:chExt cx="1273320" cy="127980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672840" y="1892160"/>
              <a:ext cx="12463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5840" y="2806560"/>
              <a:ext cx="1273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alità 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zi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11680" y="2044800"/>
            <a:ext cx="1600200" cy="533160"/>
            <a:chOff x="4711680" y="2044800"/>
            <a:chExt cx="1600200" cy="533160"/>
          </a:xfrm>
        </p:grpSpPr>
        <p:sp>
          <p:nvSpPr>
            <p:cNvPr id="241" name=""/>
            <p:cNvSpPr/>
            <p:nvPr/>
          </p:nvSpPr>
          <p:spPr>
            <a:xfrm>
              <a:off x="4711680" y="2577960"/>
              <a:ext cx="16002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800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trie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921360" y="2882880"/>
            <a:ext cx="801360" cy="1295280"/>
            <a:chOff x="6921360" y="2882880"/>
            <a:chExt cx="801360" cy="1295280"/>
          </a:xfrm>
        </p:grpSpPr>
        <p:sp>
          <p:nvSpPr>
            <p:cNvPr id="244" name=""/>
            <p:cNvSpPr/>
            <p:nvPr/>
          </p:nvSpPr>
          <p:spPr>
            <a:xfrm>
              <a:off x="7148880" y="3187440"/>
              <a:ext cx="573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360" y="2882880"/>
              <a:ext cx="0" cy="12952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44600" y="1587600"/>
            <a:ext cx="3465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4600" y="35686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4600" y="166356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93160" y="1606680"/>
            <a:ext cx="0" cy="4073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702400"/>
            <a:ext cx="2627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73800" y="35686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0920" y="1587600"/>
            <a:ext cx="3159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8160" y="1355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340080" y="4483080"/>
            <a:ext cx="2001960" cy="1843920"/>
            <a:chOff x="3340080" y="4483080"/>
            <a:chExt cx="2001960" cy="1843920"/>
          </a:xfrm>
        </p:grpSpPr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3721320" y="4483080"/>
              <a:ext cx="12175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340080" y="5930640"/>
              <a:ext cx="200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linical Documents 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196680" y="1816200"/>
            <a:ext cx="1452960" cy="1081800"/>
            <a:chOff x="6196680" y="1816200"/>
            <a:chExt cx="1452960" cy="1081800"/>
          </a:xfrm>
        </p:grpSpPr>
        <p:sp>
          <p:nvSpPr>
            <p:cNvPr id="258" name=""/>
            <p:cNvSpPr/>
            <p:nvPr/>
          </p:nvSpPr>
          <p:spPr>
            <a:xfrm>
              <a:off x="6196680" y="2654280"/>
              <a:ext cx="145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pret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6"/>
            <a:srcRect l="0" t="0" r="0" b="38276"/>
            <a:stretch/>
          </p:blipFill>
          <p:spPr>
            <a:xfrm>
              <a:off x="6303960" y="1816200"/>
              <a:ext cx="1206720" cy="73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2720" y="487692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2720" y="502920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187280" y="291312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263600" y="306540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11280" y="4508640"/>
            <a:ext cx="1368360" cy="1584000"/>
            <a:chOff x="611280" y="4508640"/>
            <a:chExt cx="1368360" cy="1584000"/>
          </a:xfrm>
        </p:grpSpPr>
        <p:sp>
          <p:nvSpPr>
            <p:cNvPr id="266" name=""/>
            <p:cNvSpPr/>
            <p:nvPr/>
          </p:nvSpPr>
          <p:spPr>
            <a:xfrm>
              <a:off x="611280" y="4508640"/>
              <a:ext cx="1368360" cy="1584000"/>
            </a:xfrm>
            <a:prstGeom prst="cube">
              <a:avLst>
                <a:gd name="adj" fmla="val 150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3840" y="5211720"/>
              <a:ext cx="5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66cc"/>
                  </a:solidFill>
                  <a:latin typeface="Arial"/>
                </a:rPr>
                <a:t>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24000" y="5084640"/>
            <a:ext cx="187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cument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i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66840" y="3817800"/>
            <a:ext cx="2051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EC9F-AC48-40ED-B445-03E716947D22}" type="slidenum">
              <a:t>10</a:t>
            </a:fld>
          </a:p>
        </p:txBody>
      </p:sp>
    </p:spTree>
  </p:cSld>
  <p:transition>
    <p:pull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47040" y="1557360"/>
            <a:ext cx="1368360" cy="934920"/>
          </a:xfrm>
          <a:prstGeom prst="cube">
            <a:avLst>
              <a:gd name="adj" fmla="val 173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87640" y="2430360"/>
            <a:ext cx="800280" cy="1069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26920" y="907920"/>
            <a:ext cx="329112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1484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s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7321200">
            <a:off x="1862280" y="2608920"/>
            <a:ext cx="791640" cy="1709640"/>
          </a:xfrm>
          <a:custGeom>
            <a:avLst/>
            <a:gdLst>
              <a:gd name="textAreaLeft" fmla="*/ 105840 w 791640"/>
              <a:gd name="textAreaRight" fmla="*/ 685800 w 791640"/>
              <a:gd name="textAreaTop" fmla="*/ 321840 h 1709640"/>
              <a:gd name="textAreaBottom" fmla="*/ 1216080 h 17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27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84720" y="4869000"/>
            <a:ext cx="1872000" cy="1726920"/>
            <a:chOff x="6084720" y="4869000"/>
            <a:chExt cx="1872000" cy="1726920"/>
          </a:xfrm>
        </p:grpSpPr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616800" y="5421240"/>
              <a:ext cx="9604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84720" y="4869000"/>
              <a:ext cx="1872000" cy="172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8280" y="50547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Bolog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828960" y="3548160"/>
            <a:ext cx="3275280" cy="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127320"/>
            <a:ext cx="273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 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200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0360" y="1827360"/>
            <a:ext cx="3311280" cy="172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1568520"/>
            <a:ext cx="273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11640" y="2187720"/>
            <a:ext cx="32385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3080" y="2187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489120" y="3875040"/>
            <a:ext cx="35622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3933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4076640"/>
            <a:ext cx="3743640" cy="1657440"/>
          </a:xfrm>
          <a:custGeom>
            <a:avLst/>
            <a:gdLst/>
            <a:ahLst/>
            <a:rect l="l" t="t" r="r" b="b"/>
            <a:pathLst>
              <a:path w="1905" h="1013">
                <a:moveTo>
                  <a:pt x="272" y="0"/>
                </a:moveTo>
                <a:cubicBezTo>
                  <a:pt x="136" y="355"/>
                  <a:pt x="0" y="711"/>
                  <a:pt x="272" y="862"/>
                </a:cubicBezTo>
                <a:cubicBezTo>
                  <a:pt x="544" y="1013"/>
                  <a:pt x="1633" y="900"/>
                  <a:pt x="1905" y="907"/>
                </a:cubicBezTo>
              </a:path>
            </a:pathLst>
          </a:custGeom>
          <a:noFill/>
          <a:ln w="507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4076640"/>
            <a:ext cx="4502160" cy="2305080"/>
          </a:xfrm>
          <a:custGeom>
            <a:avLst/>
            <a:gdLst/>
            <a:ahLst/>
            <a:rect l="l" t="t" r="r" b="b"/>
            <a:pathLst>
              <a:path w="2472" h="1376">
                <a:moveTo>
                  <a:pt x="2472" y="1179"/>
                </a:moveTo>
                <a:cubicBezTo>
                  <a:pt x="1576" y="1277"/>
                  <a:pt x="680" y="1376"/>
                  <a:pt x="340" y="1179"/>
                </a:cubicBezTo>
                <a:cubicBezTo>
                  <a:pt x="0" y="982"/>
                  <a:pt x="415" y="196"/>
                  <a:pt x="430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0440" y="5300640"/>
            <a:ext cx="26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immagini e 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80200" y="59500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sito op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93080" y="3068640"/>
            <a:ext cx="1439640" cy="1438200"/>
            <a:chOff x="7093080" y="3068640"/>
            <a:chExt cx="1439640" cy="14382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7453440" y="3571920"/>
              <a:ext cx="9954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254360" y="31669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orl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3080" y="3068640"/>
              <a:ext cx="1439640" cy="143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1190520" cy="14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22D6-3D7F-4F15-8DD7-F95CF6548C6B}" type="slidenum">
              <a:t>11</a:t>
            </a:fld>
          </a:p>
        </p:txBody>
      </p:sp>
    </p:spTree>
  </p:cSld>
  <p:transition>
    <p:pull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3760" y="9237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1941480"/>
            <a:ext cx="2692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SE utilizz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38560" y="2844720"/>
            <a:ext cx="6697080" cy="3465360"/>
            <a:chOff x="2338560" y="2844720"/>
            <a:chExt cx="6697080" cy="3465360"/>
          </a:xfrm>
        </p:grpSpPr>
        <p:sp>
          <p:nvSpPr>
            <p:cNvPr id="306" name=""/>
            <p:cNvSpPr/>
            <p:nvPr/>
          </p:nvSpPr>
          <p:spPr>
            <a:xfrm flipH="1">
              <a:off x="4514760" y="4786200"/>
              <a:ext cx="23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6920" y="442404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8560" y="3997080"/>
              <a:ext cx="216036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4120" y="4403520"/>
              <a:ext cx="194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4920" y="2989080"/>
              <a:ext cx="0" cy="30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59640" y="334944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Lo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5640" y="334944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Rem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91280" y="59418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COM Standar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498560" y="428436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8920" y="529416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75280" y="3909960"/>
              <a:ext cx="2160360" cy="172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5760" y="39826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5680" y="44719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78560" y="4991040"/>
              <a:ext cx="10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3840" y="284472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ssoc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0560" y="3133440"/>
              <a:ext cx="79164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0560" y="3133440"/>
              <a:ext cx="64728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332000" y="1773360"/>
            <a:ext cx="7575480" cy="4752720"/>
            <a:chOff x="1332000" y="1773360"/>
            <a:chExt cx="7575480" cy="4752720"/>
          </a:xfrm>
        </p:grpSpPr>
        <p:sp>
          <p:nvSpPr>
            <p:cNvPr id="324" name=""/>
            <p:cNvSpPr/>
            <p:nvPr/>
          </p:nvSpPr>
          <p:spPr>
            <a:xfrm>
              <a:off x="4803840" y="1773360"/>
              <a:ext cx="4103640" cy="4752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9120" y="1990800"/>
              <a:ext cx="1508040" cy="1004760"/>
              <a:chOff x="6099120" y="1990800"/>
              <a:chExt cx="1508040" cy="1004760"/>
            </a:xfrm>
          </p:grpSpPr>
          <p:sp>
            <p:nvSpPr>
              <p:cNvPr id="326" name=""/>
              <p:cNvSpPr/>
              <p:nvPr/>
            </p:nvSpPr>
            <p:spPr>
              <a:xfrm>
                <a:off x="6099120" y="1990800"/>
                <a:ext cx="1508040" cy="1004760"/>
              </a:xfrm>
              <a:prstGeom prst="can">
                <a:avLst>
                  <a:gd name="adj" fmla="val 1662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5328" dir="20006097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040" y="2249640"/>
                <a:ext cx="10141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  <a:ea typeface="Courier New"/>
                  </a:rPr>
                  <a:t>Image Arch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332000" y="3789360"/>
              <a:ext cx="3095640" cy="22320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0160" y="545940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76440" y="4437000"/>
              <a:ext cx="2496960" cy="936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MOV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-STO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51560" y="3703680"/>
              <a:ext cx="2592360" cy="2176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2200" y="482616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087800" y="5157720"/>
              <a:ext cx="14400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28120" y="3070080"/>
              <a:ext cx="107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5440" y="299880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694560" y="299844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69F7-5B3E-42E7-8E6B-9A5C99F7B35E}" type="slidenum">
              <a:t>12</a:t>
            </a:fld>
          </a:p>
        </p:txBody>
      </p:sp>
    </p:spTree>
  </p:cSld>
  <p:transition>
    <p:pull dir="r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: flusso oper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51320" y="1338120"/>
            <a:ext cx="5692680" cy="5546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92360" y="2708280"/>
            <a:ext cx="2664000" cy="433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429000"/>
            <a:ext cx="2951280" cy="1079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4581360"/>
            <a:ext cx="2232000" cy="64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92360" y="5300640"/>
            <a:ext cx="4319640" cy="649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258920" y="5029200"/>
            <a:ext cx="7777080" cy="126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0312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7360" y="981000"/>
            <a:ext cx="32878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o aver apert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ociazione con il SC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risposta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rcRect l="0" t="7716" r="0" b="0"/>
          <a:stretch/>
        </p:blipFill>
        <p:spPr>
          <a:xfrm>
            <a:off x="3132000" y="2603520"/>
            <a:ext cx="5400720" cy="82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349" name=""/>
          <p:cNvGrpSpPr/>
          <p:nvPr/>
        </p:nvGrpSpPr>
        <p:grpSpPr>
          <a:xfrm>
            <a:off x="3205080" y="4076640"/>
            <a:ext cx="5543280" cy="1416240"/>
            <a:chOff x="3205080" y="4076640"/>
            <a:chExt cx="5543280" cy="1416240"/>
          </a:xfrm>
        </p:grpSpPr>
        <p:pic>
          <p:nvPicPr>
            <p:cNvPr id="350" name="" descr=""/>
            <p:cNvPicPr/>
            <p:nvPr/>
          </p:nvPicPr>
          <p:blipFill>
            <a:blip r:embed="rId6"/>
            <a:stretch/>
          </p:blipFill>
          <p:spPr>
            <a:xfrm>
              <a:off x="3205080" y="4076640"/>
              <a:ext cx="5543280" cy="1416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1" name="" descr=""/>
            <p:cNvPicPr/>
            <p:nvPr/>
          </p:nvPicPr>
          <p:blipFill>
            <a:blip r:embed="rId7"/>
            <a:srcRect l="0" t="0" r="0" b="19920"/>
            <a:stretch/>
          </p:blipFill>
          <p:spPr>
            <a:xfrm>
              <a:off x="5724360" y="4826160"/>
              <a:ext cx="16524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3203640" y="3213000"/>
            <a:ext cx="5400720" cy="198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122400" y="3112920"/>
            <a:ext cx="2665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comando 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2400" y="4422600"/>
            <a:ext cx="28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vataggio im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971D-6278-4CEE-973D-548061088C46}" type="slidenum">
              <a:t>13</a:t>
            </a:fld>
          </a:p>
        </p:txBody>
      </p:sp>
    </p:spTree>
  </p:cSld>
  <p:transition>
    <p:pull dir="r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560" y="144000"/>
            <a:ext cx="6288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95200" y="1239840"/>
            <a:ext cx="882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5840" y="1298520"/>
            <a:ext cx="22701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901880"/>
            <a:ext cx="853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pplicazione conforme allo Standard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to un Query/Retrieve Service Class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nisce funzionalità di ricerca e trasferimento di immagin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8320" y="4683240"/>
            <a:ext cx="85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zione di un Store Service Class User, per l’upload dei risultati della fase di de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1440" y="34527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5200" y="407988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Sviluppi fut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41760" y="3255840"/>
            <a:ext cx="213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mato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2B87-2D49-4929-B2B9-B43BA14939CB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mmario della pres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gital Imaging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municatio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3175-B54A-4EAF-9837-F7FCEA45170E}" type="slidenum">
              <a:t>2</a:t>
            </a:fld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2052720"/>
            <a:ext cx="1523880" cy="1447560"/>
            <a:chOff x="609480" y="2052720"/>
            <a:chExt cx="1523880" cy="1447560"/>
          </a:xfrm>
        </p:grpSpPr>
        <p:sp>
          <p:nvSpPr>
            <p:cNvPr id="58" name=""/>
            <p:cNvSpPr/>
            <p:nvPr/>
          </p:nvSpPr>
          <p:spPr>
            <a:xfrm>
              <a:off x="609480" y="2052720"/>
              <a:ext cx="0" cy="1447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205272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935760" y="4286160"/>
            <a:ext cx="1523880" cy="1447920"/>
            <a:chOff x="6935760" y="4286160"/>
            <a:chExt cx="1523880" cy="1447920"/>
          </a:xfrm>
        </p:grpSpPr>
        <p:sp>
          <p:nvSpPr>
            <p:cNvPr id="61" name=""/>
            <p:cNvSpPr/>
            <p:nvPr/>
          </p:nvSpPr>
          <p:spPr>
            <a:xfrm>
              <a:off x="8459640" y="4286160"/>
              <a:ext cx="0" cy="1447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5760" y="573408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00000" y="229536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195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a50021"/>
                </a:solidFill>
                <a:latin typeface="Times New Roman"/>
              </a:rPr>
              <a:t>Obiet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98760" y="44672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icerca e lo sviluppo di metodologie ed apparati che possano aiutare i medici nella rivelazione e nella diagnosi precoce di tumori al 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332000" y="3645000"/>
            <a:ext cx="4611240" cy="703800"/>
            <a:chOff x="1332000" y="3645000"/>
            <a:chExt cx="4611240" cy="703800"/>
          </a:xfrm>
        </p:grpSpPr>
        <p:sp>
          <p:nvSpPr>
            <p:cNvPr id="67" name=""/>
            <p:cNvSpPr/>
            <p:nvPr/>
          </p:nvSpPr>
          <p:spPr>
            <a:xfrm>
              <a:off x="1908000" y="3645000"/>
              <a:ext cx="4035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a creazione di un sistema CAD (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Computer Aided Detection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2000" y="3786120"/>
              <a:ext cx="414000" cy="154080"/>
            </a:xfrm>
            <a:prstGeom prst="rightArrow">
              <a:avLst>
                <a:gd name="adj1" fmla="val 50000"/>
                <a:gd name="adj2" fmla="val 6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 flipV="1" rot="16200000">
            <a:off x="1942200" y="4717080"/>
            <a:ext cx="576360" cy="360360"/>
          </a:xfrm>
          <a:custGeom>
            <a:avLst/>
            <a:gdLst>
              <a:gd name="textAreaLeft" fmla="*/ 137880 w 576360"/>
              <a:gd name="textAreaRight" fmla="*/ 493560 w 576360"/>
              <a:gd name="textAreaTop" fmla="*/ 258840 h 360360"/>
              <a:gd name="textAreaBottom" fmla="*/ 308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8626"/>
                </a:moveTo>
                <a:lnTo>
                  <a:pt x="15531" y="18626"/>
                </a:lnTo>
                <a:lnTo>
                  <a:pt x="15531" y="5188"/>
                </a:lnTo>
                <a:lnTo>
                  <a:pt x="12436" y="5188"/>
                </a:lnTo>
                <a:lnTo>
                  <a:pt x="17018" y="0"/>
                </a:lnTo>
                <a:lnTo>
                  <a:pt x="21600" y="5188"/>
                </a:lnTo>
                <a:lnTo>
                  <a:pt x="18505" y="5188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2680-BED3-4A95-827F-3EC65D105B39}" type="slidenum">
              <a:t>3</a:t>
            </a:fld>
          </a:p>
        </p:txBody>
      </p:sp>
    </p:spTree>
  </p:cSld>
  <p:transition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7960" y="2421000"/>
            <a:ext cx="86425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istema CAD agisce su immagini in formato digi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agini digital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edentemente digitalizzate partendo da mammografie su pellicole radio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te in formato digitale da dispositivi di acquisizione moderni, i cosiddetti mammograf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6920" y="278136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07160 h 2160360"/>
              <a:gd name="textAreaBottom" fmla="*/ 1537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0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4120" y="1332000"/>
            <a:ext cx="166680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5200" y="3716280"/>
            <a:ext cx="1927440" cy="26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60720" y="3422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mm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580000" y="4965840"/>
            <a:ext cx="1014480" cy="13572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340000" y="5661000"/>
            <a:ext cx="3095640" cy="504720"/>
            <a:chOff x="2340000" y="5661000"/>
            <a:chExt cx="3095640" cy="504720"/>
          </a:xfrm>
        </p:grpSpPr>
        <p:sp>
          <p:nvSpPr>
            <p:cNvPr id="80" name=""/>
            <p:cNvSpPr/>
            <p:nvPr/>
          </p:nvSpPr>
          <p:spPr>
            <a:xfrm>
              <a:off x="2340000" y="5661000"/>
              <a:ext cx="3095640" cy="504720"/>
            </a:xfrm>
            <a:prstGeom prst="rightArrow">
              <a:avLst>
                <a:gd name="adj1" fmla="val 49685"/>
                <a:gd name="adj2" fmla="val 847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8320" y="5719680"/>
              <a:ext cx="15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chiv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6659640" y="3860280"/>
            <a:ext cx="360360" cy="1584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664680" y="3651120"/>
            <a:ext cx="2509560" cy="2290320"/>
            <a:chOff x="6664680" y="3651120"/>
            <a:chExt cx="2509560" cy="2290320"/>
          </a:xfrm>
        </p:grpSpPr>
        <p:sp>
          <p:nvSpPr>
            <p:cNvPr id="84" name=""/>
            <p:cNvSpPr/>
            <p:nvPr/>
          </p:nvSpPr>
          <p:spPr>
            <a:xfrm flipV="1" rot="1539000">
              <a:off x="7093080" y="3715920"/>
              <a:ext cx="792360" cy="2160360"/>
            </a:xfrm>
            <a:custGeom>
              <a:avLst/>
              <a:gdLst>
                <a:gd name="textAreaLeft" fmla="*/ 106200 w 792360"/>
                <a:gd name="textAreaRight" fmla="*/ 686160 w 792360"/>
                <a:gd name="textAreaTop" fmla="*/ 407160 h 2160360"/>
                <a:gd name="textAreaBottom" fmla="*/ 1537200 h 21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2813902"/>
                  <a:lnTo>
                    <a:pt x="7186" y="21136"/>
                  </a:lnTo>
                  <a:lnTo>
                    <a:pt x="0" y="17863"/>
                  </a:lnTo>
                  <a:lnTo>
                    <a:pt x="7186" y="13661"/>
                  </a:lnTo>
                  <a:lnTo>
                    <a:pt x="7186" y="15821"/>
                  </a:lnTo>
                  <a:arcTo wR="21600" hR="8143" stAng="2813902" swAng="-2558457"/>
                  <a:lnTo>
                    <a:pt x="21191" y="9720"/>
                  </a:lnTo>
                  <a:arcTo wR="21600" hR="8143" stAng="-255444" swAng="-5144556"/>
                  <a:close/>
                </a:path>
                <a:path fill="darkenLess"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-255444"/>
                  <a:lnTo>
                    <a:pt x="21191" y="9720"/>
                  </a:lnTo>
                  <a:arcTo wR="21600" hR="8143" stAng="-255444" swAng="-5144556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694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6600" y="5099040"/>
              <a:ext cx="15476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vilupp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35640" y="765000"/>
            <a:ext cx="3085920" cy="3024360"/>
            <a:chOff x="5435640" y="765000"/>
            <a:chExt cx="3085920" cy="3024360"/>
          </a:xfrm>
        </p:grpSpPr>
        <p:sp>
          <p:nvSpPr>
            <p:cNvPr id="87" name=""/>
            <p:cNvSpPr/>
            <p:nvPr/>
          </p:nvSpPr>
          <p:spPr>
            <a:xfrm>
              <a:off x="7656480" y="76500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300720" y="2854440"/>
              <a:ext cx="1368360" cy="934920"/>
              <a:chOff x="6300720" y="2854440"/>
              <a:chExt cx="1368360" cy="934920"/>
            </a:xfrm>
          </p:grpSpPr>
          <p:sp>
            <p:nvSpPr>
              <p:cNvPr id="89" name=""/>
              <p:cNvSpPr/>
              <p:nvPr/>
            </p:nvSpPr>
            <p:spPr>
              <a:xfrm>
                <a:off x="6300720" y="2854440"/>
                <a:ext cx="1368360" cy="934920"/>
              </a:xfrm>
              <a:prstGeom prst="cube">
                <a:avLst>
                  <a:gd name="adj" fmla="val 17319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65680" y="321336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7991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734688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7"/>
            <a:stretch/>
          </p:blipFill>
          <p:spPr>
            <a:xfrm>
              <a:off x="66848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8"/>
            <a:stretch/>
          </p:blipFill>
          <p:spPr>
            <a:xfrm>
              <a:off x="603720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9"/>
            <a:stretch/>
          </p:blipFill>
          <p:spPr>
            <a:xfrm>
              <a:off x="5435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13560" y="1916280"/>
              <a:ext cx="2555640" cy="1008000"/>
              <a:chOff x="5713560" y="1916280"/>
              <a:chExt cx="2555640" cy="1008000"/>
            </a:xfrm>
          </p:grpSpPr>
          <p:sp>
            <p:nvSpPr>
              <p:cNvPr id="97" name=""/>
              <p:cNvSpPr/>
              <p:nvPr/>
            </p:nvSpPr>
            <p:spPr>
              <a:xfrm>
                <a:off x="571464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2156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6920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13560" y="2349360"/>
                <a:ext cx="25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7960" y="1916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rot="1153800">
            <a:off x="4859640" y="321300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32360 h 2160360"/>
              <a:gd name="textAreaBottom" fmla="*/ 1511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2108706"/>
                <a:lnTo>
                  <a:pt x="10681" y="20468"/>
                </a:lnTo>
                <a:lnTo>
                  <a:pt x="0" y="18371"/>
                </a:lnTo>
                <a:lnTo>
                  <a:pt x="10681" y="14010"/>
                </a:lnTo>
                <a:lnTo>
                  <a:pt x="10681" y="16170"/>
                </a:lnTo>
                <a:arcTo wR="21600" hR="8651" stAng="2108706" swAng="-1937398"/>
                <a:lnTo>
                  <a:pt x="21434" y="9720"/>
                </a:lnTo>
                <a:arcTo wR="21600" hR="8651" stAng="-171309" swAng="-5228691"/>
                <a:close/>
              </a:path>
              <a:path fill="darkenLess"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-171309"/>
                <a:lnTo>
                  <a:pt x="21434" y="9720"/>
                </a:lnTo>
                <a:arcTo wR="21600" hR="8651" stAng="-171309" swAng="-5228691"/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65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FAB2-1866-4562-8EE9-B763DFD88147}" type="slidenum">
              <a:t>4</a:t>
            </a:fld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00" y="3097080"/>
            <a:ext cx="7156440" cy="2592360"/>
          </a:xfrm>
          <a:prstGeom prst="rightArrowCallout">
            <a:avLst>
              <a:gd name="adj1" fmla="val 27253"/>
              <a:gd name="adj2" fmla="val 25000"/>
              <a:gd name="adj3" fmla="val 33063"/>
              <a:gd name="adj4" fmla="val 7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74520"/>
            <a:ext cx="8686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estione delle immagini med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5200" y="907560"/>
            <a:ext cx="848376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re uso di tecnologie avanz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sere presenti le seguenti funzional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12000" y="2933640"/>
            <a:ext cx="62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0800" y="4024440"/>
            <a:ext cx="628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00840" y="5089680"/>
            <a:ext cx="76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800" y="3068640"/>
            <a:ext cx="576108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zione in formato digitale delle immagi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fornite dalle diverse apparecchiatu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agnostiche e dei dati ad esse as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aborazione ed archiviazione di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relative ai diversi momenti della stori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clinica del paz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sione in rete di tutte le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 utilità clinica ed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350208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gestione delle attività specifiche locali (programmazione degli esami, esecuzione esame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530064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responsabile della parte riguardante le immagini (acquisizione, archiviazione e distribuzione d’immagin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400" y="1685880"/>
            <a:ext cx="89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gestione complessiva del paziente (accettazione, prenotazione di esami, fatturazi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2120" y="1168560"/>
            <a:ext cx="4681800" cy="4135320"/>
            <a:chOff x="222120" y="1168560"/>
            <a:chExt cx="4681800" cy="4135320"/>
          </a:xfrm>
        </p:grpSpPr>
        <p:sp>
          <p:nvSpPr>
            <p:cNvPr id="118" name=""/>
            <p:cNvSpPr txBox="1"/>
            <p:nvPr/>
          </p:nvSpPr>
          <p:spPr>
            <a:xfrm>
              <a:off x="239760" y="4767120"/>
              <a:ext cx="84780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AC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22120" y="2959200"/>
              <a:ext cx="5428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360440" y="5056200"/>
              <a:ext cx="354348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icture Archiving and Communication System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041480" y="3243240"/>
              <a:ext cx="27813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adiologic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22120" y="1168560"/>
              <a:ext cx="5526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068480" y="1441440"/>
              <a:ext cx="249552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ospit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7F05-07DA-4CC7-9058-D7367A3C95BA}" type="slidenum">
              <a:t>5</a:t>
            </a:fld>
          </a:p>
        </p:txBody>
      </p:sp>
    </p:spTree>
  </p:cSld>
  <p:transition>
    <p:pull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71560" y="184644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zione dei dati clinici dei diversi Sistemi Inform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836640"/>
            <a:ext cx="8062920" cy="571644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24120" y="979560"/>
            <a:ext cx="395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02280" y="979560"/>
            <a:ext cx="312480" cy="425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068720" y="1131840"/>
            <a:ext cx="271440" cy="3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227640" y="993600"/>
            <a:ext cx="615960" cy="65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829640" y="907920"/>
            <a:ext cx="633240" cy="60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63120" y="13460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4840" y="13604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080" y="1589040"/>
            <a:ext cx="18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589040"/>
            <a:ext cx="144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1603440"/>
            <a:ext cx="14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0640" y="1801800"/>
            <a:ext cx="4698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11200" y="2884320"/>
            <a:ext cx="7194600" cy="87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700280" y="5715000"/>
            <a:ext cx="1360440" cy="795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6844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6480" y="4683240"/>
            <a:ext cx="1130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3032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38600" y="4683240"/>
            <a:ext cx="1238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5952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3200" y="55436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4160" y="5524560"/>
            <a:ext cx="180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852720" y="5661000"/>
            <a:ext cx="1295640" cy="841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61040" y="552456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75120" y="12747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rcRect l="0" t="0" r="0" b="20742"/>
          <a:stretch/>
        </p:blipFill>
        <p:spPr>
          <a:xfrm>
            <a:off x="5940360" y="5681520"/>
            <a:ext cx="136836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11200" y="5473800"/>
            <a:ext cx="7128000" cy="100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1200" y="4038480"/>
            <a:ext cx="3962520" cy="8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33280" y="33894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983280" y="33577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00680" y="37800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7499520" y="3363840"/>
            <a:ext cx="444240" cy="48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114800" y="1801800"/>
            <a:ext cx="468360" cy="474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6192720" y="1816200"/>
            <a:ext cx="468360" cy="47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89960" y="18986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81360" y="192888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9240" y="193032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3103560" y="3048120"/>
            <a:ext cx="66348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6"/>
          <a:stretch/>
        </p:blipFill>
        <p:spPr>
          <a:xfrm>
            <a:off x="3894120" y="3048120"/>
            <a:ext cx="527040" cy="90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8080" y="3657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canza di integ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2240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0600" y="49258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02680" y="41054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7560" y="494172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4121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4168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4840" y="1341000"/>
            <a:ext cx="2303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760" y="276696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5960" y="3286080"/>
            <a:ext cx="721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’uniformità tra 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per il forma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di comun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22924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15480" y="1585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508360" y="4076640"/>
            <a:ext cx="1423800" cy="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8640" y="2019240"/>
            <a:ext cx="474840" cy="2043720"/>
          </a:xfrm>
          <a:prstGeom prst="rect">
            <a:avLst/>
          </a:prstGeom>
          <a:solidFill>
            <a:srgbClr val="3366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1911-7C37-4296-A6ED-A47D926812C3}" type="slidenum">
              <a:t>6</a:t>
            </a:fld>
          </a:p>
        </p:txBody>
      </p:sp>
    </p:spTree>
  </p:cSld>
  <p:transition>
    <p:pull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95560"/>
            <a:ext cx="87854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modalità era considerata un sistema isol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amigl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cessità di uno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249800" y="4078440"/>
            <a:ext cx="646200" cy="790560"/>
          </a:xfrm>
          <a:prstGeom prst="downArrow">
            <a:avLst>
              <a:gd name="adj1" fmla="val 49796"/>
              <a:gd name="adj2" fmla="val 47803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9280" y="5013360"/>
            <a:ext cx="8785440" cy="1042920"/>
            <a:chOff x="179280" y="5013360"/>
            <a:chExt cx="8785440" cy="1042920"/>
          </a:xfrm>
        </p:grpSpPr>
        <p:sp>
          <p:nvSpPr>
            <p:cNvPr id="190" name=""/>
            <p:cNvSpPr/>
            <p:nvPr/>
          </p:nvSpPr>
          <p:spPr>
            <a:xfrm>
              <a:off x="250920" y="5013360"/>
              <a:ext cx="8642160" cy="104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280" y="5029200"/>
              <a:ext cx="87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Necessità di standardizzare il formato delle immagini medicali in modo da poter realizzare sistemi aperti senza dover necessariamente adottare gli standard previsti dai produttori di modalità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55640" y="5013360"/>
            <a:ext cx="7561080" cy="1079280"/>
            <a:chOff x="755640" y="5013360"/>
            <a:chExt cx="7561080" cy="1079280"/>
          </a:xfrm>
        </p:grpSpPr>
        <p:sp>
          <p:nvSpPr>
            <p:cNvPr id="193" name=""/>
            <p:cNvSpPr/>
            <p:nvPr/>
          </p:nvSpPr>
          <p:spPr>
            <a:xfrm>
              <a:off x="755640" y="5013360"/>
              <a:ext cx="7561080" cy="1079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640" y="5156280"/>
              <a:ext cx="74869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99"/>
                  </a:solidFill>
                  <a:latin typeface="Arial"/>
                </a:rPr>
                <a:t>DICO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igital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aging and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munications in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edic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2BCA-74FE-4D32-A208-FD7EDA1B366D}" type="slidenum">
              <a:t>7</a:t>
            </a:fld>
          </a:p>
        </p:txBody>
      </p:sp>
    </p:spTree>
  </p:cSld>
  <p:transition>
    <p:pull dir="r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1428480" cy="1038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4723920"/>
            <a:ext cx="650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formato per le immagini med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scambio di immagi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ati correl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OM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lo standard per le immagini med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981000"/>
            <a:ext cx="53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5200" y="1198440"/>
            <a:ext cx="51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924280"/>
            <a:ext cx="1366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cquisi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496280" y="2241360"/>
            <a:ext cx="0" cy="610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2000" y="2303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960" y="3087720"/>
            <a:ext cx="517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nessione tra sistem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236000" y="4467240"/>
            <a:ext cx="1657080" cy="1266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093080" y="1125360"/>
            <a:ext cx="177156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8675640" y="386028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8000" y="3922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>
            <a:lum bright="12000"/>
          </a:blip>
          <a:srcRect l="0" t="0" r="0" b="3231"/>
          <a:stretch/>
        </p:blipFill>
        <p:spPr>
          <a:xfrm>
            <a:off x="5796000" y="3500280"/>
            <a:ext cx="1224000" cy="79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20000" y="393372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7B6C-CFAA-43C1-9992-9E0EA39F6B82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3760" y="9669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148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i del mondo reale (paziente, ricovero, immagini) model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920" y="1773360"/>
            <a:ext cx="67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oggetti informativi det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nformation Object Defini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3760" y="2276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COM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" y="258588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DIMSE)  che possono essere eseguite su questi oggetti.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240" y="3141720"/>
            <a:ext cx="78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operazioni DIMSE realizzano funzionalità dette Service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chitettura di D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0720" y="35244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y Workli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Procedur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/Retr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3760" y="5375160"/>
            <a:ext cx="885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pplicazioni DICOM stabiliscono una comun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E14E-1C6A-46C2-9404-ABDA6BC6A856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1:02:24Z</dcterms:created>
  <dc:creator>gierimar</dc:creator>
  <dc:description/>
  <dc:language>en-US</dc:language>
  <cp:lastModifiedBy>gierimar</cp:lastModifiedBy>
  <dcterms:modified xsi:type="dcterms:W3CDTF">2003-03-19T16:48:47Z</dcterms:modified>
  <cp:revision>257</cp:revision>
  <dc:subject/>
  <dc:title>Diapositiva 1</dc:title>
</cp:coreProperties>
</file>