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7B3-4B1A-48E3-8BCF-4BBA0296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F33-D5E4-4C10-8B18-16181C68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6B7-918F-4FE8-AC42-014912E4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F33-3F39-4736-856C-948DC6F7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D11-E497-4898-BA03-12339BED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4F7-4E3A-44D7-80C6-A7EE580B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552-652F-4BDA-8D77-CE7CF6FC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C6A-0BA0-4951-B0D4-39397D15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904-725C-4190-958A-9C5D3707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176-47D5-40AB-9DF2-49CAB14D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A00-F9F3-41E3-A13A-6FD622C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308-3938-4D13-A660-E6066DC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4E9D-E424-4380-B09B-38FF8402592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Lo Structured Report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920" y="1190520"/>
            <a:ext cx="837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Structured Report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appresenta un’importante e recente estensione dello standard DICOM che permette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a gestione e l’archiviazione dei risultati dell’analisi di un’immagine med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920" y="2271600"/>
            <a:ext cx="83721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tandard di riferimento e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Supplemento 5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ammography Computer-Aided Detection S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o Standard 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0280" y="363996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atter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149720"/>
            <a:ext cx="8207280" cy="187164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42210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 dati vengono archiviati utilizzand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a struttura ad albero molto compless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46404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utilizzat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cetti codificati o numer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ggiunta al testo esplici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505944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utilizza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elazion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diverso tipo fra i nodi dell’albe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5479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struttura può conten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iferimenti ad immagini o ad altri elemen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Applicazione svilupp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520" y="1015920"/>
            <a:ext cx="82771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urante questo lavoro di tesi è stata realizzata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un’applicazione cli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SCU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Us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che permett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serime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i risultati dell’analisi dell’immagine mammografica all’interno del file DICOM 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v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gli stessi ad un server remoto (SCP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Provid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particolare, è stato concordato l’inserimento dell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coordinate del centro della massa tumor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o di più masse) eventualmente rilevata nell’immag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651640" y="2781360"/>
            <a:ext cx="3313080" cy="2449440"/>
            <a:chOff x="5651640" y="2781360"/>
            <a:chExt cx="3313080" cy="2449440"/>
          </a:xfrm>
        </p:grpSpPr>
        <p:sp>
          <p:nvSpPr>
            <p:cNvPr id="286" name=""/>
            <p:cNvSpPr/>
            <p:nvPr/>
          </p:nvSpPr>
          <p:spPr>
            <a:xfrm>
              <a:off x="5651640" y="2781360"/>
              <a:ext cx="3313080" cy="244944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06680" y="320688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COM Server (SC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aptop"/>
            <p:cNvSpPr/>
            <p:nvPr/>
          </p:nvSpPr>
          <p:spPr>
            <a:xfrm>
              <a:off x="6640560" y="3718080"/>
              <a:ext cx="1336680" cy="1019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077840" y="4437000"/>
            <a:ext cx="2340360" cy="1584360"/>
            <a:chOff x="1077840" y="4437000"/>
            <a:chExt cx="2340360" cy="1584360"/>
          </a:xfrm>
        </p:grpSpPr>
        <p:sp>
          <p:nvSpPr>
            <p:cNvPr id="290" name=""/>
            <p:cNvSpPr/>
            <p:nvPr/>
          </p:nvSpPr>
          <p:spPr>
            <a:xfrm>
              <a:off x="1096920" y="4437000"/>
              <a:ext cx="2303640" cy="158436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7840" y="501336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DICOM Client (SCU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60720" y="5372280"/>
              <a:ext cx="1972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cc"/>
                  </a:solidFill>
                  <a:latin typeface="Arial"/>
                </a:rPr>
                <a:t>(Applicazione realizzat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998640" cy="13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4" name=""/>
          <p:cNvSpPr/>
          <p:nvPr/>
        </p:nvSpPr>
        <p:spPr>
          <a:xfrm>
            <a:off x="4144680" y="565956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IMENTO CO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54240" y="3500280"/>
            <a:ext cx="216000" cy="216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687d7e"/>
              </a:gs>
              <a:gs pos="50000">
                <a:srgbClr val="bbe0e3"/>
              </a:gs>
              <a:gs pos="100000">
                <a:srgbClr val="687d7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247920"/>
            <a:ext cx="2232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indings =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Type =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Data = “80.5, 100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85360" y="54133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Wingdings"/>
                <a:ea typeface="Wingdings"/>
              </a:rPr>
              <a:t>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91600" y="566100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O FILE A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48000" y="4365720"/>
            <a:ext cx="2376360" cy="576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serimento dei risultati nel f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2000" y="1197000"/>
            <a:ext cx="8820000" cy="4896000"/>
            <a:chOff x="162000" y="1197000"/>
            <a:chExt cx="8820000" cy="4896000"/>
          </a:xfrm>
        </p:grpSpPr>
        <p:sp>
          <p:nvSpPr>
            <p:cNvPr id="308" name=""/>
            <p:cNvSpPr/>
            <p:nvPr/>
          </p:nvSpPr>
          <p:spPr>
            <a:xfrm>
              <a:off x="3456000" y="1197000"/>
              <a:ext cx="2232000" cy="64764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MMOGRAPHY CAD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56000" y="21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1844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892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AD PROCESSING AND FINDINGS 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All algorithms succedeed; with find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2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AGE LIBR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97280" y="3357720"/>
              <a:ext cx="201636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DET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66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ANALY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2779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7400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056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692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7000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50920" y="307008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20920" y="443880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35480" y="4149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19640" y="5084640"/>
              <a:ext cx="15840" cy="10083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19280" y="1844640"/>
            <a:ext cx="1152720" cy="4248360"/>
            <a:chOff x="3419280" y="1844640"/>
            <a:chExt cx="1152720" cy="4248360"/>
          </a:xfrm>
        </p:grpSpPr>
        <p:sp>
          <p:nvSpPr>
            <p:cNvPr id="325" name=""/>
            <p:cNvSpPr/>
            <p:nvPr/>
          </p:nvSpPr>
          <p:spPr>
            <a:xfrm>
              <a:off x="4572000" y="1844640"/>
              <a:ext cx="0" cy="12240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19280" y="306864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35480" y="3068640"/>
              <a:ext cx="0" cy="3024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62000" y="1125360"/>
            <a:ext cx="8820000" cy="4824720"/>
            <a:chOff x="162000" y="1125360"/>
            <a:chExt cx="8820000" cy="4824720"/>
          </a:xfrm>
        </p:grpSpPr>
        <p:sp>
          <p:nvSpPr>
            <p:cNvPr id="329" name=""/>
            <p:cNvSpPr/>
            <p:nvPr/>
          </p:nvSpPr>
          <p:spPr>
            <a:xfrm flipH="1">
              <a:off x="4564080" y="1125360"/>
              <a:ext cx="15840" cy="5749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2892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2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97280" y="198900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66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74000" y="1701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0564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3692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000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0920" y="170172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36920" y="2781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6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NDERING I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Presentation Requi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80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SITE FEA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Mammographic Breast 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3528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7164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CONCEPT M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858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4984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85840" y="307008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85840" y="4005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9840" y="4003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65680" y="5084640"/>
              <a:ext cx="22320" cy="8654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419280" y="1125360"/>
            <a:ext cx="1368720" cy="4824720"/>
            <a:chOff x="3419280" y="1125360"/>
            <a:chExt cx="1368720" cy="4824720"/>
          </a:xfrm>
        </p:grpSpPr>
        <p:sp>
          <p:nvSpPr>
            <p:cNvPr id="351" name=""/>
            <p:cNvSpPr/>
            <p:nvPr/>
          </p:nvSpPr>
          <p:spPr>
            <a:xfrm>
              <a:off x="4572000" y="1125360"/>
              <a:ext cx="0" cy="57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19280" y="170028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5480" y="1700280"/>
              <a:ext cx="0" cy="1368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640" y="3068640"/>
              <a:ext cx="1312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49840" y="3068640"/>
              <a:ext cx="38160" cy="288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900000" y="1054080"/>
            <a:ext cx="6048360" cy="4896000"/>
            <a:chOff x="900000" y="1054080"/>
            <a:chExt cx="6048360" cy="4896000"/>
          </a:xfrm>
        </p:grpSpPr>
        <p:sp>
          <p:nvSpPr>
            <p:cNvPr id="357" name=""/>
            <p:cNvSpPr/>
            <p:nvPr/>
          </p:nvSpPr>
          <p:spPr>
            <a:xfrm flipH="1">
              <a:off x="4564080" y="1054080"/>
              <a:ext cx="15840" cy="5745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56000" y="1628640"/>
              <a:ext cx="2232000" cy="64800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0560" y="227664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68360" y="285264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32360" y="285264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256392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02200" y="2565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03640" y="2565360"/>
              <a:ext cx="2698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87640" y="39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PROPER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1840" y="4581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0000" y="515772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64000" y="515772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70200" y="4869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3840" y="48704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70200" y="487044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03640" y="3645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900000" y="1052640"/>
            <a:ext cx="3687840" cy="4860720"/>
            <a:chOff x="900000" y="1052640"/>
            <a:chExt cx="3687840" cy="4860720"/>
          </a:xfrm>
        </p:grpSpPr>
        <p:grpSp>
          <p:nvGrpSpPr>
            <p:cNvPr id="374" name=""/>
            <p:cNvGrpSpPr/>
            <p:nvPr/>
          </p:nvGrpSpPr>
          <p:grpSpPr>
            <a:xfrm>
              <a:off x="1852200" y="1052640"/>
              <a:ext cx="2735640" cy="4105080"/>
              <a:chOff x="1852200" y="1052640"/>
              <a:chExt cx="2735640" cy="4105080"/>
            </a:xfrm>
          </p:grpSpPr>
          <p:sp>
            <p:nvSpPr>
              <p:cNvPr id="375" name=""/>
              <p:cNvSpPr/>
              <p:nvPr/>
            </p:nvSpPr>
            <p:spPr>
              <a:xfrm>
                <a:off x="4572000" y="1052640"/>
                <a:ext cx="0" cy="1512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184560" y="2565360"/>
                <a:ext cx="14032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03640" y="2565360"/>
                <a:ext cx="0" cy="23036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852200" y="4869000"/>
                <a:ext cx="1368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70200" y="4869000"/>
                <a:ext cx="0" cy="288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900000" y="5157720"/>
              <a:ext cx="2016360" cy="755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2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omm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548280" y="128628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480" y="135720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26828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4720" y="13273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548280" y="2078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480" y="2149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2060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8320" y="211932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e dell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548280" y="2870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5480" y="2941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852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160" y="291132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tà di integrazione fra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548640" y="366300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3733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364500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5080" y="370368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 e Structure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548280" y="445500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4525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443700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9040" y="449568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548640" y="524736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480" y="531828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522936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8680" y="52880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troduzio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720" y="1484280"/>
            <a:ext cx="827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progetto di Computer-Aided Detection (CAD) sviluppato da un gruppo di ricerca denominat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edical Imaging Group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720" y="2565360"/>
            <a:ext cx="827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o è composto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sici dell’Università di Bologn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formatici del Corso di Laurea in Scienze dell’Informazione di Cese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424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4400640"/>
            <a:ext cx="1008360" cy="50328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92360" y="3787920"/>
            <a:ext cx="5400720" cy="1728720"/>
            <a:chOff x="3492360" y="3787920"/>
            <a:chExt cx="5400720" cy="1728720"/>
          </a:xfrm>
        </p:grpSpPr>
        <p:sp>
          <p:nvSpPr>
            <p:cNvPr id="93" name=""/>
            <p:cNvSpPr/>
            <p:nvPr/>
          </p:nvSpPr>
          <p:spPr>
            <a:xfrm>
              <a:off x="3492360" y="3787920"/>
              <a:ext cx="5400720" cy="1728720"/>
            </a:xfrm>
            <a:prstGeom prst="rect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43480" y="3995640"/>
              <a:ext cx="5205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 ricerca e lo sviluppo di metodologie e apparati che possano aiutare i medici nella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rilevazione e nella diagnosi precoce di tumori al se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5080" y="189000"/>
            <a:ext cx="82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La gestione delle immagini medich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190520"/>
            <a:ext cx="82771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tappa fondamentale nel percorso di miglioramento, dal punto di vista tecnologico, delle apparecchiature utilizzate in ambito ospedaliero è rappresentata dal passaggio all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ecnologia digit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800" y="2421000"/>
            <a:ext cx="69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vantaggi offerti da questo tipo di tecnologia sono moltepl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068640"/>
            <a:ext cx="8713800" cy="2664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82760"/>
            <a:ext cx="82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Un’immagine digitale può esse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laborata al compu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che dopo la cre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939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n ambito radiografico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 riduce la dose di radiazio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mministrata al paz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2051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messi a disposizione del radiolog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stemi di rilevazione automatizzati (CA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7163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creare una cartella clinica del pazient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letamente computerizz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2275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e informazioni possono essere trasmesse a distanz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in modo semplice e velo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 sistemi informativi ospedalier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00" y="1052640"/>
            <a:ext cx="8277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 ultimi anni, le tecnologie informatiche sono state caratterizzate da una continua e crescente evoluzione che ha permesso di realizza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stemi informativi ospedalieri sempre più potenti, veloci e sicu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920" y="2133720"/>
            <a:ext cx="4664160" cy="3338280"/>
            <a:chOff x="250920" y="2133720"/>
            <a:chExt cx="4664160" cy="3338280"/>
          </a:xfrm>
        </p:grpSpPr>
        <p:grpSp>
          <p:nvGrpSpPr>
            <p:cNvPr id="119" name=""/>
            <p:cNvGrpSpPr/>
            <p:nvPr/>
          </p:nvGrpSpPr>
          <p:grpSpPr>
            <a:xfrm>
              <a:off x="250920" y="4935600"/>
              <a:ext cx="4664160" cy="536400"/>
              <a:chOff x="250920" y="4935600"/>
              <a:chExt cx="4664160" cy="536400"/>
            </a:xfrm>
          </p:grpSpPr>
          <p:sp>
            <p:nvSpPr>
              <p:cNvPr id="120" name=""/>
              <p:cNvSpPr txBox="1"/>
              <p:nvPr/>
            </p:nvSpPr>
            <p:spPr>
              <a:xfrm>
                <a:off x="250920" y="4935600"/>
                <a:ext cx="84780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AC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1371600" y="5224320"/>
                <a:ext cx="354348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icture Archiving and Communication System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50920" y="3495600"/>
              <a:ext cx="3600000" cy="531720"/>
              <a:chOff x="250920" y="3495600"/>
              <a:chExt cx="3600000" cy="53172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250920" y="3495600"/>
                <a:ext cx="54252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1069920" y="3779640"/>
                <a:ext cx="278100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adiologic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50920" y="2133720"/>
              <a:ext cx="3341160" cy="520560"/>
              <a:chOff x="250920" y="2133720"/>
              <a:chExt cx="3341160" cy="520560"/>
            </a:xfrm>
          </p:grpSpPr>
          <p:sp>
            <p:nvSpPr>
              <p:cNvPr id="126" name=""/>
              <p:cNvSpPr txBox="1"/>
              <p:nvPr/>
            </p:nvSpPr>
            <p:spPr>
              <a:xfrm>
                <a:off x="250920" y="2133720"/>
                <a:ext cx="55224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1096920" y="2406600"/>
                <a:ext cx="249516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ospit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26880" y="270828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complessiva del paziente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cettazione, prenotazione di esami, fatturazione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6880" y="4043520"/>
            <a:ext cx="86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delle attività specifiche local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programmazione degli esami, esecuzione esame,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6880" y="551196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responsabile della parte riguardante le immagin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quisizione, archiviazione e distribuzione d’immagin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89000"/>
            <a:ext cx="813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chema di un PA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25360"/>
            <a:ext cx="7488360" cy="4824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85880" y="1246320"/>
            <a:ext cx="366840" cy="498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94120" y="1246320"/>
            <a:ext cx="290520" cy="358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770280" y="1374840"/>
            <a:ext cx="25236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775480" y="1258920"/>
            <a:ext cx="571320" cy="55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262640" y="1260360"/>
            <a:ext cx="587520" cy="51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0280" y="155592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8040" y="15667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8136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773360"/>
            <a:ext cx="1440" cy="24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654200" y="1940040"/>
            <a:ext cx="43668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01760" y="2854440"/>
            <a:ext cx="6681600" cy="73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569960" y="5241960"/>
            <a:ext cx="1263600" cy="67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53960" y="4371840"/>
            <a:ext cx="8496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4371840"/>
            <a:ext cx="11682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8452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4371840"/>
            <a:ext cx="129708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54800" y="43718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7440" y="5097600"/>
            <a:ext cx="1800" cy="19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9436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3568680" y="5229360"/>
            <a:ext cx="1203480" cy="709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04172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11680" y="1496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rcRect l="0" t="0" r="0" b="20742"/>
          <a:stretch/>
        </p:blipFill>
        <p:spPr>
          <a:xfrm>
            <a:off x="5508720" y="5214960"/>
            <a:ext cx="1270080" cy="660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01760" y="5038560"/>
            <a:ext cx="6620040" cy="842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760" y="3827520"/>
            <a:ext cx="3679920" cy="74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480" y="32796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6477120" y="3252960"/>
            <a:ext cx="423720" cy="450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13160" y="361008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3"/>
          <a:stretch/>
        </p:blipFill>
        <p:spPr>
          <a:xfrm>
            <a:off x="6956280" y="3259080"/>
            <a:ext cx="41292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tretch/>
        </p:blipFill>
        <p:spPr>
          <a:xfrm>
            <a:off x="3813120" y="1940040"/>
            <a:ext cx="434880" cy="39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tretch/>
        </p:blipFill>
        <p:spPr>
          <a:xfrm>
            <a:off x="5742000" y="1952640"/>
            <a:ext cx="434880" cy="39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020000" y="2022480"/>
            <a:ext cx="968400" cy="182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46560" y="2048040"/>
            <a:ext cx="849240" cy="207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17880" y="20480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2873520" y="2992320"/>
            <a:ext cx="61596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3608280" y="2992320"/>
            <a:ext cx="488880" cy="76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443400" y="3506760"/>
            <a:ext cx="12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7624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3840" y="457668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65920" y="38847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46680" y="4589640"/>
            <a:ext cx="0" cy="463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38760" y="38973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8788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960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02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704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62680" y="235440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7960" y="1757520"/>
            <a:ext cx="0" cy="24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1536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106600" y="3859200"/>
            <a:ext cx="1322280" cy="12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Necessità di integrazione fra siste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0" y="2516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249408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125360"/>
            <a:ext cx="6121440" cy="3240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9240" y="119700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ma ciascuna operava su piattaforme proprietari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9240" y="225576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’intercomunicazione era agevol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olo all’interno di una stessa struttu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9240" y="307008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comunicazione fra macchine prodotte da costruttori divers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ra molto difficoltosa e soggetta ad erro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9240" y="388476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ni modalità era considerat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 sistema isola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0" y="50720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504972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724280"/>
            <a:ext cx="6121440" cy="115272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24200" y="4724280"/>
            <a:ext cx="59245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 fu la necessità che macchine di produttori diversi 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potessero comunicare fra di loro senza problemi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 fossero in grado di utilizzare un formato dei dati co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189000"/>
            <a:ext cx="842652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DICOM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igital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aging and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munication in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125360"/>
            <a:ext cx="82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risolvere il problema dell’integrazione fra sistemi diversi,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’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American College of Radiology (ACR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National Electrical Manufactoring Association (NEMA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rono, nel 1983, un comitato congiunto per lo sviluppo di uno standard di comunicazione u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638440"/>
            <a:ext cx="82771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lavoro di questo comitato si concretizzò negli standard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5) e successivamente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2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8). Il passo decisivo fu compiuto con la terza versione dello standard che venne denominata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DICOM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93); può essere considera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o standard mondiale per il trasferimento e la gestione delle immagini 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0976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572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0800" y="4446720"/>
            <a:ext cx="1803960" cy="1425600"/>
            <a:chOff x="280800" y="4446720"/>
            <a:chExt cx="1803960" cy="1425600"/>
          </a:xfrm>
        </p:grpSpPr>
        <p:grpSp>
          <p:nvGrpSpPr>
            <p:cNvPr id="220" name=""/>
            <p:cNvGrpSpPr/>
            <p:nvPr/>
          </p:nvGrpSpPr>
          <p:grpSpPr>
            <a:xfrm>
              <a:off x="280800" y="5007240"/>
              <a:ext cx="1803960" cy="865080"/>
              <a:chOff x="280800" y="5007240"/>
              <a:chExt cx="1803960" cy="865080"/>
            </a:xfrm>
          </p:grpSpPr>
          <p:sp>
            <p:nvSpPr>
              <p:cNvPr id="221" name=""/>
              <p:cNvSpPr/>
              <p:nvPr/>
            </p:nvSpPr>
            <p:spPr>
              <a:xfrm>
                <a:off x="281160" y="5007240"/>
                <a:ext cx="180000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0800" y="525636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5140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966760" y="4444920"/>
            <a:ext cx="1803960" cy="1427040"/>
            <a:chOff x="2966760" y="4444920"/>
            <a:chExt cx="1803960" cy="1427040"/>
          </a:xfrm>
        </p:grpSpPr>
        <p:grpSp>
          <p:nvGrpSpPr>
            <p:cNvPr id="225" name=""/>
            <p:cNvGrpSpPr/>
            <p:nvPr/>
          </p:nvGrpSpPr>
          <p:grpSpPr>
            <a:xfrm>
              <a:off x="2966760" y="5006880"/>
              <a:ext cx="1803960" cy="865080"/>
              <a:chOff x="2966760" y="5006880"/>
              <a:chExt cx="1803960" cy="865080"/>
            </a:xfrm>
          </p:grpSpPr>
          <p:sp>
            <p:nvSpPr>
              <p:cNvPr id="226" name=""/>
              <p:cNvSpPr/>
              <p:nvPr/>
            </p:nvSpPr>
            <p:spPr>
              <a:xfrm>
                <a:off x="2968560" y="5006880"/>
                <a:ext cx="180036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66760" y="525600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37360" y="44449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651640" y="4446720"/>
            <a:ext cx="3311280" cy="1430280"/>
            <a:chOff x="5651640" y="4446720"/>
            <a:chExt cx="3311280" cy="143028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5651640" y="5004000"/>
              <a:ext cx="33112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97608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9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700280"/>
            <a:ext cx="6985080" cy="100800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89000"/>
            <a:ext cx="885816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Caratteristiche di DIC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0" y="1192320"/>
            <a:ext cx="712944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COM è uno standard basato sull’architettura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Object-Oriente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informazioni del mondo reale (paziente, ricovero, immagini) modellate come oggetti informativi detti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Information Object Defini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DICOM Message Service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 (DIMSE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che possono essere eseguite su questi ogget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operazioni DIMSE realizzano funzionalità det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Service 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ity Worklist Management, Performed Procedure Step, Storage, Print, Query/Retriev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tte la comunicazione fra due applicazioni DICOM; una di esse fornisce il servizio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P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Provi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entre l’altra lo utilizza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U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524720" y="1125360"/>
            <a:ext cx="1440000" cy="4896000"/>
            <a:chOff x="7524720" y="1125360"/>
            <a:chExt cx="1440000" cy="4896000"/>
          </a:xfrm>
        </p:grpSpPr>
        <p:grpSp>
          <p:nvGrpSpPr>
            <p:cNvPr id="242" name=""/>
            <p:cNvGrpSpPr/>
            <p:nvPr/>
          </p:nvGrpSpPr>
          <p:grpSpPr>
            <a:xfrm>
              <a:off x="7524720" y="1125360"/>
              <a:ext cx="1440000" cy="4896000"/>
              <a:chOff x="7524720" y="1125360"/>
              <a:chExt cx="1440000" cy="4896000"/>
            </a:xfrm>
          </p:grpSpPr>
          <p:sp>
            <p:nvSpPr>
              <p:cNvPr id="243" name=""/>
              <p:cNvSpPr/>
              <p:nvPr/>
            </p:nvSpPr>
            <p:spPr>
              <a:xfrm>
                <a:off x="7524720" y="112536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PAZI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24720" y="259560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TU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24720" y="410040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ERI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24720" y="558972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IMMAGI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24720" y="18432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24720" y="331308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24720" y="48006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8253360" y="155736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8253360" y="2344320"/>
                <a:ext cx="0" cy="252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53360" y="5302080"/>
                <a:ext cx="0" cy="28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253360" y="4532040"/>
                <a:ext cx="0" cy="269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253360" y="381492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8253360" y="3026880"/>
                <a:ext cx="0" cy="287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8442000" y="162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41280" y="22766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42000" y="306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41280" y="37879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42000" y="4564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41280" y="52848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0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3:48:30Z</dcterms:created>
  <dc:creator>Gabriele Garavini</dc:creator>
  <dc:description/>
  <dc:language>en-US</dc:language>
  <cp:lastModifiedBy>John Nash</cp:lastModifiedBy>
  <dcterms:modified xsi:type="dcterms:W3CDTF">2004-12-06T15:39:31Z</dcterms:modified>
  <cp:revision>45</cp:revision>
  <dc:subject/>
  <dc:title>Diapositiva 1</dc:title>
</cp:coreProperties>
</file>