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28.png" ContentType="image/png"/>
  <Override PartName="/ppt/media/image27.png" ContentType="image/png"/>
  <Override PartName="/ppt/media/image26.png" ContentType="image/png"/>
  <Override PartName="/ppt/media/image2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29.png" ContentType="image/png"/>
  <Override PartName="/ppt/media/image31.png" ContentType="image/png"/>
  <Override PartName="/ppt/media/image6.png" ContentType="image/png"/>
  <Override PartName="/ppt/media/image36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33.png" ContentType="image/png"/>
  <Override PartName="/ppt/media/image13.png" ContentType="image/png"/>
  <Override PartName="/ppt/media/image9.png" ContentType="image/png"/>
  <Override PartName="/ppt/media/image34.png" ContentType="image/png"/>
  <Override PartName="/ppt/media/image11.png" ContentType="image/png"/>
  <Override PartName="/ppt/media/image35.png" ContentType="image/png"/>
  <Override PartName="/ppt/media/image5.jpeg" ContentType="image/jpeg"/>
  <Override PartName="/ppt/media/image4.jpeg" ContentType="image/jpeg"/>
  <Override PartName="/ppt/media/image32.png" ContentType="image/png"/>
  <Override PartName="/ppt/media/image2.png" ContentType="image/png"/>
  <Override PartName="/ppt/media/image25.png" ContentType="image/png"/>
  <Override PartName="/ppt/media/image30.png" ContentType="image/png"/>
  <Override PartName="/ppt/media/image3.jpeg" ContentType="image/jpeg"/>
  <Override PartName="/ppt/media/image15.png" ContentType="image/png"/>
  <Override PartName="/ppt/media/image1.jpeg" ContentType="image/jpeg"/>
  <Override PartName="/ppt/media/image10.png" ContentType="image/png"/>
  <Override PartName="/ppt/media/image14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742113" cy="98933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742800" cy="9892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3"/>
          </p:nvPr>
        </p:nvSpPr>
        <p:spPr>
          <a:xfrm>
            <a:off x="3819600" y="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898200" y="741240"/>
            <a:ext cx="4946760" cy="37101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4"/>
          </p:nvPr>
        </p:nvSpPr>
        <p:spPr>
          <a:xfrm>
            <a:off x="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5"/>
          </p:nvPr>
        </p:nvSpPr>
        <p:spPr>
          <a:xfrm>
            <a:off x="3819600" y="9396360"/>
            <a:ext cx="2922480" cy="49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DF9F32-8506-428E-8299-825359CF393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Buongiorno,  mi chiamo Marco Gieri e presento una tesi dal titolo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REALIZZAZIONE DI UNA APPLICAZIONE PER IL TRASFERIMENTO DI IMMAGINI MEDICHE TRAMITE PROTOCOLLO DI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renderci conto di questi vantaggi, consideriamo un tipico flusso operazionale all’interno di una struttura ospedaliera, ricordando che ogni flusso è possibile grazie a funzionalità introdotte da DICO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Una volta eseguito un esame radiologic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le immagini generate dal dispositivo sono trasferite in un apposito archiv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dal quale il medico è in grado di  reperire, anche dopo molto tempo, le immagini desiderate per diagnosticare  o anche solo  consulta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le eventuali diagnosi sono salvate in archivi dedicati all’interno del PAC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e salvate anche nella cartella clinica del paziente, pertinente al Sistema informativo Radiolo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Questi dati, saranno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onsultabili quindi anche da altri sistemi informativi i quali potranno accedere sia ai dati relativi alle diagnosi , sia alle immagini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251000" y="0"/>
            <a:ext cx="4208400" cy="315612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681120" y="3231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osì come all’interno di una struttura ospedaliera, DICOM comporta notevoli vantaggi anche per il pazient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onsideriamo uno scenario real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Una paziente residente a Cesena effettua una mammografia all’ospedale di Cesen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L’immagine viene archiviata nel server DI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A questo punto il sistema CAD può prelevare le immagini da sottoporre ad analisi 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...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restituire al server dell’AUSL della Paziente la diagno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Analogamente il medico  specialista che per esempio si può trovare a Forlì, preleva l’immagine mammografia e la pre-diagnosi effettuata dal CAD e 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...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anch’egli invia al server dell’AUSL la propria diagno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n caso di rilevazione di masse tumorali, il paziente si recherà all’Ospedale di Bologna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 medici dell’ospedale richiederanno al server DICOM di Cesena tutte le informazioni utili all’esecuzione dell’operazione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ed in seguito forniranno all’AUSL della Paziente l’esito di tale operazi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Appare quindi evidente come, grazie a DICOM,  tutte le fasi riguardanti il trasferimento di immagini possano essere efficientemente gestite, garantendo una piena compatibilità tra apparecchiature di produttori diversi e apportando indiscutibili vantaggi anche al pazi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800" spc="-1" strike="noStrike">
                <a:solidFill>
                  <a:srgbClr val="000000"/>
                </a:solidFill>
                <a:latin typeface="Arial"/>
              </a:rPr>
              <a:t>(CLICK FINALE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880920" y="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681120" y="4011480"/>
            <a:ext cx="5394240" cy="44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’applicazione sviluppata intende essere un’implementazione di un QUERY/RETRIEVE SERVICE CLASS USER (Q/R SCU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L’applicazione è scritta in C Standard, garantendo la portabilità su più piattafor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ome si vede dal diagramma, l’applicazione comportandosi come un SCU, apre un’associazione con l’SCP e comunica con quest’ultimo attraverso i comandi ed il protocollo di comunicazione definiti dallo standard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iù in dettaglio, possiamo osservare che per tale implementazione sono utilizzati i seguenti comandi DIMS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-FIND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-MOV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-ST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l comando C-FIND è utilizzato come strumento per realizzare una query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ed il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-MOVE  per ordinare all’ SCP il trasferimento dell’oggetto eventualmente restituito dalla quer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opo aver aperto un’associazione con il SCP 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l’applicazione provvede all’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vio del comando C-FIND,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tramite il quale si comunicano i dati per effettuare una query, per esempio l’ID del Paziente o l’ID di una specifica immagin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ed in seguito si pone in attesa della risposta per tale comand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nel caso in cui la ricerca abbia successo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(CLICK)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,dopo un breve riepilogo dei dati individuati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viene inviato la richiesta di retrieve attraverso il comando C-MOVE e si pone in attesa che l’SCP avvii la fase di trasferimento attraverso l’invio del comando C-STO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Una volta ricevuto il comando C-STORE ha inizio il trasferimento vero e proprio dell’immagine 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DICOM fino al salvataggio complet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oncludendo, con questo lavoro di tesi si 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ealizzata un’applicazione conforme allo Standard DICOM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particolare si è Implementato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 un Query/Retrieve Service Class Use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l quale f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ornisce funzionalità di ricerca e trasferimento di immagini in formato DI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ome sviluppi futuri, affinché le funzionalità del sistema CAD siano completate, in un prossimo lavoro di tesi sarà implementato un </a:t>
            </a:r>
            <a:r>
              <a:rPr b="0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Store Service Class User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, al fine di compiere l’upload dei risultati della fase di detec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Se non ci sono domande, avrei concluso…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presentazione di questa tesi verterà sui punti mostrati nel lucid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Introdurrò brevemente il 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Medical Imaging Group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, un gruppo di ricerca per il quale è stata progettata questa appl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Esporrò le motivazioni che hanno guidato lo sviluppo di questo lavoro di te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Tratterò quindi di come vengano attualmente gestite le immagini mediche nel mondo sanit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... in seguito illustrerò il protocollo DICOM, che negli ultimi anni si è affermato come lo Standard per il trattamento delle immagini medi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Descriverò poi l’applicazione sviluppata come lavoro di tes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… ed infine trarrò le conclusioni ed accennerò i possibili sviluppi futur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CLICK -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Questo lavoro di tesi si colloca nell’ambito di un gruppo di ricerca chiamato Medical Imaging Group (MIG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l cu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>
                <a:solidFill>
                  <a:srgbClr val="000000"/>
                </a:solidFill>
                <a:latin typeface="Arial"/>
              </a:rPr>
              <a:t>Obiettivo è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creazione di un sistema CAD (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Computer Aided Detection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)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ovvero un sistema automatico creato per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a ricerca e lo sviluppo di metodologie e apparati che possano aiutare i medici nella rivelazione e nella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agnosi precoce di tumori al sen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-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880920" y="351000"/>
            <a:ext cx="4946760" cy="370980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681120" y="4011480"/>
            <a:ext cx="5394240" cy="445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l sistema CAD agisce su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immagini in formato digital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Tali immagini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o vengono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precedentemente digitalizzat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partendo da mammografie su supporto tradizionale, ovvero pellicole radiografich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o sono </a:t>
            </a: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già fornite in formato digitale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a dispositivi di acquisizione moderni, i cosiddetti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mammografi digitali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rima dello sviluppo della mia applicazione, lo scenario nel quale operava il sistema CAD era il seguent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Una volta effettuata una mammografi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L’immagine mammografica digitale o opportunamente digitalizz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… veniva archiviata su server dedicat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fornire le immagini al CAD, esse venivano poi scaricate manualmente sul filesystem del fileserver tramite supporti removibili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questo lavoro di tesi è stato quindi sviluppato per fornire </a:t>
            </a:r>
            <a:r>
              <a:rPr b="0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un’applicazione in grado di trasferire immagini mediche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rendendo così automatico il passaggio delle immagini mammogafiche dai server delle immagini al sistema C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n un prossimo lavoro di tesi, verrà realizzata l’applicazione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l’invio al server della diagnosi rilasciata dal sistema CA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Appare evidente come, prima di realizzare l’applicazione, è stato necessario uno </a:t>
            </a:r>
            <a:r>
              <a:rPr b="0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studio sui metodi per il trattamento delle immagini mediche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-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427040" y="338040"/>
            <a:ext cx="4043520" cy="27352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779400" y="321768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ll'interno di un ospedale, la Radiologia è il reparto nel quale si fa maggiore uso di tecnologie avanzate.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n un ideale sistema informativo integrato per la Radiologia, dovrebbero essere presenti le seguenti funzionalità: (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acquisizione in formato digitale delle immagini fornite dalle diverse apparecchiature diagnostiche e dei dati ad esse associati (CLICK);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elaborazione ed archiviazione di informazioni relative ai diversi momenti della storia clinica del paziente  (CLICK)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condivisione in rete di tutte le informazioni di utilità clinica ed amministrativ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soddisfare queste esigenze, attualmente, in una moderna struttura ospedaliera sono presenti 3 sistemi informativi, ovvero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)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l Sistema Informativo Ospedaliero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H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l Sistema Informativo Radiologico o RIS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l Sistema per l'Archiviazione e la Comunicazione delle Immagini o PAC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l Sistema Informativo Ospedaliero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o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HIS responsabile prevalentemente della gestione complessiva del paziente (accettazione, prenotazione di esami, fatturazione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) Il Sistema Informativo Radiologico o RIS responsabile prevalentemente della gestione delle attività specifiche locali (programmazione degli esami, esecuzione esame, archiviazione e distribuzione dei refert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) Il Sistema per l'Archiviazione e la Comunicazione delle Immagini o PACS responsabile della parte riguardante le immagini (acquisizione, archiviazione e distribuzione d’immagini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-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L’integrazione dei dati clinici costituisce da lungo tempo un obiettivo di primaria importanza per tutte le strutture sanitar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Un progetto d’integrazione PACS-RIS-HIS deve partire dall’intento iniziale di realizzare un sistema aperto per l’archiviazione e la consultazione remota d’immagini e dati clinici nell’ambito delle strutture ospedalie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In mancanza di norme precise, tale intento era disatteso a causa di 3 motivi sostanziali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la mancanza d’uniformità tra i sistemi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 la mancanza di uno standard di formato dei da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 la mancanza di uno standard di comunicazio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C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RIMA DELL’INTRODUZIONE Dello STANDARD DICOM, infatti, come è possibile vedere dalla rappresentazione di un tipico PACS, mancavano le possibilità di realizzare in maniera efficiente e standard tutte quelle operazioni che coinvolgevano immagini mediche, ovvero il trasferimento, la visualizzazione, la stampa, poiché la presenza di apparecchiature di produttori diversi, spesso, comportava incompatibilità nella comunicazio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(CLICK -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950760" y="0"/>
            <a:ext cx="4437360" cy="321804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708120" y="3218040"/>
            <a:ext cx="5394240" cy="445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Questi problemi apparvero ancor più evidenti quand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Verso la fine degli anni 80, le modalità di acquisizione digitali (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modality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o modalità) iniziarono a diffondersi, ma ciascuna operava su piattaforme proprietari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Ogni modalità era, quindi, considerata un sistema isolato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e semplicemente collegato alla stazione di visualizzazione ed alla stampante dedica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'intercomunicazione era agevole solo all'interno di una stessa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famiglia di prodotti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ituazione non ideale: si sarebbe voluto che macchine di produttori diversi potessero comunicare le une con le altre e che il formato dei dati fosse comun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Le potenzialità di questi dispositivi, fecero emerge quindi la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necessità di codificare (standardizzare) il formato delle immagini medicali in modo da poter realizzare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istemi aperti senza dover necessariamente adottare gli standard previsti dai produttori di modalit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affrontare questo problema, dallo sforzo congiunto di numerosi organismi internazionali, dopo anni di studi, nacque nel  1993 uno standard  per le immagini mediche, denominato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(CLICK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DICOM</a:t>
            </a: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i="1" lang="it-IT" sz="1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it-IT" sz="1200" spc="-1" strike="noStrike">
                <a:solidFill>
                  <a:srgbClr val="000099"/>
                </a:solidFill>
                <a:latin typeface="Arial"/>
              </a:rPr>
              <a:t>igital </a:t>
            </a:r>
            <a:r>
              <a:rPr b="1" i="1" lang="it-IT" sz="1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i="1" lang="it-IT" sz="1200" spc="-1" strike="noStrike">
                <a:solidFill>
                  <a:srgbClr val="000099"/>
                </a:solidFill>
                <a:latin typeface="Arial"/>
              </a:rPr>
              <a:t>maging and </a:t>
            </a:r>
            <a:r>
              <a:rPr b="1" i="1" lang="it-IT" sz="12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i="1" lang="it-IT" sz="1200" spc="-1" strike="noStrike">
                <a:solidFill>
                  <a:srgbClr val="000099"/>
                </a:solidFill>
                <a:latin typeface="Arial"/>
              </a:rPr>
              <a:t>mmunications in </a:t>
            </a:r>
            <a:r>
              <a:rPr b="1" i="1" lang="it-IT" sz="1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i="1" lang="it-IT" sz="1200" spc="-1" strike="noStrike">
                <a:solidFill>
                  <a:srgbClr val="000099"/>
                </a:solidFill>
                <a:latin typeface="Arial"/>
              </a:rPr>
              <a:t>edicin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898560" y="741240"/>
            <a:ext cx="4946760" cy="371016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674640" y="4698720"/>
            <a:ext cx="5394240" cy="44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Standard mondiale per il trasferimento e la gestione delle immagini mediche attraverso apparecchiature di produttori diver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Definisce l’interfaccia che rende possibile la connessione tra sistemi divers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Rappresenta un protocollo non proprietario e specifica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il formato delle immagini mediche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o scambio di immagini mediche e dati correlati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880920" y="193680"/>
            <a:ext cx="4362480" cy="266544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635040" y="2930040"/>
            <a:ext cx="5394240" cy="445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DICOM è uno standard basato sull’architettura Object-Oriente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Un’entità del mondo reale come un paziente, un ricovero, un’immagine</a:t>
            </a:r>
            <a:r>
              <a:rPr b="0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, è modellata come un oggetto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 definito Information Object Definition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ogni oggetto ha in sé una serie d’attributi, per esempio l'oggetto paziente conterrà gli attributi dati anagrafici, data di ricovero ecc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0"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Definiti gli oggetti d’intersesse e tutte le loro caratteristiche, DICOM definisce quali operazioni possono essere eseguite e su quali oggetti. Operazioni denominate DIMSE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Message Serv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Le operazioni DIMSE realizzano funzionalità dette Service Cl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Modality Worklist Management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gestire il flusso d’informazioni dal RIS alle modalità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Performed Procedure Step</a:t>
            </a:r>
            <a:r>
              <a:rPr b="0" i="1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comunicare al RIS che un esame è stato completato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Storage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l’archiviazione di img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Print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gestisce le comunicazioni tra un’applicazione DICOM e la stampante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 u="sng">
                <a:solidFill>
                  <a:srgbClr val="000000"/>
                </a:solidFill>
                <a:uFillTx/>
                <a:latin typeface="Arial"/>
              </a:rPr>
              <a:t>Query/Retrieve </a:t>
            </a: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per gestire il trasferimento di img DICOM tra modalità o tra modalità e altri sistemi. </a:t>
            </a:r>
            <a:r>
              <a:rPr b="0" i="1" lang="en-US" sz="1200" spc="-1" strike="noStrike">
                <a:solidFill>
                  <a:srgbClr val="000000"/>
                </a:solidFill>
                <a:latin typeface="Arial"/>
              </a:rPr>
              <a:t>Basato su un criterio di ricerca semplice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Quando due applicazioni DICOM stabiliscono una comunicazione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una fornisce il servizio, detta Service Class Provider (SC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l’altra lo utilizza, detta Service Class User(SCU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1200" spc="-1" strike="noStrike">
                <a:solidFill>
                  <a:srgbClr val="000000"/>
                </a:solidFill>
                <a:latin typeface="Arial"/>
              </a:rPr>
              <a:t>Grazie all’utilizzo dello standard DICOM tutto il processo di archiviazione e successiva consultazione ottiene un notevole miglioramento, diventando più efficien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Arial"/>
              </a:rPr>
              <a:t>(CLICK FINA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2A352C-114E-44C4-A3F9-DBA5DC002A4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640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24000" y="3766680"/>
            <a:ext cx="8640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2D1BA7-631F-4AF3-9CA4-66C685809E4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751640" y="90756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24000" y="376668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751640" y="376668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C3DD1D3-7CB3-43C8-AEC7-2C9350FBD87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2782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45400" y="907560"/>
            <a:ext cx="2782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167160" y="907560"/>
            <a:ext cx="2782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24000" y="3766680"/>
            <a:ext cx="2782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45400" y="3766680"/>
            <a:ext cx="2782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167160" y="3766680"/>
            <a:ext cx="278208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7CDAF2-C86E-4591-8325-BB2BE11C6F9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24000" y="907560"/>
            <a:ext cx="8640720" cy="5473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00D5A2-BE52-4B82-AC93-6F80F7FEFB8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8640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C5D1D6-1A06-485D-9476-1F0B7EE830A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42163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751640" y="907560"/>
            <a:ext cx="42163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A34E508-2027-4BAE-83F9-60D0F90C67D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F2AAA-844A-4B40-A778-65134F660A8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299880" y="144000"/>
            <a:ext cx="8229600" cy="227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3947E-2CB9-467A-AE5D-B797D69B874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751640" y="907560"/>
            <a:ext cx="42163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24000" y="376668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371274-A8FA-4A9E-8500-5B49282F031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42163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51640" y="90756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751640" y="376668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7CFAF3-A8EE-4B35-8FC9-2C7C4EEEA9A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99880" y="98640"/>
            <a:ext cx="8229600" cy="58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24000" y="90756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51640" y="907560"/>
            <a:ext cx="42163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24000" y="3766680"/>
            <a:ext cx="8640720" cy="261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A90CD5-1387-49A3-8D6C-081CE198F62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9988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24000" y="907560"/>
            <a:ext cx="8640720" cy="5473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516480" y="6584760"/>
            <a:ext cx="5192640" cy="21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8675640" y="6585120"/>
            <a:ext cx="439920" cy="30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8CAE1-6AAE-47DF-AAE6-80A3DB37E25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4.png"/><Relationship Id="rId3" Type="http://schemas.openxmlformats.org/officeDocument/2006/relationships/image" Target="../media/image25.png"/><Relationship Id="rId4" Type="http://schemas.openxmlformats.org/officeDocument/2006/relationships/image" Target="../media/image26.png"/><Relationship Id="rId5" Type="http://schemas.openxmlformats.org/officeDocument/2006/relationships/image" Target="../media/image25.png"/><Relationship Id="rId6" Type="http://schemas.openxmlformats.org/officeDocument/2006/relationships/image" Target="../media/image27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3.xml"/><Relationship Id="rId9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28.png"/><Relationship Id="rId5" Type="http://schemas.openxmlformats.org/officeDocument/2006/relationships/image" Target="../media/image29.png"/><Relationship Id="rId6" Type="http://schemas.openxmlformats.org/officeDocument/2006/relationships/image" Target="../media/image30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2.png"/><Relationship Id="rId4" Type="http://schemas.openxmlformats.org/officeDocument/2006/relationships/image" Target="../media/image32.png"/><Relationship Id="rId5" Type="http://schemas.openxmlformats.org/officeDocument/2006/relationships/image" Target="../media/image33.png"/><Relationship Id="rId6" Type="http://schemas.openxmlformats.org/officeDocument/2006/relationships/image" Target="../media/image34.png"/><Relationship Id="rId7" Type="http://schemas.openxmlformats.org/officeDocument/2006/relationships/image" Target="../media/image35.png"/><Relationship Id="rId8" Type="http://schemas.openxmlformats.org/officeDocument/2006/relationships/image" Target="../media/image36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png"/><Relationship Id="rId6" Type="http://schemas.openxmlformats.org/officeDocument/2006/relationships/image" Target="../media/image6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image" Target="../media/image15.png"/><Relationship Id="rId11" Type="http://schemas.openxmlformats.org/officeDocument/2006/relationships/image" Target="../media/image16.png"/><Relationship Id="rId12" Type="http://schemas.openxmlformats.org/officeDocument/2006/relationships/image" Target="../media/image17.png"/><Relationship Id="rId13" Type="http://schemas.openxmlformats.org/officeDocument/2006/relationships/image" Target="../media/image12.png"/><Relationship Id="rId14" Type="http://schemas.openxmlformats.org/officeDocument/2006/relationships/image" Target="../media/image12.png"/><Relationship Id="rId15" Type="http://schemas.openxmlformats.org/officeDocument/2006/relationships/image" Target="../media/image18.png"/><Relationship Id="rId16" Type="http://schemas.openxmlformats.org/officeDocument/2006/relationships/image" Target="../media/image19.png"/><Relationship Id="rId17" Type="http://schemas.openxmlformats.org/officeDocument/2006/relationships/image" Target="../media/image2.png"/><Relationship Id="rId18" Type="http://schemas.openxmlformats.org/officeDocument/2006/relationships/slideLayout" Target="../slideLayouts/slideLayout3.xml"/><Relationship Id="rId1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png"/><Relationship Id="rId3" Type="http://schemas.openxmlformats.org/officeDocument/2006/relationships/image" Target="../media/image2.png"/><Relationship Id="rId4" Type="http://schemas.openxmlformats.org/officeDocument/2006/relationships/image" Target="../media/image21.png"/><Relationship Id="rId5" Type="http://schemas.openxmlformats.org/officeDocument/2006/relationships/image" Target="../media/image22.png"/><Relationship Id="rId6" Type="http://schemas.openxmlformats.org/officeDocument/2006/relationships/image" Target="../media/image23.png"/><Relationship Id="rId7" Type="http://schemas.openxmlformats.org/officeDocument/2006/relationships/slideLayout" Target="../slideLayouts/slideLayout3.xml"/><Relationship Id="rId8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68360" y="5213520"/>
            <a:ext cx="46083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lato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Chiar.mo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Prof. RENATO CAMPAN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rrelat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Dott.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MATTEO ROFFIL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877080" y="5213520"/>
            <a:ext cx="2197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sentata 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MARCO G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504720" y="2708280"/>
            <a:ext cx="80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REALIZZAZIONE DI UNA APPLICAZIONE PER 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TRASFERIMENTO DI IMMAGINI MEDICHE TRAM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PROTOCOLLO DICOM</a:t>
            </a: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84360" y="549360"/>
            <a:ext cx="7561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UNIVERSITÀ DEGLI STUDI DI BOLOGNA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ACOLTÀ DI SCIENZE MATEMATICHE, FISICHE E NATURALI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rso di Laurea in Scienze dell’Informazion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480" y="14616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 applicazione real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5" name=""/>
          <p:cNvGrpSpPr/>
          <p:nvPr/>
        </p:nvGrpSpPr>
        <p:grpSpPr>
          <a:xfrm>
            <a:off x="1968480" y="2044800"/>
            <a:ext cx="1676520" cy="533160"/>
            <a:chOff x="1968480" y="2044800"/>
            <a:chExt cx="1676520" cy="533160"/>
          </a:xfrm>
        </p:grpSpPr>
        <p:sp>
          <p:nvSpPr>
            <p:cNvPr id="226" name=""/>
            <p:cNvSpPr/>
            <p:nvPr/>
          </p:nvSpPr>
          <p:spPr>
            <a:xfrm>
              <a:off x="2349720" y="2044800"/>
              <a:ext cx="8683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Imag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Sto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1968480" y="2577960"/>
              <a:ext cx="167652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" name=""/>
          <p:cNvGrpSpPr/>
          <p:nvPr/>
        </p:nvGrpSpPr>
        <p:grpSpPr>
          <a:xfrm>
            <a:off x="3568680" y="1892160"/>
            <a:ext cx="1204920" cy="1357560"/>
            <a:chOff x="3568680" y="1892160"/>
            <a:chExt cx="1204920" cy="1357560"/>
          </a:xfrm>
        </p:grpSpPr>
        <p:pic>
          <p:nvPicPr>
            <p:cNvPr id="229" name="" descr=""/>
            <p:cNvPicPr/>
            <p:nvPr/>
          </p:nvPicPr>
          <p:blipFill>
            <a:blip r:embed="rId2"/>
            <a:stretch/>
          </p:blipFill>
          <p:spPr>
            <a:xfrm>
              <a:off x="3740400" y="1892160"/>
              <a:ext cx="858600" cy="98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0" name=""/>
            <p:cNvSpPr/>
            <p:nvPr/>
          </p:nvSpPr>
          <p:spPr>
            <a:xfrm>
              <a:off x="3568680" y="2884320"/>
              <a:ext cx="12049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rchivio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mmagin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1" name=""/>
          <p:cNvGrpSpPr/>
          <p:nvPr/>
        </p:nvGrpSpPr>
        <p:grpSpPr>
          <a:xfrm>
            <a:off x="4940280" y="4254480"/>
            <a:ext cx="1523880" cy="533520"/>
            <a:chOff x="4940280" y="4254480"/>
            <a:chExt cx="1523880" cy="533520"/>
          </a:xfrm>
        </p:grpSpPr>
        <p:sp>
          <p:nvSpPr>
            <p:cNvPr id="232" name=""/>
            <p:cNvSpPr/>
            <p:nvPr/>
          </p:nvSpPr>
          <p:spPr>
            <a:xfrm>
              <a:off x="4940280" y="4788000"/>
              <a:ext cx="152388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5625720" y="4254480"/>
              <a:ext cx="76176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eport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Ex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" name=""/>
          <p:cNvGrpSpPr/>
          <p:nvPr/>
        </p:nvGrpSpPr>
        <p:grpSpPr>
          <a:xfrm>
            <a:off x="6520320" y="4254480"/>
            <a:ext cx="860400" cy="1310400"/>
            <a:chOff x="6520320" y="4254480"/>
            <a:chExt cx="860400" cy="1310400"/>
          </a:xfrm>
        </p:grpSpPr>
        <p:sp>
          <p:nvSpPr>
            <p:cNvPr id="235" name=""/>
            <p:cNvSpPr/>
            <p:nvPr/>
          </p:nvSpPr>
          <p:spPr>
            <a:xfrm>
              <a:off x="6520320" y="5168520"/>
              <a:ext cx="86040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Report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Reposito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6" name="" descr=""/>
            <p:cNvPicPr/>
            <p:nvPr/>
          </p:nvPicPr>
          <p:blipFill>
            <a:blip r:embed="rId3"/>
            <a:stretch/>
          </p:blipFill>
          <p:spPr>
            <a:xfrm>
              <a:off x="6540120" y="4254480"/>
              <a:ext cx="774720" cy="9205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237" name=""/>
          <p:cNvGrpSpPr/>
          <p:nvPr/>
        </p:nvGrpSpPr>
        <p:grpSpPr>
          <a:xfrm>
            <a:off x="645840" y="1892160"/>
            <a:ext cx="1273320" cy="1279800"/>
            <a:chOff x="645840" y="1892160"/>
            <a:chExt cx="1273320" cy="1279800"/>
          </a:xfrm>
        </p:grpSpPr>
        <p:pic>
          <p:nvPicPr>
            <p:cNvPr id="238" name="" descr=""/>
            <p:cNvPicPr/>
            <p:nvPr/>
          </p:nvPicPr>
          <p:blipFill>
            <a:blip r:embed="rId4"/>
            <a:stretch/>
          </p:blipFill>
          <p:spPr>
            <a:xfrm>
              <a:off x="672840" y="1892160"/>
              <a:ext cx="124632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" name=""/>
            <p:cNvSpPr/>
            <p:nvPr/>
          </p:nvSpPr>
          <p:spPr>
            <a:xfrm>
              <a:off x="645840" y="2806560"/>
              <a:ext cx="127332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Modalità di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acquisizione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0" name=""/>
          <p:cNvGrpSpPr/>
          <p:nvPr/>
        </p:nvGrpSpPr>
        <p:grpSpPr>
          <a:xfrm>
            <a:off x="4711680" y="2044800"/>
            <a:ext cx="1600200" cy="533160"/>
            <a:chOff x="4711680" y="2044800"/>
            <a:chExt cx="1600200" cy="533160"/>
          </a:xfrm>
        </p:grpSpPr>
        <p:sp>
          <p:nvSpPr>
            <p:cNvPr id="241" name=""/>
            <p:cNvSpPr/>
            <p:nvPr/>
          </p:nvSpPr>
          <p:spPr>
            <a:xfrm>
              <a:off x="4711680" y="2577960"/>
              <a:ext cx="1600200" cy="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788000" y="2044800"/>
              <a:ext cx="86832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Images 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etriev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3" name=""/>
          <p:cNvGrpSpPr/>
          <p:nvPr/>
        </p:nvGrpSpPr>
        <p:grpSpPr>
          <a:xfrm>
            <a:off x="6921360" y="2882880"/>
            <a:ext cx="801360" cy="1295280"/>
            <a:chOff x="6921360" y="2882880"/>
            <a:chExt cx="801360" cy="1295280"/>
          </a:xfrm>
        </p:grpSpPr>
        <p:sp>
          <p:nvSpPr>
            <p:cNvPr id="244" name=""/>
            <p:cNvSpPr/>
            <p:nvPr/>
          </p:nvSpPr>
          <p:spPr>
            <a:xfrm>
              <a:off x="7148880" y="3187440"/>
              <a:ext cx="573840" cy="42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Report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1400" spc="-1" strike="noStrike">
                  <a:solidFill>
                    <a:srgbClr val="000000"/>
                  </a:solidFill>
                  <a:latin typeface="Arial"/>
                </a:rPr>
                <a:t>Store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6921360" y="2882880"/>
              <a:ext cx="0" cy="1295280"/>
            </a:xfrm>
            <a:prstGeom prst="line">
              <a:avLst/>
            </a:prstGeom>
            <a:ln w="38160">
              <a:solidFill>
                <a:srgbClr val="ff9933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6" name=""/>
          <p:cNvSpPr/>
          <p:nvPr/>
        </p:nvSpPr>
        <p:spPr>
          <a:xfrm>
            <a:off x="444600" y="1587600"/>
            <a:ext cx="346536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444600" y="3568680"/>
            <a:ext cx="50292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444600" y="1663560"/>
            <a:ext cx="0" cy="19051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8093160" y="1606680"/>
            <a:ext cx="0" cy="40734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5473800" y="5702400"/>
            <a:ext cx="262728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5473800" y="3568680"/>
            <a:ext cx="0" cy="213372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930920" y="1587600"/>
            <a:ext cx="3159000" cy="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998160" y="1355760"/>
            <a:ext cx="872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0000"/>
                </a:solidFill>
                <a:latin typeface="Arial"/>
              </a:rPr>
              <a:t>PAC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4" name=""/>
          <p:cNvGrpSpPr/>
          <p:nvPr/>
        </p:nvGrpSpPr>
        <p:grpSpPr>
          <a:xfrm>
            <a:off x="3340080" y="4483080"/>
            <a:ext cx="2001960" cy="1843920"/>
            <a:chOff x="3340080" y="4483080"/>
            <a:chExt cx="2001960" cy="1843920"/>
          </a:xfrm>
        </p:grpSpPr>
        <p:pic>
          <p:nvPicPr>
            <p:cNvPr id="255" name="" descr=""/>
            <p:cNvPicPr/>
            <p:nvPr/>
          </p:nvPicPr>
          <p:blipFill>
            <a:blip r:embed="rId5"/>
            <a:stretch/>
          </p:blipFill>
          <p:spPr>
            <a:xfrm>
              <a:off x="3721320" y="4483080"/>
              <a:ext cx="1217520" cy="1447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6" name=""/>
            <p:cNvSpPr/>
            <p:nvPr/>
          </p:nvSpPr>
          <p:spPr>
            <a:xfrm>
              <a:off x="3340080" y="5930640"/>
              <a:ext cx="2001960" cy="396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Arial"/>
                </a:rPr>
                <a:t>Clinical Documents Repository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7" name=""/>
          <p:cNvGrpSpPr/>
          <p:nvPr/>
        </p:nvGrpSpPr>
        <p:grpSpPr>
          <a:xfrm>
            <a:off x="6196680" y="1816200"/>
            <a:ext cx="1452960" cy="1081800"/>
            <a:chOff x="6196680" y="1816200"/>
            <a:chExt cx="1452960" cy="1081800"/>
          </a:xfrm>
        </p:grpSpPr>
        <p:sp>
          <p:nvSpPr>
            <p:cNvPr id="258" name=""/>
            <p:cNvSpPr/>
            <p:nvPr/>
          </p:nvSpPr>
          <p:spPr>
            <a:xfrm>
              <a:off x="6196680" y="2654280"/>
              <a:ext cx="1452960" cy="243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Arial"/>
                </a:rPr>
                <a:t>Interpretazion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59" name="" descr=""/>
            <p:cNvPicPr/>
            <p:nvPr/>
          </p:nvPicPr>
          <p:blipFill>
            <a:blip r:embed="rId6"/>
            <a:srcRect l="0" t="0" r="0" b="38276"/>
            <a:stretch/>
          </p:blipFill>
          <p:spPr>
            <a:xfrm>
              <a:off x="6303960" y="1816200"/>
              <a:ext cx="1206720" cy="7383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60" name="" descr=""/>
          <p:cNvPicPr/>
          <p:nvPr/>
        </p:nvPicPr>
        <p:blipFill>
          <a:blip r:embed="rId7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261" name=""/>
          <p:cNvSpPr/>
          <p:nvPr/>
        </p:nvSpPr>
        <p:spPr>
          <a:xfrm>
            <a:off x="2052720" y="4876920"/>
            <a:ext cx="1690560" cy="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2052720" y="5029200"/>
            <a:ext cx="1690560" cy="0"/>
          </a:xfrm>
          <a:prstGeom prst="line">
            <a:avLst/>
          </a:prstGeom>
          <a:ln w="38160">
            <a:solidFill>
              <a:srgbClr val="ff99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V="1">
            <a:off x="1187280" y="2913120"/>
            <a:ext cx="2286000" cy="1371600"/>
          </a:xfrm>
          <a:prstGeom prst="line">
            <a:avLst/>
          </a:prstGeom>
          <a:ln w="381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 flipV="1">
            <a:off x="1263600" y="3065400"/>
            <a:ext cx="2286000" cy="1371600"/>
          </a:xfrm>
          <a:prstGeom prst="line">
            <a:avLst/>
          </a:prstGeom>
          <a:ln w="38160">
            <a:solidFill>
              <a:srgbClr val="ff993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611280" y="4508640"/>
            <a:ext cx="1368360" cy="1584000"/>
            <a:chOff x="611280" y="4508640"/>
            <a:chExt cx="1368360" cy="1584000"/>
          </a:xfrm>
        </p:grpSpPr>
        <p:sp>
          <p:nvSpPr>
            <p:cNvPr id="266" name=""/>
            <p:cNvSpPr/>
            <p:nvPr/>
          </p:nvSpPr>
          <p:spPr>
            <a:xfrm>
              <a:off x="611280" y="4508640"/>
              <a:ext cx="1368360" cy="1584000"/>
            </a:xfrm>
            <a:prstGeom prst="cube">
              <a:avLst>
                <a:gd name="adj" fmla="val 15046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933840" y="5211720"/>
              <a:ext cx="5684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54000" rIns="90000" tIns="46800" bIns="46800" anchor="t">
              <a:spAutoFit/>
            </a:bodyPr>
            <a:p>
              <a:pPr>
                <a:lnSpc>
                  <a:spcPct val="1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fr-FR" sz="2000" spc="-1" strike="noStrike">
                  <a:solidFill>
                    <a:srgbClr val="0066cc"/>
                  </a:solidFill>
                  <a:latin typeface="Arial"/>
                </a:rPr>
                <a:t>RI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8" name=""/>
          <p:cNvSpPr/>
          <p:nvPr/>
        </p:nvSpPr>
        <p:spPr>
          <a:xfrm>
            <a:off x="2124000" y="5084640"/>
            <a:ext cx="1871640" cy="60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onsult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ocumentazio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clin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2166840" y="3817800"/>
            <a:ext cx="20512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ccesso a immagin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I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659CB1-2873-489E-B1CF-1F3CD6A80CF1}" type="slidenum">
              <a:t>10</a:t>
            </a:fld>
          </a:p>
        </p:txBody>
      </p:sp>
    </p:spTree>
  </p:cSld>
  <p:transition>
    <p:pull dir="r"/>
  </p:transition>
  <p:timing>
    <p:tnLst>
      <p:par>
        <p:cTn id="541" dur="indefinite" restart="never" nodeType="tmRoot">
          <p:childTnLst>
            <p:seq>
              <p:cTn id="542" dur="indefinite" nodeType="mainSeq">
                <p:childTnLst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7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8" fill="hold">
                            <p:stCondLst>
                              <p:cond delay="500"/>
                            </p:stCondLst>
                            <p:childTnLst>
                              <p:par>
                                <p:cTn id="54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1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fill="hold">
                      <p:stCondLst>
                        <p:cond delay="indefinite"/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5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6" fill="hold">
                            <p:stCondLst>
                              <p:cond delay="500"/>
                            </p:stCondLst>
                            <p:childTnLst>
                              <p:par>
                                <p:cTn id="56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4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5" fill="hold">
                            <p:stCondLst>
                              <p:cond delay="500"/>
                            </p:stCondLst>
                            <p:childTnLst>
                              <p:par>
                                <p:cTn id="57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8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9" fill="hold">
                      <p:stCondLst>
                        <p:cond delay="indefinite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500"/>
                            </p:stCondLst>
                            <p:childTnLst>
                              <p:par>
                                <p:cTn id="5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7" dur="5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0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1" fill="hold">
                            <p:stCondLst>
                              <p:cond delay="1000"/>
                            </p:stCondLst>
                            <p:childTnLst>
                              <p:par>
                                <p:cTn id="59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94" dur="5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5" fill="hold">
                            <p:stCondLst>
                              <p:cond delay="1500"/>
                            </p:stCondLst>
                            <p:childTnLst>
                              <p:par>
                                <p:cTn id="59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98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1" dur="5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2" fill="hold">
                            <p:stCondLst>
                              <p:cond delay="2000"/>
                            </p:stCondLst>
                            <p:childTnLst>
                              <p:par>
                                <p:cTn id="6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5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7547040" y="1557360"/>
            <a:ext cx="1368360" cy="934920"/>
          </a:xfrm>
          <a:prstGeom prst="cube">
            <a:avLst>
              <a:gd name="adj" fmla="val 17319"/>
            </a:avLst>
          </a:prstGeom>
          <a:solidFill>
            <a:srgbClr val="96969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tretch/>
        </p:blipFill>
        <p:spPr>
          <a:xfrm>
            <a:off x="8366040" y="0"/>
            <a:ext cx="777960" cy="880920"/>
          </a:xfrm>
          <a:prstGeom prst="rect">
            <a:avLst/>
          </a:prstGeom>
          <a:ln w="0">
            <a:noFill/>
          </a:ln>
        </p:spPr>
      </p:pic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48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Una applicazione real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4" name="" descr=""/>
          <p:cNvPicPr/>
          <p:nvPr/>
        </p:nvPicPr>
        <p:blipFill>
          <a:blip r:embed="rId3"/>
          <a:stretch/>
        </p:blipFill>
        <p:spPr>
          <a:xfrm>
            <a:off x="2987640" y="2430360"/>
            <a:ext cx="800280" cy="10699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>
            <a:off x="826920" y="907920"/>
            <a:ext cx="3291120" cy="30974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700360" y="1484280"/>
            <a:ext cx="1060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ese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 flipV="1" rot="7321200">
            <a:off x="1862280" y="2608920"/>
            <a:ext cx="791640" cy="1709640"/>
          </a:xfrm>
          <a:custGeom>
            <a:avLst/>
            <a:gdLst>
              <a:gd name="textAreaLeft" fmla="*/ 105840 w 791640"/>
              <a:gd name="textAreaRight" fmla="*/ 685800 w 791640"/>
              <a:gd name="textAreaTop" fmla="*/ 321840 h 1709640"/>
              <a:gd name="textAreaBottom" fmla="*/ 1216080 h 1709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43" stAng="-5400000" swAng="5400000"/>
                <a:lnTo>
                  <a:pt x="21600" y="11298"/>
                </a:lnTo>
                <a:arcTo wR="21600" hR="8143" stAng="0" swAng="2813902"/>
                <a:lnTo>
                  <a:pt x="7186" y="21136"/>
                </a:lnTo>
                <a:lnTo>
                  <a:pt x="0" y="17863"/>
                </a:lnTo>
                <a:lnTo>
                  <a:pt x="7186" y="13661"/>
                </a:lnTo>
                <a:lnTo>
                  <a:pt x="7186" y="15821"/>
                </a:lnTo>
                <a:arcTo wR="21600" hR="8143" stAng="2813902" swAng="-2558457"/>
                <a:lnTo>
                  <a:pt x="21191" y="9720"/>
                </a:lnTo>
                <a:arcTo wR="21600" hR="8143" stAng="-255444" swAng="-5144556"/>
                <a:close/>
              </a:path>
              <a:path fill="darkenLess" w="21600" h="21600">
                <a:moveTo>
                  <a:pt x="0" y="0"/>
                </a:moveTo>
                <a:arcTo wR="21600" hR="8143" stAng="-5400000" swAng="5400000"/>
                <a:lnTo>
                  <a:pt x="21600" y="11298"/>
                </a:lnTo>
                <a:arcTo wR="21600" hR="8143" stAng="0" swAng="-255444"/>
                <a:lnTo>
                  <a:pt x="21191" y="9720"/>
                </a:lnTo>
                <a:arcTo wR="21600" hR="8143" stAng="-255444" swAng="-5144556"/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1272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084720" y="4869000"/>
            <a:ext cx="1872000" cy="1726920"/>
            <a:chOff x="6084720" y="4869000"/>
            <a:chExt cx="1872000" cy="1726920"/>
          </a:xfrm>
        </p:grpSpPr>
        <p:pic>
          <p:nvPicPr>
            <p:cNvPr id="279" name="" descr=""/>
            <p:cNvPicPr/>
            <p:nvPr/>
          </p:nvPicPr>
          <p:blipFill>
            <a:blip r:embed="rId4"/>
            <a:stretch/>
          </p:blipFill>
          <p:spPr>
            <a:xfrm>
              <a:off x="6616800" y="5421240"/>
              <a:ext cx="960480" cy="946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6084720" y="4869000"/>
              <a:ext cx="1872000" cy="17269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308280" y="5054760"/>
              <a:ext cx="1114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Bologn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"/>
          <p:cNvSpPr/>
          <p:nvPr/>
        </p:nvSpPr>
        <p:spPr>
          <a:xfrm>
            <a:off x="3828960" y="3548160"/>
            <a:ext cx="3275280" cy="0"/>
          </a:xfrm>
          <a:prstGeom prst="line">
            <a:avLst/>
          </a:prstGeom>
          <a:ln w="507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4356000" y="3127320"/>
            <a:ext cx="2737080" cy="43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ccesso a immagini DICOM 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iagnosi CA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812000" y="1916280"/>
            <a:ext cx="79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ffffff"/>
                </a:solidFill>
                <a:latin typeface="Arial"/>
              </a:rPr>
              <a:t>C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 flipV="1">
            <a:off x="4140360" y="1827360"/>
            <a:ext cx="3311280" cy="17280"/>
          </a:xfrm>
          <a:prstGeom prst="line">
            <a:avLst/>
          </a:prstGeom>
          <a:ln w="50760">
            <a:solidFill>
              <a:srgbClr val="ff99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4284720" y="1568520"/>
            <a:ext cx="2736720" cy="26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ccesso a immagini DI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 flipH="1">
            <a:off x="4211640" y="2187720"/>
            <a:ext cx="3238560" cy="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653080" y="218772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iagno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flipH="1">
            <a:off x="3489120" y="3875040"/>
            <a:ext cx="3562200" cy="0"/>
          </a:xfrm>
          <a:prstGeom prst="line">
            <a:avLst/>
          </a:prstGeom>
          <a:ln w="507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86400" y="3933720"/>
            <a:ext cx="932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Diagno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2268360" y="4076640"/>
            <a:ext cx="3743640" cy="1657440"/>
          </a:xfrm>
          <a:custGeom>
            <a:avLst/>
            <a:gdLst/>
            <a:ahLst/>
            <a:rect l="l" t="t" r="r" b="b"/>
            <a:pathLst>
              <a:path w="1905" h="1013">
                <a:moveTo>
                  <a:pt x="272" y="0"/>
                </a:moveTo>
                <a:cubicBezTo>
                  <a:pt x="136" y="355"/>
                  <a:pt x="0" y="711"/>
                  <a:pt x="272" y="862"/>
                </a:cubicBezTo>
                <a:cubicBezTo>
                  <a:pt x="544" y="1013"/>
                  <a:pt x="1633" y="900"/>
                  <a:pt x="1905" y="907"/>
                </a:cubicBezTo>
              </a:path>
            </a:pathLst>
          </a:custGeom>
          <a:noFill/>
          <a:ln w="50760">
            <a:solidFill>
              <a:srgbClr val="ff99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1619280" y="4076640"/>
            <a:ext cx="4502160" cy="2305080"/>
          </a:xfrm>
          <a:custGeom>
            <a:avLst/>
            <a:gdLst/>
            <a:ahLst/>
            <a:rect l="l" t="t" r="r" b="b"/>
            <a:pathLst>
              <a:path w="2472" h="1376">
                <a:moveTo>
                  <a:pt x="2472" y="1179"/>
                </a:moveTo>
                <a:cubicBezTo>
                  <a:pt x="1576" y="1277"/>
                  <a:pt x="680" y="1376"/>
                  <a:pt x="340" y="1179"/>
                </a:cubicBezTo>
                <a:cubicBezTo>
                  <a:pt x="0" y="982"/>
                  <a:pt x="415" y="196"/>
                  <a:pt x="430" y="0"/>
                </a:cubicBezTo>
              </a:path>
            </a:pathLst>
          </a:custGeom>
          <a:noFill/>
          <a:ln w="50760">
            <a:solidFill>
              <a:srgbClr val="339966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2980440" y="5300640"/>
            <a:ext cx="267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Accesso immagini e diagnos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2680200" y="5950080"/>
            <a:ext cx="1607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Arial"/>
              </a:rPr>
              <a:t>Esito oper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7093080" y="3068640"/>
            <a:ext cx="1439640" cy="1438200"/>
            <a:chOff x="7093080" y="3068640"/>
            <a:chExt cx="1439640" cy="1438200"/>
          </a:xfrm>
        </p:grpSpPr>
        <p:pic>
          <p:nvPicPr>
            <p:cNvPr id="296" name="" descr=""/>
            <p:cNvPicPr/>
            <p:nvPr/>
          </p:nvPicPr>
          <p:blipFill>
            <a:blip r:embed="rId5"/>
            <a:stretch/>
          </p:blipFill>
          <p:spPr>
            <a:xfrm>
              <a:off x="7453440" y="3571920"/>
              <a:ext cx="995400" cy="8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7" name=""/>
            <p:cNvSpPr/>
            <p:nvPr/>
          </p:nvSpPr>
          <p:spPr>
            <a:xfrm>
              <a:off x="7254360" y="3166920"/>
              <a:ext cx="6897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Forlì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093080" y="3068640"/>
              <a:ext cx="1439640" cy="143820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9" name="" descr=""/>
          <p:cNvPicPr/>
          <p:nvPr/>
        </p:nvPicPr>
        <p:blipFill>
          <a:blip r:embed="rId6"/>
          <a:stretch/>
        </p:blipFill>
        <p:spPr>
          <a:xfrm>
            <a:off x="1403280" y="1413000"/>
            <a:ext cx="1190520" cy="1479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92BBD7-F24E-49B7-A16E-30FCFD543CF9}" type="slidenum">
              <a:t>11</a:t>
            </a:fld>
          </a:p>
        </p:txBody>
      </p:sp>
    </p:spTree>
  </p:cSld>
  <p:transition>
    <p:pull dir="r"/>
  </p:transition>
  <p:timing>
    <p:tnLst>
      <p:par>
        <p:cTn id="606" dur="indefinite" restart="never" nodeType="tmRoot">
          <p:childTnLst>
            <p:seq>
              <p:cTn id="607" dur="indefinite" nodeType="mainSeq">
                <p:childTnLst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0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6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8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9" fill="hold">
                      <p:stCondLst>
                        <p:cond delay="indefinite"/>
                      </p:stCondLst>
                      <p:childTnLst>
                        <p:par>
                          <p:cTn id="630" fill="hold">
                            <p:stCondLst>
                              <p:cond delay="0"/>
                            </p:stCondLst>
                            <p:childTnLst>
                              <p:par>
                                <p:cTn id="63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3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6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fill="hold">
                      <p:stCondLst>
                        <p:cond delay="indefinite"/>
                      </p:stCondLst>
                      <p:childTnLst>
                        <p:par>
                          <p:cTn id="638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1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44" dur="5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4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7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fill="hold">
                      <p:stCondLst>
                        <p:cond delay="indefinite"/>
                      </p:stCondLst>
                      <p:childTnLst>
                        <p:par>
                          <p:cTn id="659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2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5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0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1" fill="hold">
                      <p:stCondLst>
                        <p:cond delay="indefinite"/>
                      </p:stCondLst>
                      <p:childTnLst>
                        <p:par>
                          <p:cTn id="672" fill="hold">
                            <p:stCondLst>
                              <p:cond delay="0"/>
                            </p:stCondLst>
                            <p:childTnLst>
                              <p:par>
                                <p:cTn id="67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5" dur="500"/>
                                        <p:tgtEl>
                                          <p:spTgt spid="2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7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78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2852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pplicazione sviluppat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93760" y="923760"/>
            <a:ext cx="889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applicazione sviluppata intende essere un’implementazione di un QUERY/RETRIEVE SERVICE CLASS USER (Q/R SCU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93760" y="1941480"/>
            <a:ext cx="2692440" cy="144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MSE utilizzat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-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-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-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5" name=""/>
          <p:cNvGrpSpPr/>
          <p:nvPr/>
        </p:nvGrpSpPr>
        <p:grpSpPr>
          <a:xfrm>
            <a:off x="2338560" y="2844720"/>
            <a:ext cx="6697080" cy="3465360"/>
            <a:chOff x="2338560" y="2844720"/>
            <a:chExt cx="6697080" cy="3465360"/>
          </a:xfrm>
        </p:grpSpPr>
        <p:sp>
          <p:nvSpPr>
            <p:cNvPr id="306" name=""/>
            <p:cNvSpPr/>
            <p:nvPr/>
          </p:nvSpPr>
          <p:spPr>
            <a:xfrm flipH="1">
              <a:off x="4514760" y="4786200"/>
              <a:ext cx="2374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946920" y="4424040"/>
              <a:ext cx="20156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Query/Retrie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00"/>
                  </a:solidFill>
                  <a:latin typeface="Arial"/>
                </a:rPr>
                <a:t>SCU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338560" y="3997080"/>
              <a:ext cx="2160360" cy="15130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54120" y="4403520"/>
              <a:ext cx="19443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Query/Retriev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SCP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514920" y="2989080"/>
              <a:ext cx="0" cy="30225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659640" y="3349440"/>
              <a:ext cx="86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Arial"/>
                </a:rPr>
                <a:t>Local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435640" y="3349440"/>
              <a:ext cx="1007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1800" spc="-1" strike="noStrike">
                  <a:solidFill>
                    <a:srgbClr val="000000"/>
                  </a:solidFill>
                  <a:latin typeface="Arial"/>
                </a:rPr>
                <a:t>Remot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91280" y="5941800"/>
              <a:ext cx="3023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DICOM Standard Interfac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 flipH="1">
              <a:off x="4498560" y="4284360"/>
              <a:ext cx="255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498920" y="5294160"/>
              <a:ext cx="25905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6875280" y="3909960"/>
              <a:ext cx="2160360" cy="172872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65760" y="3982680"/>
              <a:ext cx="7920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FIND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5665680" y="4471920"/>
              <a:ext cx="936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MOV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5578560" y="4991040"/>
              <a:ext cx="10789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STOR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3633840" y="2844720"/>
              <a:ext cx="1584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ssociazi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4570560" y="3133440"/>
              <a:ext cx="791640" cy="1150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4570560" y="3133440"/>
              <a:ext cx="647280" cy="2160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1332000" y="1773360"/>
            <a:ext cx="7575480" cy="4752720"/>
            <a:chOff x="1332000" y="1773360"/>
            <a:chExt cx="7575480" cy="4752720"/>
          </a:xfrm>
        </p:grpSpPr>
        <p:sp>
          <p:nvSpPr>
            <p:cNvPr id="324" name=""/>
            <p:cNvSpPr/>
            <p:nvPr/>
          </p:nvSpPr>
          <p:spPr>
            <a:xfrm>
              <a:off x="4803840" y="1773360"/>
              <a:ext cx="4103640" cy="4752720"/>
            </a:xfrm>
            <a:prstGeom prst="ellipse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>
                    <a:alpha val="0"/>
                  </a:srgbClr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25" name=""/>
            <p:cNvGrpSpPr/>
            <p:nvPr/>
          </p:nvGrpSpPr>
          <p:grpSpPr>
            <a:xfrm>
              <a:off x="6099120" y="1990800"/>
              <a:ext cx="1508040" cy="1004760"/>
              <a:chOff x="6099120" y="1990800"/>
              <a:chExt cx="1508040" cy="1004760"/>
            </a:xfrm>
          </p:grpSpPr>
          <p:sp>
            <p:nvSpPr>
              <p:cNvPr id="326" name=""/>
              <p:cNvSpPr/>
              <p:nvPr/>
            </p:nvSpPr>
            <p:spPr>
              <a:xfrm>
                <a:off x="6099120" y="1990800"/>
                <a:ext cx="1508040" cy="1004760"/>
              </a:xfrm>
              <a:prstGeom prst="can">
                <a:avLst>
                  <a:gd name="adj" fmla="val 16620"/>
                </a:avLst>
              </a:prstGeom>
              <a:solidFill>
                <a:srgbClr val="b2b2b2"/>
              </a:solidFill>
              <a:ln w="9360">
                <a:solidFill>
                  <a:srgbClr val="000000"/>
                </a:solidFill>
                <a:miter/>
              </a:ln>
              <a:effectLst>
                <a:outerShdw dist="85328" dir="20006097" blurRad="0" rotWithShape="0">
                  <a:srgbClr val="808080">
                    <a:alpha val="50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7" name=""/>
              <p:cNvSpPr/>
              <p:nvPr/>
            </p:nvSpPr>
            <p:spPr>
              <a:xfrm>
                <a:off x="6350040" y="2249640"/>
                <a:ext cx="1014120" cy="549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000" spc="-1" strike="noStrike">
                    <a:solidFill>
                      <a:srgbClr val="000000"/>
                    </a:solidFill>
                    <a:latin typeface="Garamond"/>
                    <a:ea typeface="Courier New"/>
                  </a:rPr>
                  <a:t>Image Archive</a:t>
                </a: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8" name=""/>
            <p:cNvSpPr/>
            <p:nvPr/>
          </p:nvSpPr>
          <p:spPr>
            <a:xfrm>
              <a:off x="1332000" y="3789360"/>
              <a:ext cx="3095640" cy="2232000"/>
            </a:xfrm>
            <a:prstGeom prst="ellipse">
              <a:avLst/>
            </a:prstGeom>
            <a:gradFill rotWithShape="0">
              <a:gsLst>
                <a:gs pos="0">
                  <a:srgbClr val="6699ff"/>
                </a:gs>
                <a:gs pos="100000">
                  <a:srgbClr val="ffffff"/>
                </a:gs>
              </a:gsLst>
              <a:lin ang="5400000"/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540160" y="5459400"/>
              <a:ext cx="1296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  <a:ea typeface="Courier New"/>
                </a:rPr>
                <a:t>DICOM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  <a:ea typeface="Courier Ne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  <a:ea typeface="Courier New"/>
                </a:rPr>
                <a:t>Client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1576440" y="4437000"/>
              <a:ext cx="2496960" cy="93672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rvice Class Use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-FIN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-MOVE 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(C-STOR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5551560" y="3703680"/>
              <a:ext cx="2592360" cy="2176200"/>
            </a:xfrm>
            <a:prstGeom prst="rect">
              <a:avLst/>
            </a:prstGeom>
            <a:solidFill>
              <a:srgbClr val="99ffcc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rvice Class Provide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-FIND, C-MO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rvice Class Use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-FIND, C-MOV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rvice Class Provide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-ST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 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Service class User: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000000"/>
                  </a:solidFill>
                  <a:latin typeface="Arial"/>
                  <a:ea typeface="Times New Roman"/>
                </a:rPr>
                <a:t>C-STOR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102200" y="4826160"/>
              <a:ext cx="1439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>
              <a:off x="4087800" y="5157720"/>
              <a:ext cx="1440000" cy="46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120" bIns="-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728120" y="3070080"/>
              <a:ext cx="1079280" cy="505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  <a:ea typeface="Courier New"/>
                </a:rPr>
                <a:t>DICOM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Garamond"/>
                  <a:ea typeface="Courier New"/>
                </a:rPr>
                <a:t> </a:t>
              </a:r>
              <a:r>
                <a:rPr b="1" lang="en-US" sz="2000" spc="-1" strike="noStrike">
                  <a:solidFill>
                    <a:srgbClr val="000000"/>
                  </a:solidFill>
                  <a:latin typeface="Garamond"/>
                  <a:ea typeface="Courier New"/>
                </a:rPr>
                <a:t>Server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075440" y="2998800"/>
              <a:ext cx="0" cy="69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 flipV="1">
              <a:off x="6694560" y="2998440"/>
              <a:ext cx="0" cy="6951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EB02474-9B00-4E56-B2D6-70F5D09895C6}" type="slidenum">
              <a:t>12</a:t>
            </a:fld>
          </a:p>
        </p:txBody>
      </p:sp>
    </p:spTree>
  </p:cSld>
  <p:transition>
    <p:pull dir="r"/>
  </p:transition>
  <p:timing>
    <p:tnLst>
      <p:par>
        <p:cTn id="679" dur="indefinite" restart="never" nodeType="tmRoot">
          <p:childTnLst>
            <p:seq>
              <p:cTn id="680" dur="indefinite" nodeType="mainSeq">
                <p:childTnLst>
                  <p:par>
                    <p:cTn id="681" fill="hold">
                      <p:stCondLst>
                        <p:cond delay="indefinite"/>
                      </p:stCondLst>
                      <p:childTnLst>
                        <p:par>
                          <p:cTn id="682" fill="hold">
                            <p:stCondLst>
                              <p:cond delay="0"/>
                            </p:stCondLst>
                            <p:childTnLst>
                              <p:par>
                                <p:cTn id="683" nodeType="clickEffect" fill="hold" presetClass="exit" presetID="2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684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5" dur="500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500"/>
                            </p:stCondLst>
                            <p:childTnLst>
                              <p:par>
                                <p:cTn id="6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1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92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4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5" dur="5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12852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pplicazione sviluppata: flusso operaziona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2"/>
          <a:stretch/>
        </p:blipFill>
        <p:spPr>
          <a:xfrm>
            <a:off x="3451320" y="1338120"/>
            <a:ext cx="5692680" cy="5546880"/>
          </a:xfrm>
          <a:prstGeom prst="rect">
            <a:avLst/>
          </a:prstGeom>
          <a:ln w="0">
            <a:noFill/>
          </a:ln>
        </p:spPr>
      </p:pic>
      <p:pic>
        <p:nvPicPr>
          <p:cNvPr id="340" name="" descr=""/>
          <p:cNvPicPr/>
          <p:nvPr/>
        </p:nvPicPr>
        <p:blipFill>
          <a:blip r:embed="rId3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3492360" y="2708280"/>
            <a:ext cx="2664000" cy="4334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492360" y="3429000"/>
            <a:ext cx="2951280" cy="10796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492360" y="4581360"/>
            <a:ext cx="2232000" cy="64800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3492360" y="5300640"/>
            <a:ext cx="4319640" cy="649440"/>
          </a:xfrm>
          <a:prstGeom prst="rect">
            <a:avLst/>
          </a:prstGeom>
          <a:noFill/>
          <a:ln w="158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" descr=""/>
          <p:cNvPicPr/>
          <p:nvPr/>
        </p:nvPicPr>
        <p:blipFill>
          <a:blip r:embed="rId4"/>
          <a:stretch/>
        </p:blipFill>
        <p:spPr>
          <a:xfrm>
            <a:off x="1258920" y="5029200"/>
            <a:ext cx="7777080" cy="126036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346" name=""/>
          <p:cNvSpPr/>
          <p:nvPr/>
        </p:nvSpPr>
        <p:spPr>
          <a:xfrm>
            <a:off x="303120" y="85716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117360" y="981000"/>
            <a:ext cx="3287880" cy="16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opo aver aperto un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ssociazione con il SCP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vio C-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ttesa risposta C-FI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8" name="" descr=""/>
          <p:cNvPicPr/>
          <p:nvPr/>
        </p:nvPicPr>
        <p:blipFill>
          <a:blip r:embed="rId5"/>
          <a:srcRect l="0" t="7716" r="0" b="0"/>
          <a:stretch/>
        </p:blipFill>
        <p:spPr>
          <a:xfrm>
            <a:off x="3132000" y="2603520"/>
            <a:ext cx="5400720" cy="82548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grpSp>
        <p:nvGrpSpPr>
          <p:cNvPr id="349" name=""/>
          <p:cNvGrpSpPr/>
          <p:nvPr/>
        </p:nvGrpSpPr>
        <p:grpSpPr>
          <a:xfrm>
            <a:off x="3205080" y="4076640"/>
            <a:ext cx="5543280" cy="1416240"/>
            <a:chOff x="3205080" y="4076640"/>
            <a:chExt cx="5543280" cy="1416240"/>
          </a:xfrm>
        </p:grpSpPr>
        <p:pic>
          <p:nvPicPr>
            <p:cNvPr id="350" name="" descr=""/>
            <p:cNvPicPr/>
            <p:nvPr/>
          </p:nvPicPr>
          <p:blipFill>
            <a:blip r:embed="rId6"/>
            <a:stretch/>
          </p:blipFill>
          <p:spPr>
            <a:xfrm>
              <a:off x="3205080" y="4076640"/>
              <a:ext cx="5543280" cy="1416240"/>
            </a:xfrm>
            <a:prstGeom prst="rect">
              <a:avLst/>
            </a:prstGeom>
            <a:ln w="38160">
              <a:solidFill>
                <a:srgbClr val="ff0000"/>
              </a:solidFill>
              <a:miter/>
            </a:ln>
          </p:spPr>
        </p:pic>
        <p:pic>
          <p:nvPicPr>
            <p:cNvPr id="351" name="" descr=""/>
            <p:cNvPicPr/>
            <p:nvPr/>
          </p:nvPicPr>
          <p:blipFill>
            <a:blip r:embed="rId7"/>
            <a:srcRect l="0" t="0" r="0" b="19920"/>
            <a:stretch/>
          </p:blipFill>
          <p:spPr>
            <a:xfrm>
              <a:off x="5724360" y="4826160"/>
              <a:ext cx="1652400" cy="301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352" name="" descr=""/>
          <p:cNvPicPr/>
          <p:nvPr/>
        </p:nvPicPr>
        <p:blipFill>
          <a:blip r:embed="rId8"/>
          <a:stretch/>
        </p:blipFill>
        <p:spPr>
          <a:xfrm>
            <a:off x="3203640" y="3213000"/>
            <a:ext cx="5400720" cy="1986120"/>
          </a:xfrm>
          <a:prstGeom prst="rect">
            <a:avLst/>
          </a:prstGeom>
          <a:ln w="38160">
            <a:solidFill>
              <a:srgbClr val="ff0000"/>
            </a:solidFill>
            <a:miter/>
          </a:ln>
        </p:spPr>
      </p:pic>
      <p:sp>
        <p:nvSpPr>
          <p:cNvPr id="353" name=""/>
          <p:cNvSpPr/>
          <p:nvPr/>
        </p:nvSpPr>
        <p:spPr>
          <a:xfrm>
            <a:off x="122400" y="3112920"/>
            <a:ext cx="2665080" cy="113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vio C-MO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0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ttesa comando C-STO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122400" y="4422600"/>
            <a:ext cx="28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alvataggio immag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6EEFCF-5F6C-41B3-8823-9F0FA162E64C}" type="slidenum">
              <a:t>13</a:t>
            </a:fld>
          </a:p>
        </p:txBody>
      </p:sp>
    </p:spTree>
  </p:cSld>
  <p:transition>
    <p:pull dir="r"/>
  </p:transition>
  <p:timing>
    <p:tnLst>
      <p:par>
        <p:cTn id="696" dur="indefinite" restart="never" nodeType="tmRoot">
          <p:childTnLst>
            <p:seq>
              <p:cTn id="697" dur="indefinite" nodeType="mainSeq">
                <p:childTnLst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2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3" fill="hold">
                            <p:stCondLst>
                              <p:cond delay="500"/>
                            </p:stCondLst>
                            <p:childTnLst>
                              <p:par>
                                <p:cTn id="70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6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12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4" nodeType="with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500"/>
                            </p:stCondLst>
                            <p:childTnLst>
                              <p:par>
                                <p:cTn id="71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19" dur="5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0" fill="hold">
                            <p:stCondLst>
                              <p:cond delay="1000"/>
                            </p:stCondLst>
                            <p:childTnLst>
                              <p:par>
                                <p:cTn id="72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5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29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500"/>
                            </p:stCondLst>
                            <p:childTnLst>
                              <p:par>
                                <p:cTn id="73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6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37" dur="5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40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000"/>
                            </p:stCondLst>
                            <p:childTnLst>
                              <p:par>
                                <p:cTn id="7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4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6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fill="hold">
                      <p:stCondLst>
                        <p:cond delay="indefinite"/>
                      </p:stCondLst>
                      <p:childTnLst>
                        <p:par>
                          <p:cTn id="748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5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2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6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7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58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0" dur="5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1" fill="hold">
                            <p:stCondLst>
                              <p:cond delay="500"/>
                            </p:stCondLst>
                            <p:childTnLst>
                              <p:par>
                                <p:cTn id="76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142560" y="144000"/>
            <a:ext cx="628812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Conclusioni e sviluppi futur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57" name="" descr=""/>
          <p:cNvPicPr/>
          <p:nvPr/>
        </p:nvPicPr>
        <p:blipFill>
          <a:blip r:embed="rId2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358" name=""/>
          <p:cNvSpPr/>
          <p:nvPr/>
        </p:nvSpPr>
        <p:spPr>
          <a:xfrm>
            <a:off x="295200" y="1239840"/>
            <a:ext cx="882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85840" y="1298520"/>
            <a:ext cx="2270160" cy="52056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cc"/>
                </a:solidFill>
                <a:latin typeface="Arial"/>
              </a:rPr>
              <a:t>Conclusion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611280" y="1901880"/>
            <a:ext cx="8532720" cy="144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Applicazione conforme allo Standard DI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mplementato un Query/Retrieve Service Class User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Fornisce funzionalità di ricerca e trasferimento di immagini 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598320" y="4683240"/>
            <a:ext cx="8533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1375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Implementazione di un Store Service Class User, per l’upload dei risultati della fase di dete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901440" y="3452760"/>
            <a:ext cx="250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95200" y="4079880"/>
            <a:ext cx="2808360" cy="520560"/>
          </a:xfrm>
          <a:prstGeom prst="rect">
            <a:avLst/>
          </a:prstGeom>
          <a:noFill/>
          <a:ln w="0">
            <a:noFill/>
          </a:ln>
          <a:effectLst>
            <a:outerShdw dist="45929" dir="19571123" blurRad="0" rotWithShape="0">
              <a:srgbClr val="ffffff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66cc"/>
                </a:solidFill>
                <a:latin typeface="Arial"/>
              </a:rPr>
              <a:t>Sviluppi futur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941760" y="3255840"/>
            <a:ext cx="2133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formato DICO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ECC055-D3B9-439F-A89F-5CE3CDF064A6}" type="slidenum">
              <a:t>14</a:t>
            </a:fld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"/>
          <p:cNvSpPr/>
          <p:nvPr/>
        </p:nvSpPr>
        <p:spPr>
          <a:xfrm>
            <a:off x="468360" y="5213520"/>
            <a:ext cx="4608360" cy="13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lato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Chiar.mo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Prof. RENATO CAMPAN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rrelat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Dott.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MATTEO ROFFIL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6877080" y="5213520"/>
            <a:ext cx="2197080" cy="55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sentata 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MARCO GIER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504720" y="2708280"/>
            <a:ext cx="802800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REALIZZAZIONE DI UNA APPLICAZIONE PER I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TRASFERIMENTO DI IMMAGINI MEDICHE TRAM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cc"/>
                </a:solidFill>
                <a:latin typeface="Arial"/>
              </a:rPr>
              <a:t>PROTOCOLLO DICOM</a:t>
            </a:r>
            <a:r>
              <a:rPr b="0" lang="it-IT" sz="2400" spc="-1" strike="noStrike">
                <a:solidFill>
                  <a:srgbClr val="0000cc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684360" y="549360"/>
            <a:ext cx="7561080" cy="122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00"/>
                </a:solidFill>
                <a:latin typeface="Times New Roman"/>
              </a:rPr>
              <a:t>UNIVERSITÀ DEGLI STUDI DI BOLOGNA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FACOLTÀ DI SCIENZE MATEMATICHE, FISICHE E NATURALI</a:t>
            </a:r>
            <a:br>
              <a:rPr sz="2000"/>
            </a:b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Times New Roman"/>
              </a:rPr>
              <a:t>Corso di Laurea in Scienze dell’Informazione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08000" y="146160"/>
            <a:ext cx="822960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Sommario della present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24000" y="1197000"/>
            <a:ext cx="8820000" cy="439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IG -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edical Imaging Grou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otivazioni di questo lavoro di tes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Gestione immagini med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tocollo DICOM</a:t>
            </a:r>
            <a:r>
              <a:rPr b="0" lang="it-IT" sz="2100" spc="-1" strike="noStrike">
                <a:solidFill>
                  <a:srgbClr val="000000"/>
                </a:solidFill>
                <a:latin typeface="Arial"/>
              </a:rPr>
              <a:t> -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Digital Imaging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COmunication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in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Medici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Applicazione svilupp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Conclusion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5F966DE-608F-4512-A786-E4B8228914BC}" type="slidenum">
              <a:t>2</a:t>
            </a:fld>
          </a:p>
        </p:txBody>
      </p:sp>
    </p:spTree>
  </p:cSld>
  <p:transition>
    <p:pull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6" dur="indefinite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7" dur="indefinite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" dur="indefinite"/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2" dur="indefinite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" dur="indefinite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" dur="indefinite"/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18" dur="indefinite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" dur="indefinite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" dur="indefinite"/>
                                        <p:tgtEl>
                                          <p:spTgt spid="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24" dur="indefinite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" dur="indefinite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" dur="indefinite"/>
                                        <p:tgtEl>
                                          <p:spTgt spid="5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0" dur="indefinite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" dur="indefinite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" dur="indefinite"/>
                                        <p:tgtEl>
                                          <p:spTgt spid="5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indefinite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" dur="indefinite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8" dur="indefinite"/>
                                        <p:tgtEl>
                                          <p:spTgt spid="53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0800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edical Imaging Grou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609480" y="2052720"/>
            <a:ext cx="1523880" cy="1447560"/>
            <a:chOff x="609480" y="2052720"/>
            <a:chExt cx="1523880" cy="1447560"/>
          </a:xfrm>
        </p:grpSpPr>
        <p:sp>
          <p:nvSpPr>
            <p:cNvPr id="58" name=""/>
            <p:cNvSpPr/>
            <p:nvPr/>
          </p:nvSpPr>
          <p:spPr>
            <a:xfrm>
              <a:off x="609480" y="2052720"/>
              <a:ext cx="0" cy="144756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609480" y="2052720"/>
              <a:ext cx="1523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0" name=""/>
          <p:cNvGrpSpPr/>
          <p:nvPr/>
        </p:nvGrpSpPr>
        <p:grpSpPr>
          <a:xfrm>
            <a:off x="6935760" y="4286160"/>
            <a:ext cx="1523880" cy="1447920"/>
            <a:chOff x="6935760" y="4286160"/>
            <a:chExt cx="1523880" cy="1447920"/>
          </a:xfrm>
        </p:grpSpPr>
        <p:sp>
          <p:nvSpPr>
            <p:cNvPr id="61" name=""/>
            <p:cNvSpPr/>
            <p:nvPr/>
          </p:nvSpPr>
          <p:spPr>
            <a:xfrm>
              <a:off x="8459640" y="4286160"/>
              <a:ext cx="0" cy="144792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935760" y="5734080"/>
              <a:ext cx="1523880" cy="0"/>
            </a:xfrm>
            <a:prstGeom prst="line">
              <a:avLst/>
            </a:prstGeom>
            <a:ln w="1908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900000" y="2295360"/>
            <a:ext cx="716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esto lavoro di tesi si colloca nell’ambito di un gruppo di ricerca chiamato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edical Imaging Group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MIG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900000" y="3319560"/>
            <a:ext cx="434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000" spc="-1" strike="noStrike">
                <a:solidFill>
                  <a:srgbClr val="a50021"/>
                </a:solidFill>
                <a:latin typeface="Times New Roman"/>
              </a:rPr>
              <a:t>Obiettivo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2498760" y="4467240"/>
            <a:ext cx="5688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a ricerca e lo sviluppo di metodologie ed apparati che possano aiutare i medici nella rivelazione e nella diagnosi precoce di tumori al sen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1332000" y="3645000"/>
            <a:ext cx="4611240" cy="703800"/>
            <a:chOff x="1332000" y="3645000"/>
            <a:chExt cx="4611240" cy="703800"/>
          </a:xfrm>
        </p:grpSpPr>
        <p:sp>
          <p:nvSpPr>
            <p:cNvPr id="67" name=""/>
            <p:cNvSpPr/>
            <p:nvPr/>
          </p:nvSpPr>
          <p:spPr>
            <a:xfrm>
              <a:off x="1908000" y="3645000"/>
              <a:ext cx="40352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la creazione di un sistema CAD (</a:t>
              </a:r>
              <a:r>
                <a:rPr b="0" i="1" lang="it-IT" sz="2000" spc="-1" strike="noStrike">
                  <a:solidFill>
                    <a:srgbClr val="000000"/>
                  </a:solidFill>
                  <a:latin typeface="Arial"/>
                </a:rPr>
                <a:t>Computer Aided Detection</a:t>
              </a: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332000" y="3786120"/>
              <a:ext cx="414000" cy="154080"/>
            </a:xfrm>
            <a:prstGeom prst="rightArrow">
              <a:avLst>
                <a:gd name="adj1" fmla="val 50000"/>
                <a:gd name="adj2" fmla="val 67173"/>
              </a:avLst>
            </a:prstGeom>
            <a:solidFill>
              <a:srgbClr val="0000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0240" bIns="302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9" name=""/>
          <p:cNvSpPr/>
          <p:nvPr/>
        </p:nvSpPr>
        <p:spPr>
          <a:xfrm flipH="1" flipV="1" rot="16200000">
            <a:off x="1942200" y="4717080"/>
            <a:ext cx="576360" cy="360360"/>
          </a:xfrm>
          <a:custGeom>
            <a:avLst/>
            <a:gdLst>
              <a:gd name="textAreaLeft" fmla="*/ 137880 w 576360"/>
              <a:gd name="textAreaRight" fmla="*/ 493560 w 576360"/>
              <a:gd name="textAreaTop" fmla="*/ 258840 h 360360"/>
              <a:gd name="textAreaBottom" fmla="*/ 308520 h 360360"/>
            </a:gdLst>
            <a:ahLst/>
            <a:rect l="textAreaLeft" t="textAreaTop" r="textAreaRight" b="textAreaBottom"/>
            <a:pathLst>
              <a:path w="21600" h="21600">
                <a:moveTo>
                  <a:pt x="0" y="18626"/>
                </a:moveTo>
                <a:lnTo>
                  <a:pt x="15531" y="18626"/>
                </a:lnTo>
                <a:lnTo>
                  <a:pt x="15531" y="5188"/>
                </a:lnTo>
                <a:lnTo>
                  <a:pt x="12436" y="5188"/>
                </a:lnTo>
                <a:lnTo>
                  <a:pt x="17018" y="0"/>
                </a:lnTo>
                <a:lnTo>
                  <a:pt x="21600" y="5188"/>
                </a:lnTo>
                <a:lnTo>
                  <a:pt x="18505" y="5188"/>
                </a:lnTo>
                <a:lnTo>
                  <a:pt x="18505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880" bIns="28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2E2C77-2738-43A8-8BA6-59C69BA86E9C}" type="slidenum">
              <a:t>3</a:t>
            </a:fld>
          </a:p>
        </p:txBody>
      </p:sp>
    </p:spTree>
  </p:cSld>
  <p:transition>
    <p:pull dir="r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0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" fill="hold">
                            <p:stCondLst>
                              <p:cond delay="500"/>
                            </p:stCondLst>
                            <p:childTnLst>
                              <p:par>
                                <p:cTn id="48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237960" y="2421000"/>
            <a:ext cx="8642520" cy="230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l sistema CAD agisce su immagini in formato digital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mmagini digitali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recedentemente digitalizzate partendo da mammografie su pellicole radiograf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nite in formato digitale da dispositivi di acquisizione moderni, i cosiddetti mammografi digita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66920" y="2781360"/>
            <a:ext cx="792360" cy="2160360"/>
          </a:xfrm>
          <a:custGeom>
            <a:avLst/>
            <a:gdLst>
              <a:gd name="textAreaLeft" fmla="*/ 106200 w 792360"/>
              <a:gd name="textAreaRight" fmla="*/ 686160 w 792360"/>
              <a:gd name="textAreaTop" fmla="*/ 407160 h 2160360"/>
              <a:gd name="textAreaBottom" fmla="*/ 153720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143" stAng="-5400000" swAng="5400000"/>
                <a:lnTo>
                  <a:pt x="21600" y="11298"/>
                </a:lnTo>
                <a:arcTo wR="21600" hR="8143" stAng="0" swAng="2813902"/>
                <a:lnTo>
                  <a:pt x="7186" y="21136"/>
                </a:lnTo>
                <a:lnTo>
                  <a:pt x="0" y="17863"/>
                </a:lnTo>
                <a:lnTo>
                  <a:pt x="7186" y="13661"/>
                </a:lnTo>
                <a:lnTo>
                  <a:pt x="7186" y="15821"/>
                </a:lnTo>
                <a:arcTo wR="21600" hR="8143" stAng="2813902" swAng="-2558457"/>
                <a:lnTo>
                  <a:pt x="21191" y="9720"/>
                </a:lnTo>
                <a:arcTo wR="21600" hR="8143" stAng="-255444" swAng="-5144556"/>
                <a:close/>
              </a:path>
              <a:path fill="darkenLess" w="21600" h="21600">
                <a:moveTo>
                  <a:pt x="0" y="0"/>
                </a:moveTo>
                <a:arcTo wR="21600" hR="8143" stAng="-5400000" swAng="5400000"/>
                <a:lnTo>
                  <a:pt x="21600" y="11298"/>
                </a:lnTo>
                <a:arcTo wR="21600" hR="8143" stAng="0" swAng="-255444"/>
                <a:lnTo>
                  <a:pt x="21191" y="9720"/>
                </a:lnTo>
                <a:arcTo wR="21600" hR="8143" stAng="-255444" swAng="-5144556"/>
                <a:close/>
              </a:path>
            </a:pathLst>
          </a:cu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008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otivazioni di questo lavoro di tes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384120" y="1332000"/>
            <a:ext cx="1666800" cy="1809720"/>
          </a:xfrm>
          <a:prstGeom prst="rect">
            <a:avLst/>
          </a:prstGeom>
          <a:ln w="0">
            <a:noFill/>
          </a:ln>
        </p:spPr>
      </p:pic>
      <p:pic>
        <p:nvPicPr>
          <p:cNvPr id="76" name="" descr=""/>
          <p:cNvPicPr/>
          <p:nvPr/>
        </p:nvPicPr>
        <p:blipFill>
          <a:blip r:embed="rId3"/>
          <a:stretch/>
        </p:blipFill>
        <p:spPr>
          <a:xfrm>
            <a:off x="295200" y="3716280"/>
            <a:ext cx="1927440" cy="263844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3060720" y="342252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mammograf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" descr=""/>
          <p:cNvPicPr/>
          <p:nvPr/>
        </p:nvPicPr>
        <p:blipFill>
          <a:blip r:embed="rId4"/>
          <a:stretch/>
        </p:blipFill>
        <p:spPr>
          <a:xfrm>
            <a:off x="5580000" y="4965840"/>
            <a:ext cx="1014480" cy="1357200"/>
          </a:xfrm>
          <a:prstGeom prst="rect">
            <a:avLst/>
          </a:prstGeom>
          <a:ln w="0">
            <a:noFill/>
          </a:ln>
        </p:spPr>
      </p:pic>
      <p:grpSp>
        <p:nvGrpSpPr>
          <p:cNvPr id="79" name=""/>
          <p:cNvGrpSpPr/>
          <p:nvPr/>
        </p:nvGrpSpPr>
        <p:grpSpPr>
          <a:xfrm>
            <a:off x="2340000" y="5661000"/>
            <a:ext cx="3095640" cy="504720"/>
            <a:chOff x="2340000" y="5661000"/>
            <a:chExt cx="3095640" cy="504720"/>
          </a:xfrm>
        </p:grpSpPr>
        <p:sp>
          <p:nvSpPr>
            <p:cNvPr id="80" name=""/>
            <p:cNvSpPr/>
            <p:nvPr/>
          </p:nvSpPr>
          <p:spPr>
            <a:xfrm>
              <a:off x="2340000" y="5661000"/>
              <a:ext cx="3095640" cy="504720"/>
            </a:xfrm>
            <a:prstGeom prst="rightArrow">
              <a:avLst>
                <a:gd name="adj1" fmla="val 49685"/>
                <a:gd name="adj2" fmla="val 84732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108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028320" y="5719680"/>
              <a:ext cx="1582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rchiviazi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2" name=""/>
          <p:cNvSpPr/>
          <p:nvPr/>
        </p:nvSpPr>
        <p:spPr>
          <a:xfrm flipV="1">
            <a:off x="6659640" y="3860280"/>
            <a:ext cx="360360" cy="1584360"/>
          </a:xfrm>
          <a:prstGeom prst="line">
            <a:avLst/>
          </a:prstGeom>
          <a:ln w="76320">
            <a:solidFill>
              <a:srgbClr val="ff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3" name=""/>
          <p:cNvGrpSpPr/>
          <p:nvPr/>
        </p:nvGrpSpPr>
        <p:grpSpPr>
          <a:xfrm>
            <a:off x="6664680" y="3651120"/>
            <a:ext cx="2509560" cy="2290320"/>
            <a:chOff x="6664680" y="3651120"/>
            <a:chExt cx="2509560" cy="2290320"/>
          </a:xfrm>
        </p:grpSpPr>
        <p:sp>
          <p:nvSpPr>
            <p:cNvPr id="84" name=""/>
            <p:cNvSpPr/>
            <p:nvPr/>
          </p:nvSpPr>
          <p:spPr>
            <a:xfrm flipV="1" rot="1539000">
              <a:off x="7093080" y="3715920"/>
              <a:ext cx="792360" cy="2160360"/>
            </a:xfrm>
            <a:custGeom>
              <a:avLst/>
              <a:gdLst>
                <a:gd name="textAreaLeft" fmla="*/ 106200 w 792360"/>
                <a:gd name="textAreaRight" fmla="*/ 686160 w 792360"/>
                <a:gd name="textAreaTop" fmla="*/ 407160 h 2160360"/>
                <a:gd name="textAreaBottom" fmla="*/ 1537200 h 2160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21600" hR="8143" stAng="-5400000" swAng="5400000"/>
                  <a:lnTo>
                    <a:pt x="21600" y="11298"/>
                  </a:lnTo>
                  <a:arcTo wR="21600" hR="8143" stAng="0" swAng="2813902"/>
                  <a:lnTo>
                    <a:pt x="7186" y="21136"/>
                  </a:lnTo>
                  <a:lnTo>
                    <a:pt x="0" y="17863"/>
                  </a:lnTo>
                  <a:lnTo>
                    <a:pt x="7186" y="13661"/>
                  </a:lnTo>
                  <a:lnTo>
                    <a:pt x="7186" y="15821"/>
                  </a:lnTo>
                  <a:arcTo wR="21600" hR="8143" stAng="2813902" swAng="-2558457"/>
                  <a:lnTo>
                    <a:pt x="21191" y="9720"/>
                  </a:lnTo>
                  <a:arcTo wR="21600" hR="8143" stAng="-255444" swAng="-5144556"/>
                  <a:close/>
                </a:path>
                <a:path fill="darkenLess" w="21600" h="21600">
                  <a:moveTo>
                    <a:pt x="0" y="0"/>
                  </a:moveTo>
                  <a:arcTo wR="21600" hR="8143" stAng="-5400000" swAng="5400000"/>
                  <a:lnTo>
                    <a:pt x="21600" y="11298"/>
                  </a:lnTo>
                  <a:arcTo wR="21600" hR="8143" stAng="0" swAng="-255444"/>
                  <a:lnTo>
                    <a:pt x="21191" y="9720"/>
                  </a:lnTo>
                  <a:arcTo wR="21600" hR="8143" stAng="-255444" swAng="-5144556"/>
                  <a:close/>
                </a:path>
              </a:pathLst>
            </a:cu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6942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7626600" y="5099040"/>
              <a:ext cx="1547640" cy="56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applicazion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2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sviluppa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5435640" y="765000"/>
            <a:ext cx="3085920" cy="3024360"/>
            <a:chOff x="5435640" y="765000"/>
            <a:chExt cx="3085920" cy="3024360"/>
          </a:xfrm>
        </p:grpSpPr>
        <p:sp>
          <p:nvSpPr>
            <p:cNvPr id="87" name=""/>
            <p:cNvSpPr/>
            <p:nvPr/>
          </p:nvSpPr>
          <p:spPr>
            <a:xfrm>
              <a:off x="7656480" y="765000"/>
              <a:ext cx="865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600" spc="-1" strike="noStrike">
                  <a:solidFill>
                    <a:srgbClr val="000000"/>
                  </a:solidFill>
                  <a:latin typeface="Arial"/>
                </a:rPr>
                <a:t>cluster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8" name=""/>
            <p:cNvGrpSpPr/>
            <p:nvPr/>
          </p:nvGrpSpPr>
          <p:grpSpPr>
            <a:xfrm>
              <a:off x="6300720" y="2854440"/>
              <a:ext cx="1368360" cy="934920"/>
              <a:chOff x="6300720" y="2854440"/>
              <a:chExt cx="1368360" cy="934920"/>
            </a:xfrm>
          </p:grpSpPr>
          <p:sp>
            <p:nvSpPr>
              <p:cNvPr id="89" name=""/>
              <p:cNvSpPr/>
              <p:nvPr/>
            </p:nvSpPr>
            <p:spPr>
              <a:xfrm>
                <a:off x="6300720" y="2854440"/>
                <a:ext cx="1368360" cy="934920"/>
              </a:xfrm>
              <a:prstGeom prst="cube">
                <a:avLst>
                  <a:gd name="adj" fmla="val 17319"/>
                </a:avLst>
              </a:prstGeom>
              <a:solidFill>
                <a:srgbClr val="96969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>
                <a:off x="6565680" y="3213360"/>
                <a:ext cx="7923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it-IT" sz="1800" spc="-1" strike="noStrike">
                    <a:solidFill>
                      <a:srgbClr val="ffffff"/>
                    </a:solidFill>
                    <a:latin typeface="Arial"/>
                  </a:rPr>
                  <a:t>CA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pic>
          <p:nvPicPr>
            <p:cNvPr id="91" name="" descr=""/>
            <p:cNvPicPr/>
            <p:nvPr/>
          </p:nvPicPr>
          <p:blipFill>
            <a:blip r:embed="rId5"/>
            <a:stretch/>
          </p:blipFill>
          <p:spPr>
            <a:xfrm>
              <a:off x="7991640" y="1058760"/>
              <a:ext cx="4572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" descr=""/>
            <p:cNvPicPr/>
            <p:nvPr/>
          </p:nvPicPr>
          <p:blipFill>
            <a:blip r:embed="rId6"/>
            <a:stretch/>
          </p:blipFill>
          <p:spPr>
            <a:xfrm>
              <a:off x="7346880" y="1058760"/>
              <a:ext cx="4572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" descr=""/>
            <p:cNvPicPr/>
            <p:nvPr/>
          </p:nvPicPr>
          <p:blipFill>
            <a:blip r:embed="rId7"/>
            <a:stretch/>
          </p:blipFill>
          <p:spPr>
            <a:xfrm>
              <a:off x="6684840" y="1058760"/>
              <a:ext cx="4572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" descr=""/>
            <p:cNvPicPr/>
            <p:nvPr/>
          </p:nvPicPr>
          <p:blipFill>
            <a:blip r:embed="rId8"/>
            <a:stretch/>
          </p:blipFill>
          <p:spPr>
            <a:xfrm>
              <a:off x="6037200" y="1058760"/>
              <a:ext cx="457200" cy="90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" descr=""/>
            <p:cNvPicPr/>
            <p:nvPr/>
          </p:nvPicPr>
          <p:blipFill>
            <a:blip r:embed="rId9"/>
            <a:stretch/>
          </p:blipFill>
          <p:spPr>
            <a:xfrm>
              <a:off x="5435640" y="1058760"/>
              <a:ext cx="457200" cy="905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96" name=""/>
            <p:cNvGrpSpPr/>
            <p:nvPr/>
          </p:nvGrpSpPr>
          <p:grpSpPr>
            <a:xfrm>
              <a:off x="5713560" y="1916280"/>
              <a:ext cx="2555640" cy="1008000"/>
              <a:chOff x="5713560" y="1916280"/>
              <a:chExt cx="2555640" cy="1008000"/>
            </a:xfrm>
          </p:grpSpPr>
          <p:sp>
            <p:nvSpPr>
              <p:cNvPr id="97" name=""/>
              <p:cNvSpPr/>
              <p:nvPr/>
            </p:nvSpPr>
            <p:spPr>
              <a:xfrm>
                <a:off x="5714640" y="1916280"/>
                <a:ext cx="0" cy="43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6324480" y="1916280"/>
                <a:ext cx="0" cy="43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7621560" y="1916280"/>
                <a:ext cx="0" cy="43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8269200" y="1916280"/>
                <a:ext cx="0" cy="4330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>
                <a:off x="5713560" y="2349360"/>
                <a:ext cx="255564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>
                <a:off x="6987960" y="1916280"/>
                <a:ext cx="0" cy="10080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03" name="" descr=""/>
          <p:cNvPicPr/>
          <p:nvPr/>
        </p:nvPicPr>
        <p:blipFill>
          <a:blip r:embed="rId10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104" name=""/>
          <p:cNvSpPr/>
          <p:nvPr/>
        </p:nvSpPr>
        <p:spPr>
          <a:xfrm flipH="1" rot="1153800">
            <a:off x="4859640" y="3213000"/>
            <a:ext cx="792360" cy="2160360"/>
          </a:xfrm>
          <a:custGeom>
            <a:avLst/>
            <a:gdLst>
              <a:gd name="textAreaLeft" fmla="*/ 106200 w 792360"/>
              <a:gd name="textAreaRight" fmla="*/ 686160 w 792360"/>
              <a:gd name="textAreaTop" fmla="*/ 432360 h 2160360"/>
              <a:gd name="textAreaBottom" fmla="*/ 1511640 h 21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8651" stAng="-5400000" swAng="5400000"/>
                <a:lnTo>
                  <a:pt x="21600" y="10789"/>
                </a:lnTo>
                <a:arcTo wR="21600" hR="8651" stAng="0" swAng="2108706"/>
                <a:lnTo>
                  <a:pt x="10681" y="20468"/>
                </a:lnTo>
                <a:lnTo>
                  <a:pt x="0" y="18371"/>
                </a:lnTo>
                <a:lnTo>
                  <a:pt x="10681" y="14010"/>
                </a:lnTo>
                <a:lnTo>
                  <a:pt x="10681" y="16170"/>
                </a:lnTo>
                <a:arcTo wR="21600" hR="8651" stAng="2108706" swAng="-1937398"/>
                <a:lnTo>
                  <a:pt x="21434" y="9720"/>
                </a:lnTo>
                <a:arcTo wR="21600" hR="8651" stAng="-171309" swAng="-5228691"/>
                <a:close/>
              </a:path>
              <a:path fill="darkenLess" w="21600" h="21600">
                <a:moveTo>
                  <a:pt x="0" y="0"/>
                </a:moveTo>
                <a:arcTo wR="21600" hR="8651" stAng="-5400000" swAng="5400000"/>
                <a:lnTo>
                  <a:pt x="21600" y="10789"/>
                </a:lnTo>
                <a:arcTo wR="21600" hR="8651" stAng="0" swAng="-171309"/>
                <a:lnTo>
                  <a:pt x="21434" y="9720"/>
                </a:lnTo>
                <a:arcTo wR="21600" hR="8651" stAng="-171309" swAng="-5228691"/>
                <a:close/>
              </a:path>
            </a:pathLst>
          </a:custGeom>
          <a:gradFill rotWithShape="0">
            <a:gsLst>
              <a:gs pos="0">
                <a:srgbClr val="00cc00"/>
              </a:gs>
              <a:gs pos="100000">
                <a:srgbClr val="ffffff"/>
              </a:gs>
            </a:gsLst>
            <a:lin ang="6552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2A9F96-CF7D-403D-A34A-C6D369110AE7}" type="slidenum">
              <a:t>4</a:t>
            </a:fld>
          </a:p>
        </p:txBody>
      </p:sp>
    </p:spTree>
  </p:cSld>
  <p:transition>
    <p:pull dir="r"/>
  </p:transition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7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1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84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500"/>
                            </p:stCondLst>
                            <p:childTnLst>
                              <p:par>
                                <p:cTn id="8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"/>
                            </p:stCondLst>
                            <p:childTnLst>
                              <p:par>
                                <p:cTn id="110" nodeType="afterEffect" fill="hold" presetClass="entr" presetID="22" presetSubtype="4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2" dur="1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1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xit" presetID="22" presetSubtype="4">
                                  <p:stCondLst>
                                    <p:cond delay="0"/>
                                  </p:stCondLst>
                                  <p:childTnLst>
                                    <p:animEffect filter="wipe(down)" transition="out">
                                      <p:cBhvr additive="repl">
                                        <p:cTn id="119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5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95200" y="3097080"/>
            <a:ext cx="7156440" cy="2592360"/>
          </a:xfrm>
          <a:prstGeom prst="rightArrowCallout">
            <a:avLst>
              <a:gd name="adj1" fmla="val 27253"/>
              <a:gd name="adj2" fmla="val 25000"/>
              <a:gd name="adj3" fmla="val 33063"/>
              <a:gd name="adj4" fmla="val 79324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  <a:effectLst>
            <a:outerShdw dist="107932" dir="189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08000" y="74520"/>
            <a:ext cx="8686800" cy="63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La gestione delle immagini medich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295200" y="907560"/>
            <a:ext cx="8483760" cy="161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ll'interno di un ospedale, la Radiologia è il reparto nel quale si f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aggiore uso di tecnologie avanzate.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 un ideale sistema informativo integrato per la Radiologia, dovrebbe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ssere presenti le seguenti funzionalità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812000" y="2933640"/>
            <a:ext cx="628560" cy="5716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HI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7840800" y="4024440"/>
            <a:ext cx="62856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RI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7800840" y="5089680"/>
            <a:ext cx="760680" cy="571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PACS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113" name=""/>
          <p:cNvSpPr/>
          <p:nvPr/>
        </p:nvSpPr>
        <p:spPr>
          <a:xfrm>
            <a:off x="307800" y="3068640"/>
            <a:ext cx="5761080" cy="266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cquisizione in formato digitale delle immagini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fornite dalle diverse apparecchiature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diagnostiche e dei dati ad esse associat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laborazione ed archiviazione di informazioni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relative ai diversi momenti della storia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clinica del pazien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ndivisione in rete di tutte le informazioni </a:t>
            </a:r>
            <a:br>
              <a:rPr sz="2000"/>
            </a:b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  di utilità clinica ed amministrativ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08000" y="3502080"/>
            <a:ext cx="896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stema Informativo Radiologico, responsabile prevalentemente della gestione delle attività specifiche locali (programmazione degli esami, esecuzione esame,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rchiviazione e distribuzione dei refert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108000" y="5300640"/>
            <a:ext cx="89647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stema per l'Archiviazione e la Comunicazione delle Immagini, responsabile della parte riguardante le immagini (acquisizione, archiviazione e distribuzione d’immagini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22400" y="1685880"/>
            <a:ext cx="89643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stema Informativo Ospedaliero, responsabile prevalentemente della gestione complessiva del paziente (accettazione, prenotazione di esami, fatturazione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22120" y="1168560"/>
            <a:ext cx="4681800" cy="4135320"/>
            <a:chOff x="222120" y="1168560"/>
            <a:chExt cx="4681800" cy="4135320"/>
          </a:xfrm>
        </p:grpSpPr>
        <p:sp>
          <p:nvSpPr>
            <p:cNvPr id="118" name=""/>
            <p:cNvSpPr txBox="1"/>
            <p:nvPr/>
          </p:nvSpPr>
          <p:spPr>
            <a:xfrm>
              <a:off x="239760" y="4767120"/>
              <a:ext cx="847800" cy="5050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2232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33ccff"/>
                      </a:gs>
                    </a:gsLst>
                    <a:lin ang="5400000"/>
                  </a:gradFill>
                  <a:latin typeface="Impact"/>
                </a:rPr>
                <a:t>PACS</a:t>
              </a:r>
              <a:endParaRPr b="0" lang="en-US" sz="32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33ccff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19" name=""/>
            <p:cNvSpPr txBox="1"/>
            <p:nvPr/>
          </p:nvSpPr>
          <p:spPr>
            <a:xfrm>
              <a:off x="222120" y="2959200"/>
              <a:ext cx="54288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2232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33ccff"/>
                      </a:gs>
                    </a:gsLst>
                    <a:lin ang="5400000"/>
                  </a:gradFill>
                  <a:latin typeface="Impact"/>
                </a:rPr>
                <a:t>RIS</a:t>
              </a:r>
              <a:endParaRPr b="0" lang="en-US" sz="32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33ccff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20" name=""/>
            <p:cNvSpPr txBox="1"/>
            <p:nvPr/>
          </p:nvSpPr>
          <p:spPr>
            <a:xfrm>
              <a:off x="1360440" y="5056200"/>
              <a:ext cx="3543480" cy="24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33ccff"/>
                      </a:gs>
                    </a:gsLst>
                    <a:lin ang="5400000"/>
                  </a:gradFill>
                  <a:latin typeface="Impact"/>
                </a:rPr>
                <a:t>Picture Archiving and Communication System</a:t>
              </a:r>
              <a:endParaRPr b="0" lang="en-US" sz="1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33ccff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21" name=""/>
            <p:cNvSpPr txBox="1"/>
            <p:nvPr/>
          </p:nvSpPr>
          <p:spPr>
            <a:xfrm>
              <a:off x="1041480" y="3243240"/>
              <a:ext cx="2781360" cy="24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33ccff"/>
                      </a:gs>
                    </a:gsLst>
                    <a:lin ang="5400000"/>
                  </a:gradFill>
                  <a:latin typeface="Impact"/>
                </a:rPr>
                <a:t>Radiological Information System </a:t>
              </a:r>
              <a:endParaRPr b="0" lang="en-US" sz="1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33ccff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22" name=""/>
            <p:cNvSpPr txBox="1"/>
            <p:nvPr/>
          </p:nvSpPr>
          <p:spPr>
            <a:xfrm>
              <a:off x="222120" y="1168560"/>
              <a:ext cx="552600" cy="50472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200" spc="1" strike="noStrike">
                  <a:ln w="2232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33ccff"/>
                      </a:gs>
                    </a:gsLst>
                    <a:lin ang="5400000"/>
                  </a:gradFill>
                  <a:latin typeface="Impact"/>
                </a:rPr>
                <a:t>HIS</a:t>
              </a:r>
              <a:endParaRPr b="0" lang="en-US" sz="3200" spc="1" strike="noStrike">
                <a:ln w="2232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33ccff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  <p:sp>
          <p:nvSpPr>
            <p:cNvPr id="123" name=""/>
            <p:cNvSpPr txBox="1"/>
            <p:nvPr/>
          </p:nvSpPr>
          <p:spPr>
            <a:xfrm>
              <a:off x="1068480" y="1441440"/>
              <a:ext cx="2495520" cy="24768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66cc"/>
                      </a:gs>
                      <a:gs pos="100000">
                        <a:srgbClr val="33ccff"/>
                      </a:gs>
                    </a:gsLst>
                    <a:lin ang="5400000"/>
                  </a:gradFill>
                  <a:latin typeface="Impact"/>
                </a:rPr>
                <a:t>Hospital Information System </a:t>
              </a:r>
              <a:endParaRPr b="0" lang="en-US" sz="1600" spc="1" strike="noStrike">
                <a:ln w="1260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66cc"/>
                    </a:gs>
                    <a:gs pos="100000">
                      <a:srgbClr val="33ccff"/>
                    </a:gs>
                  </a:gsLst>
                  <a:lin ang="5400000"/>
                </a:gradFill>
                <a:latin typeface="Impact"/>
                <a:ea typeface="Impact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3C71E7-86C1-45A8-AC20-FFD26B77154D}" type="slidenum">
              <a:t>5</a:t>
            </a:fld>
          </a:p>
        </p:txBody>
      </p:sp>
    </p:spTree>
  </p:cSld>
  <p:transition>
    <p:pull dir="r"/>
  </p:transition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fill="hold">
                      <p:stCondLst>
                        <p:cond delay="indefinite"/>
                      </p:stCondLst>
                      <p:childTnLst>
                        <p:par>
                          <p:cTn id="145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6" fill="hold">
                      <p:stCondLst>
                        <p:cond delay="indefinite"/>
                      </p:stCondLst>
                      <p:childTnLst>
                        <p:par>
                          <p:cTn id="157" fill="hold">
                            <p:stCondLst>
                              <p:cond delay="0"/>
                            </p:stCondLst>
                            <p:childTnLst>
                              <p:par>
                                <p:cTn id="15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500"/>
                            </p:stCondLst>
                            <p:childTnLst>
                              <p:par>
                                <p:cTn id="162" nodeType="afterEffect" fill="hold" presetClass="entr" presetID="9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4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1400"/>
                            </p:stCondLst>
                            <p:childTnLst>
                              <p:par>
                                <p:cTn id="16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1900"/>
                            </p:stCondLst>
                            <p:childTnLst>
                              <p:par>
                                <p:cTn id="1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2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76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78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1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3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86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88" dur="5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1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3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96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98" dur="500"/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1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3" dur="500"/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06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08" dur="500"/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1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3" dur="500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16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18" dur="500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1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3" dur="500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6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28" dur="500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500"/>
                            </p:stCondLst>
                            <p:childTnLst>
                              <p:par>
                                <p:cTn id="23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5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0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5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0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871560" y="1846440"/>
            <a:ext cx="82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ntegrazione dei dati clinici dei diversi Sistemi Informativi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900000" y="836640"/>
            <a:ext cx="8062920" cy="5716440"/>
          </a:xfrm>
          <a:prstGeom prst="roundRect">
            <a:avLst>
              <a:gd name="adj" fmla="val 8213"/>
            </a:avLst>
          </a:prstGeom>
          <a:solidFill>
            <a:srgbClr val="ffffff"/>
          </a:solidFill>
          <a:ln w="648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824120" y="979560"/>
            <a:ext cx="395280" cy="590400"/>
          </a:xfrm>
          <a:prstGeom prst="rect">
            <a:avLst/>
          </a:prstGeom>
          <a:ln w="0">
            <a:noFill/>
          </a:ln>
        </p:spPr>
      </p:pic>
      <p:pic>
        <p:nvPicPr>
          <p:cNvPr id="128" name="" descr=""/>
          <p:cNvPicPr/>
          <p:nvPr/>
        </p:nvPicPr>
        <p:blipFill>
          <a:blip r:embed="rId3"/>
          <a:stretch/>
        </p:blipFill>
        <p:spPr>
          <a:xfrm>
            <a:off x="4202280" y="979560"/>
            <a:ext cx="312480" cy="42552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4"/>
          <a:stretch/>
        </p:blipFill>
        <p:spPr>
          <a:xfrm>
            <a:off x="4068720" y="1131840"/>
            <a:ext cx="271440" cy="37008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5"/>
          <a:stretch/>
        </p:blipFill>
        <p:spPr>
          <a:xfrm>
            <a:off x="6227640" y="993600"/>
            <a:ext cx="615960" cy="6591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6"/>
          <a:stretch/>
        </p:blipFill>
        <p:spPr>
          <a:xfrm>
            <a:off x="7829640" y="907920"/>
            <a:ext cx="633240" cy="608040"/>
          </a:xfrm>
          <a:prstGeom prst="rect">
            <a:avLst/>
          </a:prstGeom>
          <a:ln w="0">
            <a:noFill/>
          </a:ln>
        </p:spPr>
      </p:pic>
      <p:sp>
        <p:nvSpPr>
          <p:cNvPr id="132" name=""/>
          <p:cNvSpPr/>
          <p:nvPr/>
        </p:nvSpPr>
        <p:spPr>
          <a:xfrm>
            <a:off x="4263120" y="1346040"/>
            <a:ext cx="11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TIFF,BMP,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6864840" y="136044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Mod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035080" y="1589040"/>
            <a:ext cx="1800" cy="247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343400" y="1589040"/>
            <a:ext cx="1440" cy="247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6408720" y="1603440"/>
            <a:ext cx="1440" cy="2919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7"/>
          <a:stretch/>
        </p:blipFill>
        <p:spPr>
          <a:xfrm>
            <a:off x="1790640" y="1801800"/>
            <a:ext cx="469800" cy="474840"/>
          </a:xfrm>
          <a:prstGeom prst="rect">
            <a:avLst/>
          </a:prstGeom>
          <a:ln w="0">
            <a:noFill/>
          </a:ln>
        </p:spPr>
      </p:pic>
      <p:sp>
        <p:nvSpPr>
          <p:cNvPr id="138" name=""/>
          <p:cNvSpPr/>
          <p:nvPr/>
        </p:nvSpPr>
        <p:spPr>
          <a:xfrm>
            <a:off x="1411200" y="2884320"/>
            <a:ext cx="7194600" cy="874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0680" bIns="406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8"/>
          <a:stretch/>
        </p:blipFill>
        <p:spPr>
          <a:xfrm>
            <a:off x="1700280" y="5715000"/>
            <a:ext cx="1360440" cy="79524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1468440" y="4683240"/>
            <a:ext cx="914400" cy="247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76480" y="4683240"/>
            <a:ext cx="1130400" cy="247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Consult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930320" y="494028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638600" y="4683240"/>
            <a:ext cx="1238400" cy="247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Visualizz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959520" y="4683240"/>
            <a:ext cx="914400" cy="247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Sta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473200" y="5543640"/>
            <a:ext cx="1800" cy="228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6464160" y="5524560"/>
            <a:ext cx="1800" cy="266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9"/>
          <a:stretch/>
        </p:blipFill>
        <p:spPr>
          <a:xfrm>
            <a:off x="3852720" y="5661000"/>
            <a:ext cx="1295640" cy="84132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4361040" y="5524560"/>
            <a:ext cx="1440" cy="2667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175120" y="127476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Scan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0"/>
          <a:srcRect l="0" t="0" r="0" b="20742"/>
          <a:stretch/>
        </p:blipFill>
        <p:spPr>
          <a:xfrm>
            <a:off x="5940360" y="5681520"/>
            <a:ext cx="1368360" cy="782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1411200" y="5473800"/>
            <a:ext cx="7128000" cy="1000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411200" y="4038480"/>
            <a:ext cx="3962520" cy="889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120" bIns="421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133280" y="3389400"/>
            <a:ext cx="134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Image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1"/>
          <a:stretch/>
        </p:blipFill>
        <p:spPr>
          <a:xfrm>
            <a:off x="6983280" y="3357720"/>
            <a:ext cx="457200" cy="533160"/>
          </a:xfrm>
          <a:prstGeom prst="rect">
            <a:avLst/>
          </a:prstGeom>
          <a:ln w="0">
            <a:noFill/>
          </a:ln>
        </p:spPr>
      </p:pic>
      <p:sp>
        <p:nvSpPr>
          <p:cNvPr id="155" name=""/>
          <p:cNvSpPr/>
          <p:nvPr/>
        </p:nvSpPr>
        <p:spPr>
          <a:xfrm>
            <a:off x="7600680" y="378000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Stampa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6" name="" descr=""/>
          <p:cNvPicPr/>
          <p:nvPr/>
        </p:nvPicPr>
        <p:blipFill>
          <a:blip r:embed="rId12"/>
          <a:stretch/>
        </p:blipFill>
        <p:spPr>
          <a:xfrm>
            <a:off x="7499520" y="3363840"/>
            <a:ext cx="444240" cy="488880"/>
          </a:xfrm>
          <a:prstGeom prst="rect">
            <a:avLst/>
          </a:prstGeom>
          <a:ln w="0">
            <a:noFill/>
          </a:ln>
        </p:spPr>
      </p:pic>
      <p:pic>
        <p:nvPicPr>
          <p:cNvPr id="157" name="" descr=""/>
          <p:cNvPicPr/>
          <p:nvPr/>
        </p:nvPicPr>
        <p:blipFill>
          <a:blip r:embed="rId13"/>
          <a:stretch/>
        </p:blipFill>
        <p:spPr>
          <a:xfrm>
            <a:off x="4114800" y="1801800"/>
            <a:ext cx="468360" cy="474840"/>
          </a:xfrm>
          <a:prstGeom prst="rect">
            <a:avLst/>
          </a:prstGeom>
          <a:ln w="0">
            <a:noFill/>
          </a:ln>
        </p:spPr>
      </p:pic>
      <p:pic>
        <p:nvPicPr>
          <p:cNvPr id="158" name="" descr=""/>
          <p:cNvPicPr/>
          <p:nvPr/>
        </p:nvPicPr>
        <p:blipFill>
          <a:blip r:embed="rId14"/>
          <a:stretch/>
        </p:blipFill>
        <p:spPr>
          <a:xfrm>
            <a:off x="6192720" y="1816200"/>
            <a:ext cx="468360" cy="47448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7689960" y="1898640"/>
            <a:ext cx="914400" cy="247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Aquisi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4581360" y="1928880"/>
            <a:ext cx="914400" cy="247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Cap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289240" y="1930320"/>
            <a:ext cx="914400" cy="24768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Sc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5"/>
          <a:stretch/>
        </p:blipFill>
        <p:spPr>
          <a:xfrm>
            <a:off x="3103560" y="3048120"/>
            <a:ext cx="663480" cy="914400"/>
          </a:xfrm>
          <a:prstGeom prst="rect">
            <a:avLst/>
          </a:prstGeom>
          <a:ln w="0">
            <a:noFill/>
          </a:ln>
        </p:spPr>
      </p:pic>
      <p:pic>
        <p:nvPicPr>
          <p:cNvPr id="163" name="" descr=""/>
          <p:cNvPicPr/>
          <p:nvPr/>
        </p:nvPicPr>
        <p:blipFill>
          <a:blip r:embed="rId16"/>
          <a:stretch/>
        </p:blipFill>
        <p:spPr>
          <a:xfrm>
            <a:off x="3894120" y="3048120"/>
            <a:ext cx="527040" cy="90468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3718080" y="3657600"/>
            <a:ext cx="1396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7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79280" y="101520"/>
            <a:ext cx="86868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Mancanza di integrazio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922400" y="4119480"/>
            <a:ext cx="0" cy="547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410600" y="4925880"/>
            <a:ext cx="0" cy="547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7402680" y="410544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5227560" y="4941720"/>
            <a:ext cx="0" cy="547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5219640" y="412128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49600" y="494028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541680" y="4119480"/>
            <a:ext cx="0" cy="5479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294840" y="1341000"/>
            <a:ext cx="2303640" cy="50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OBIET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293760" y="2766960"/>
            <a:ext cx="2303280" cy="50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BL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85960" y="3286080"/>
            <a:ext cx="72151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ncanza d’uniformità tra i sist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ncanza di uno standard per il formato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dei d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mancanza di uno standard di comunica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979640" y="227664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27664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429240" y="229248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115480" y="158580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101080" y="2276640"/>
            <a:ext cx="0" cy="54756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H="1">
            <a:off x="5508360" y="4076640"/>
            <a:ext cx="1423800" cy="144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88640" y="2019240"/>
            <a:ext cx="474840" cy="2043720"/>
          </a:xfrm>
          <a:prstGeom prst="rect">
            <a:avLst/>
          </a:prstGeom>
          <a:solidFill>
            <a:srgbClr val="3366ff"/>
          </a:solidFill>
          <a:ln w="158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200" spc="-1" strike="noStrike">
                <a:solidFill>
                  <a:srgbClr val="ffffff"/>
                </a:solidFill>
                <a:latin typeface="Arial"/>
              </a:rPr>
              <a:t>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52AF7E1-C90B-407D-930D-0F253DF7CAA7}" type="slidenum">
              <a:t>6</a:t>
            </a:fld>
          </a:p>
        </p:txBody>
      </p:sp>
    </p:spTree>
  </p:cSld>
  <p:transition>
    <p:pull dir="r"/>
  </p:transition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56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58" dur="5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1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3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66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6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71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273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500"/>
                            </p:stCondLst>
                            <p:childTnLst>
                              <p:par>
                                <p:cTn id="27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5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0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8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0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3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5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0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5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0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0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0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5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5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0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5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5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8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3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8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0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3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5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8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3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4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5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8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9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0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8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0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3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5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8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5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3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5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6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78" dur="1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9" fill="hold">
                            <p:stCondLst>
                              <p:cond delay="1500"/>
                            </p:stCondLst>
                            <p:childTnLst>
                              <p:par>
                                <p:cTn id="480" nodeType="after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2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5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88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9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1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4" dur="10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5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97" dur="1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8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0" dur="1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3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4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6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0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0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2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3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51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/>
          </p:nvPr>
        </p:nvSpPr>
        <p:spPr>
          <a:xfrm>
            <a:off x="179280" y="1195560"/>
            <a:ext cx="8785440" cy="30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Verso la fine degli anni 80, le modalità di acquisizione digitali (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modality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 modalità) iniziarono a diffondersi, ma ciascuna operava su piattaforme proprietari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Ogni modalità era considerata un sistema isola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'intercomunicazione era agevole solo all'interno di una stessa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famigli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ituazione non ideale: si sarebbe voluto che macchine di produttori diversi potessero comunicare le une con le altre e che il formato dei dati fosse comun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 type="title"/>
          </p:nvPr>
        </p:nvSpPr>
        <p:spPr>
          <a:xfrm>
            <a:off x="179280" y="101520"/>
            <a:ext cx="8686800" cy="5796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Necessità di uno standar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2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4249800" y="4078440"/>
            <a:ext cx="646200" cy="790560"/>
          </a:xfrm>
          <a:prstGeom prst="downArrow">
            <a:avLst>
              <a:gd name="adj1" fmla="val 49796"/>
              <a:gd name="adj2" fmla="val 47803"/>
            </a:avLst>
          </a:prstGeom>
          <a:gradFill rotWithShape="0">
            <a:gsLst>
              <a:gs pos="0">
                <a:srgbClr val="bbe0e3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9" name=""/>
          <p:cNvGrpSpPr/>
          <p:nvPr/>
        </p:nvGrpSpPr>
        <p:grpSpPr>
          <a:xfrm>
            <a:off x="179280" y="5013360"/>
            <a:ext cx="8785440" cy="1042920"/>
            <a:chOff x="179280" y="5013360"/>
            <a:chExt cx="8785440" cy="1042920"/>
          </a:xfrm>
        </p:grpSpPr>
        <p:sp>
          <p:nvSpPr>
            <p:cNvPr id="190" name=""/>
            <p:cNvSpPr/>
            <p:nvPr/>
          </p:nvSpPr>
          <p:spPr>
            <a:xfrm>
              <a:off x="250920" y="5013360"/>
              <a:ext cx="8642160" cy="10429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bbe0e3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179280" y="5029200"/>
              <a:ext cx="878544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000" spc="-1" strike="noStrike">
                  <a:solidFill>
                    <a:srgbClr val="000099"/>
                  </a:solidFill>
                  <a:latin typeface="Arial"/>
                  <a:ea typeface="Times New Roman"/>
                </a:rPr>
                <a:t>Necessità di standardizzare il formato delle immagini medicali in modo da poter realizzare sistemi aperti senza dover necessariamente adottare gli standard previsti dai produttori di modalità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2" name=""/>
          <p:cNvGrpSpPr/>
          <p:nvPr/>
        </p:nvGrpSpPr>
        <p:grpSpPr>
          <a:xfrm>
            <a:off x="755640" y="5013360"/>
            <a:ext cx="7561080" cy="1079280"/>
            <a:chOff x="755640" y="5013360"/>
            <a:chExt cx="7561080" cy="1079280"/>
          </a:xfrm>
        </p:grpSpPr>
        <p:sp>
          <p:nvSpPr>
            <p:cNvPr id="193" name=""/>
            <p:cNvSpPr/>
            <p:nvPr/>
          </p:nvSpPr>
          <p:spPr>
            <a:xfrm>
              <a:off x="755640" y="5013360"/>
              <a:ext cx="7561080" cy="1079280"/>
            </a:xfrm>
            <a:prstGeom prst="rect">
              <a:avLst/>
            </a:prstGeom>
            <a:gradFill rotWithShape="0">
              <a:gsLst>
                <a:gs pos="0">
                  <a:srgbClr val="bbe0e3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55640" y="5156280"/>
              <a:ext cx="7486920" cy="91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46800" bIns="46800" anchor="t">
              <a:spAutoFit/>
            </a:bodyPr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4400" spc="-1" strike="noStrike">
                  <a:solidFill>
                    <a:srgbClr val="000099"/>
                  </a:solidFill>
                  <a:latin typeface="Arial"/>
                </a:rPr>
                <a:t>DICOM</a:t>
              </a:r>
              <a:endParaRPr b="0" lang="en-US" sz="4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7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it-IT" sz="2800" spc="-1" strike="noStrike">
                  <a:solidFill>
                    <a:srgbClr val="ff0000"/>
                  </a:solidFill>
                  <a:latin typeface="Arial"/>
                </a:rPr>
                <a:t>D</a:t>
              </a:r>
              <a:r>
                <a:rPr b="1" i="1" lang="it-IT" sz="2400" spc="-1" strike="noStrike">
                  <a:solidFill>
                    <a:srgbClr val="000099"/>
                  </a:solidFill>
                  <a:latin typeface="Arial"/>
                </a:rPr>
                <a:t>igital </a:t>
              </a:r>
              <a:r>
                <a:rPr b="1" i="1" lang="it-IT" sz="2800" spc="-1" strike="noStrike">
                  <a:solidFill>
                    <a:srgbClr val="ff0000"/>
                  </a:solidFill>
                  <a:latin typeface="Arial"/>
                </a:rPr>
                <a:t>I</a:t>
              </a:r>
              <a:r>
                <a:rPr b="1" i="1" lang="it-IT" sz="2400" spc="-1" strike="noStrike">
                  <a:solidFill>
                    <a:srgbClr val="000099"/>
                  </a:solidFill>
                  <a:latin typeface="Arial"/>
                </a:rPr>
                <a:t>maging and </a:t>
              </a:r>
              <a:r>
                <a:rPr b="1" i="1" lang="it-IT" sz="2800" spc="-1" strike="noStrike">
                  <a:solidFill>
                    <a:srgbClr val="ff0000"/>
                  </a:solidFill>
                  <a:latin typeface="Arial"/>
                </a:rPr>
                <a:t>CO</a:t>
              </a:r>
              <a:r>
                <a:rPr b="1" i="1" lang="it-IT" sz="2400" spc="-1" strike="noStrike">
                  <a:solidFill>
                    <a:srgbClr val="000099"/>
                  </a:solidFill>
                  <a:latin typeface="Arial"/>
                </a:rPr>
                <a:t>mmunications in </a:t>
              </a:r>
              <a:r>
                <a:rPr b="1" i="1" lang="it-IT" sz="2800" spc="-1" strike="noStrike">
                  <a:solidFill>
                    <a:srgbClr val="ff0000"/>
                  </a:solidFill>
                  <a:latin typeface="Arial"/>
                </a:rPr>
                <a:t>M</a:t>
              </a:r>
              <a:r>
                <a:rPr b="1" i="1" lang="it-IT" sz="2400" spc="-1" strike="noStrike">
                  <a:solidFill>
                    <a:srgbClr val="000099"/>
                  </a:solidFill>
                  <a:latin typeface="Arial"/>
                </a:rPr>
                <a:t>edici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C14E95-3A04-4679-8A13-B7AB7A8B73C0}" type="slidenum">
              <a:t>7</a:t>
            </a:fld>
          </a:p>
        </p:txBody>
      </p:sp>
    </p:spTree>
  </p:cSld>
  <p:transition>
    <p:pull dir="r"/>
  </p:transition>
  <p:timing>
    <p:tnLst>
      <p:par>
        <p:cTn id="516" dur="indefinite" restart="never" nodeType="tmRoot">
          <p:childTnLst>
            <p:seq>
              <p:cTn id="517" dur="indefinite" nodeType="mainSeq">
                <p:childTnLst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22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7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33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5" fill="hold">
                            <p:stCondLst>
                              <p:cond delay="500"/>
                            </p:stCondLst>
                            <p:childTnLst>
                              <p:par>
                                <p:cTn id="53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7596360" y="2924280"/>
            <a:ext cx="1428480" cy="1038240"/>
          </a:xfrm>
          <a:prstGeom prst="rect">
            <a:avLst/>
          </a:prstGeom>
          <a:ln w="0">
            <a:noFill/>
          </a:ln>
        </p:spPr>
      </p:pic>
      <p:sp>
        <p:nvSpPr>
          <p:cNvPr id="196" name="PlaceHolder 1"/>
          <p:cNvSpPr>
            <a:spLocks noGrp="1"/>
          </p:cNvSpPr>
          <p:nvPr>
            <p:ph/>
          </p:nvPr>
        </p:nvSpPr>
        <p:spPr>
          <a:xfrm>
            <a:off x="250920" y="4723920"/>
            <a:ext cx="650880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appresenta un protocollo non proprietario e specifica 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formato per le immagini mediche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2200" indent="-322200">
              <a:spcBef>
                <a:spcPts val="499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o scambio di immagini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edi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e dati correlat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title"/>
          </p:nvPr>
        </p:nvSpPr>
        <p:spPr>
          <a:xfrm>
            <a:off x="11448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DICOM</a:t>
            </a:r>
            <a:r>
              <a:rPr b="0" lang="it-IT" sz="3000" spc="-1" strike="noStrike">
                <a:solidFill>
                  <a:srgbClr val="000000"/>
                </a:solidFill>
                <a:latin typeface="Arial"/>
              </a:rPr>
              <a:t>, lo standard per le immagini mediche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8362800" y="0"/>
            <a:ext cx="781200" cy="88272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250920" y="981000"/>
            <a:ext cx="532764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5200" y="1198440"/>
            <a:ext cx="5112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Standard mondiale per il trasferimento e la gestione delle immagini mediche attraverso apparecchiature di produttori diver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6659640" y="2924280"/>
            <a:ext cx="1366920" cy="48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Modalità di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acquisi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7496280" y="2241360"/>
            <a:ext cx="0" cy="61092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7452000" y="230364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I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282960" y="3087720"/>
            <a:ext cx="5177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Definisce l’interfaccia che rende possibile la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 u="sng">
                <a:solidFill>
                  <a:srgbClr val="000000"/>
                </a:solidFill>
                <a:uFillTx/>
                <a:latin typeface="Arial"/>
              </a:rPr>
              <a:t>connessione tra sistemi diversi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4"/>
          <a:stretch/>
        </p:blipFill>
        <p:spPr>
          <a:xfrm>
            <a:off x="7236000" y="4467240"/>
            <a:ext cx="1657080" cy="126684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5"/>
          <a:stretch/>
        </p:blipFill>
        <p:spPr>
          <a:xfrm>
            <a:off x="7093080" y="1125360"/>
            <a:ext cx="1771560" cy="1076400"/>
          </a:xfrm>
          <a:prstGeom prst="rect">
            <a:avLst/>
          </a:prstGeom>
          <a:ln w="0">
            <a:noFill/>
          </a:ln>
        </p:spPr>
      </p:pic>
      <p:sp>
        <p:nvSpPr>
          <p:cNvPr id="208" name=""/>
          <p:cNvSpPr/>
          <p:nvPr/>
        </p:nvSpPr>
        <p:spPr>
          <a:xfrm flipV="1">
            <a:off x="8675640" y="3860280"/>
            <a:ext cx="0" cy="576360"/>
          </a:xfrm>
          <a:prstGeom prst="line">
            <a:avLst/>
          </a:prstGeom>
          <a:ln w="2844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7668000" y="3922560"/>
            <a:ext cx="1029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ff0000"/>
                </a:solidFill>
                <a:latin typeface="Arial"/>
              </a:rPr>
              <a:t>DI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6">
            <a:lum bright="12000"/>
          </a:blip>
          <a:srcRect l="0" t="0" r="0" b="3231"/>
          <a:stretch/>
        </p:blipFill>
        <p:spPr>
          <a:xfrm>
            <a:off x="5796000" y="3500280"/>
            <a:ext cx="1224000" cy="790560"/>
          </a:xfrm>
          <a:prstGeom prst="rect">
            <a:avLst/>
          </a:prstGeom>
          <a:ln w="0">
            <a:noFill/>
          </a:ln>
        </p:spPr>
      </p:pic>
      <p:sp>
        <p:nvSpPr>
          <p:cNvPr id="211" name=""/>
          <p:cNvSpPr/>
          <p:nvPr/>
        </p:nvSpPr>
        <p:spPr>
          <a:xfrm>
            <a:off x="7020000" y="3933720"/>
            <a:ext cx="576360" cy="0"/>
          </a:xfrm>
          <a:prstGeom prst="line">
            <a:avLst/>
          </a:prstGeom>
          <a:ln w="19080">
            <a:solidFill>
              <a:srgbClr val="ff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2B95C7-E3FF-4EE5-BB8D-10C665799F95}" type="slidenum">
              <a:t>8</a:t>
            </a:fld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0" y="0"/>
            <a:ext cx="9144000" cy="7192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66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293760" y="966960"/>
            <a:ext cx="777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COM è uno standard basato sull’architettura Object-Oriented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293760" y="148428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informazioni del mondo reale (paziente, ricovero, immagini) modell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547920" y="1773360"/>
            <a:ext cx="6767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me oggetti informativi detti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Information Object Definition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293760" y="2276640"/>
            <a:ext cx="8569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nisce le specifiche delle operazioni denominate 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DICOM Mess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588960" y="2585880"/>
            <a:ext cx="76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Service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DIMSE)  che possono essere eseguite su questi oggetti.</a:t>
            </a:r>
            <a:r>
              <a:rPr b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82240" y="3141720"/>
            <a:ext cx="7809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e operazioni DIMSE realizzano funzionalità dette Service Clas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>
            <a:off x="8366040" y="0"/>
            <a:ext cx="777960" cy="880920"/>
          </a:xfrm>
          <a:prstGeom prst="rect">
            <a:avLst/>
          </a:prstGeom>
          <a:ln w="0">
            <a:noFill/>
          </a:ln>
        </p:spPr>
      </p:pic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14480" y="144000"/>
            <a:ext cx="822960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3200" spc="-1" strike="noStrike">
                <a:solidFill>
                  <a:srgbClr val="000000"/>
                </a:solidFill>
                <a:latin typeface="Arial"/>
              </a:rPr>
              <a:t>Architettura di DI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20720" y="3524400"/>
            <a:ext cx="457200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odality Worklist Manag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formed Procedure Step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orag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i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Query/Retriev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293760" y="5375160"/>
            <a:ext cx="885024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 algn="just">
              <a:buClr>
                <a:srgbClr val="000000"/>
              </a:buClr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ue applicazioni DICOM stabiliscono una comunicazion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una fornisce il servizio, detta Service Class Provider (SCP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’altra lo utilizza, detta Service Class User(SCU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Trasferimento di immagini mediche tramite protocollo DICOM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2A5A4A-74BC-48E2-B9BB-2CBF6C028EE4}" type="slidenum">
              <a:t>9</a:t>
            </a:fld>
          </a:p>
        </p:txBody>
      </p:sp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3-12T11:02:24Z</dcterms:created>
  <dc:creator>gierimar</dc:creator>
  <dc:description/>
  <dc:language>en-US</dc:language>
  <cp:lastModifiedBy>gierimar</cp:lastModifiedBy>
  <dcterms:modified xsi:type="dcterms:W3CDTF">2003-03-19T16:48:47Z</dcterms:modified>
  <cp:revision>257</cp:revision>
  <dc:subject/>
  <dc:title>Diapositiva 1</dc:title>
</cp:coreProperties>
</file>