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42113" cy="9893300"/>
  <p:custShowLst>
    <p:custShow name="Presentazione personalizzata 1" id="0">
      <p:sldLst>
        <p:sld r:id="rId3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732-C6B3-4B60-BEC0-B9175993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C19-1428-4993-84E2-7E4EBDDC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AD3-3970-405C-9093-8AE38015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7F8-0687-4A3A-B543-4E397DA3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A16-AE03-497A-B3F3-2D54BC12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B9B-41E2-400D-86B7-F137EFB3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4E9-4A6B-4D16-80EB-9DEAD69F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5B6-DD03-49F3-8F7F-3863432B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12B-09AE-4DDD-968B-F723D75D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8C3-D384-4464-91CB-5A8814D6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59F-DDAD-4ACB-B2F2-CA244399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7E2-C972-4327-91C9-8A4C85EB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8B93-13B9-428F-A13D-0F77E6A56732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355F-9A51-46F2-BDCB-67D553E7890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E5B-63A7-4D57-A184-DF33514055E5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8B63D-29C6-4850-A370-933575167F97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Segmen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84360" y="1125360"/>
            <a:ext cx="8135640" cy="4989600"/>
            <a:chOff x="684360" y="1125360"/>
            <a:chExt cx="8135640" cy="4989600"/>
          </a:xfrm>
        </p:grpSpPr>
        <p:sp>
          <p:nvSpPr>
            <p:cNvPr id="243" name=""/>
            <p:cNvSpPr/>
            <p:nvPr/>
          </p:nvSpPr>
          <p:spPr>
            <a:xfrm>
              <a:off x="684360" y="1125360"/>
              <a:ext cx="78483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segmentazione di un’immagine (memorizzata su un grafo) è realizzata da algoritm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artizionamento dei grafi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" y="2278080"/>
              <a:ext cx="81356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anno parte della stessa partizione nodi adiacenti aventi valori di intensità simi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403280" y="3357720"/>
              <a:ext cx="6408720" cy="2757240"/>
              <a:chOff x="1403280" y="3357720"/>
              <a:chExt cx="6408720" cy="2757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403280" y="3357720"/>
                <a:ext cx="6408720" cy="2757240"/>
                <a:chOff x="1403280" y="3357720"/>
                <a:chExt cx="6408720" cy="2757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03280" y="3357720"/>
                  <a:ext cx="6408720" cy="27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1527840" y="3419640"/>
                  <a:ext cx="6157440" cy="2615040"/>
                  <a:chOff x="1527840" y="3419640"/>
                  <a:chExt cx="6157440" cy="2615040"/>
                </a:xfrm>
              </p:grpSpPr>
              <p:pic>
                <p:nvPicPr>
                  <p:cNvPr id="24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046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1" name=""/>
                  <p:cNvSpPr/>
                  <p:nvPr/>
                </p:nvSpPr>
                <p:spPr>
                  <a:xfrm>
                    <a:off x="4418280" y="4572720"/>
                    <a:ext cx="440640" cy="317520"/>
                  </a:xfrm>
                  <a:prstGeom prst="rightArrow">
                    <a:avLst>
                      <a:gd name="adj1" fmla="val 41741"/>
                      <a:gd name="adj2" fmla="val 57656"/>
                    </a:avLst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"/>
              <p:cNvSpPr/>
              <p:nvPr/>
            </p:nvSpPr>
            <p:spPr>
              <a:xfrm>
                <a:off x="4001400" y="5169240"/>
                <a:ext cx="25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49240" y="5658480"/>
                <a:ext cx="25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26000" y="5445720"/>
                <a:ext cx="447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it-IT" sz="1600" spc="-1" strike="noStrike" baseline="-25000">
                    <a:solidFill>
                      <a:srgbClr val="000000"/>
                    </a:solidFill>
                    <a:latin typeface="Arial"/>
                  </a:rPr>
                  <a:t>x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E4F-8BF4-4BA8-89E0-B322D8A300B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21462-6A08-4AFB-B32E-16F244AE32AA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Applic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1280" y="1268280"/>
            <a:ext cx="8066160" cy="1468080"/>
            <a:chOff x="611280" y="1268280"/>
            <a:chExt cx="8066160" cy="1468080"/>
          </a:xfrm>
        </p:grpSpPr>
        <p:sp>
          <p:nvSpPr>
            <p:cNvPr id="258" name="PlaceHolder 2"/>
            <p:cNvSpPr>
              <a:spLocks noGrp="1"/>
            </p:cNvSpPr>
            <p:nvPr>
              <p:ph/>
            </p:nvPr>
          </p:nvSpPr>
          <p:spPr>
            <a:xfrm>
              <a:off x="611280" y="1268280"/>
              <a:ext cx="80661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 fontScale="95000"/>
            </a:bodyPr>
            <a:p>
              <a:pPr marL="325800" indent="-325800">
                <a:lnSpc>
                  <a:spcPct val="80000"/>
                </a:lnSpc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Si applica la tecnica di Grady alle mammografie digitali considerando solo le regioni di interesse – ROI (lesion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2000" y="2276640"/>
              <a:ext cx="72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l background (tessuto sano) rimane sfuoc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32000" y="191628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 lesioni sono “messe a fuoco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651640" y="350208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861080" y="523080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mmografia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5237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i di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52308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pionamento visivo 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165480" y="3803760"/>
            <a:ext cx="2595600" cy="1092240"/>
            <a:chOff x="3165480" y="3803760"/>
            <a:chExt cx="2595600" cy="1092240"/>
          </a:xfrm>
        </p:grpSpPr>
        <p:sp>
          <p:nvSpPr>
            <p:cNvPr id="268" name=""/>
            <p:cNvSpPr/>
            <p:nvPr/>
          </p:nvSpPr>
          <p:spPr>
            <a:xfrm rot="15640800">
              <a:off x="4116240" y="3091680"/>
              <a:ext cx="693720" cy="2516400"/>
            </a:xfrm>
            <a:custGeom>
              <a:avLst/>
              <a:gdLst>
                <a:gd name="textAreaLeft" fmla="*/ 239400 w 693720"/>
                <a:gd name="textAreaRight" fmla="*/ 454320 w 693720"/>
                <a:gd name="textAreaTop" fmla="*/ 868320 h 2516400"/>
                <a:gd name="textAreaBottom" fmla="*/ 1648080 h 251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34" y="21600"/>
                  </a:lnTo>
                  <a:lnTo>
                    <a:pt x="1026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13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28840" y="4208400"/>
              <a:ext cx="576360" cy="57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87640" y="3835440"/>
            <a:ext cx="2724120" cy="544320"/>
            <a:chOff x="2987640" y="3835440"/>
            <a:chExt cx="2724120" cy="544320"/>
          </a:xfrm>
        </p:grpSpPr>
        <p:sp>
          <p:nvSpPr>
            <p:cNvPr id="271" name=""/>
            <p:cNvSpPr/>
            <p:nvPr/>
          </p:nvSpPr>
          <p:spPr>
            <a:xfrm rot="16200000">
              <a:off x="4077360" y="2745360"/>
              <a:ext cx="544320" cy="2724120"/>
            </a:xfrm>
            <a:custGeom>
              <a:avLst/>
              <a:gdLst>
                <a:gd name="textAreaLeft" fmla="*/ 189000 w 544320"/>
                <a:gd name="textAreaRight" fmla="*/ 355320 w 544320"/>
                <a:gd name="textAreaTop" fmla="*/ 946080 h 2724120"/>
                <a:gd name="textAreaBottom" fmla="*/ 1778040 h 27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247" y="21600"/>
                  </a:lnTo>
                  <a:lnTo>
                    <a:pt x="1035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87640" y="3860640"/>
              <a:ext cx="504720" cy="504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486240" y="3205080"/>
            <a:ext cx="2303280" cy="1343520"/>
            <a:chOff x="3486240" y="3205080"/>
            <a:chExt cx="2303280" cy="1343520"/>
          </a:xfrm>
        </p:grpSpPr>
        <p:sp>
          <p:nvSpPr>
            <p:cNvPr id="274" name=""/>
            <p:cNvSpPr/>
            <p:nvPr/>
          </p:nvSpPr>
          <p:spPr>
            <a:xfrm rot="16903800">
              <a:off x="4176000" y="2796120"/>
              <a:ext cx="923760" cy="2160720"/>
            </a:xfrm>
            <a:custGeom>
              <a:avLst/>
              <a:gdLst>
                <a:gd name="textAreaLeft" fmla="*/ 317520 w 923760"/>
                <a:gd name="textAreaRight" fmla="*/ 606240 w 923760"/>
                <a:gd name="textAreaTop" fmla="*/ 742680 h 2160720"/>
                <a:gd name="textAreaBottom" fmla="*/ 141804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87" y="21600"/>
                  </a:lnTo>
                  <a:lnTo>
                    <a:pt x="1021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5280" y="3384720"/>
              <a:ext cx="719280" cy="719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412-7C7D-444A-B161-7FEC69A49A2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113FF-6E62-42CC-A24F-9FC1E9F8E88B}" type="datetime1">
              <a:rPr lang="en-US"/>
              <a:t>07/31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600"/>
                            </p:stCondLst>
                            <p:childTnLst>
                              <p:par>
                                <p:cTn id="4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6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900"/>
                            </p:stCondLst>
                            <p:childTnLst>
                              <p:par>
                                <p:cTn id="462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4" dur="2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6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9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3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8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300"/>
                            </p:stCondLst>
                            <p:childTnLst>
                              <p:par>
                                <p:cTn id="49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1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641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odolog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4360" y="1341360"/>
            <a:ext cx="7920000" cy="4248360"/>
            <a:chOff x="684360" y="1341360"/>
            <a:chExt cx="7920000" cy="4248360"/>
          </a:xfrm>
        </p:grpSpPr>
        <p:sp>
          <p:nvSpPr>
            <p:cNvPr id="279" name=""/>
            <p:cNvSpPr/>
            <p:nvPr/>
          </p:nvSpPr>
          <p:spPr>
            <a:xfrm>
              <a:off x="4788000" y="2708280"/>
              <a:ext cx="345600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88000" y="3718080"/>
              <a:ext cx="3456000" cy="86328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88000" y="5014800"/>
              <a:ext cx="3456000" cy="57492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4360" y="3573360"/>
              <a:ext cx="2735280" cy="8654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erca contor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1280" y="27813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51280" y="392904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1280" y="50799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1341360"/>
              <a:ext cx="7848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cniche sperimentate per identificare correttamente il contorno delle lesioni tumor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2D8-10BA-4A56-86CE-BABFDAEB989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4DA99-DEC9-4E73-B5E4-1684E8C536F4}" type="datetime1">
              <a:rPr lang="en-US"/>
              <a:t>07/31/26</a:t>
            </a:fld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3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8560" y="1844640"/>
              <a:ext cx="75610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520" y="523224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BB9-5DEF-4E9F-BB81-99A532FA330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C6BAD-AF66-4728-9244-012554CE343B}" type="datetime1">
              <a:rPr lang="en-US"/>
              <a:t>07/31/26</a:t>
            </a:fld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98560" y="184464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4720" y="5232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17C-D77C-4B52-ABFD-64196A1F788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ABDA4-DC0E-4C91-A21F-47F014801E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3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68360" y="1182600"/>
            <a:ext cx="7991280" cy="4873680"/>
            <a:chOff x="468360" y="1182600"/>
            <a:chExt cx="7991280" cy="487368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900000" y="184464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900000" y="3284640"/>
              <a:ext cx="7559640" cy="13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900000" y="472428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1560" y="5232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ECB-6AA6-40A9-B3D6-E383B652544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E55D8-4886-4950-8F89-607F8CFCD4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880" y="1365120"/>
            <a:ext cx="8763120" cy="4233960"/>
            <a:chOff x="380880" y="1365120"/>
            <a:chExt cx="8763120" cy="4233960"/>
          </a:xfrm>
        </p:grpSpPr>
        <p:sp>
          <p:nvSpPr>
            <p:cNvPr id="332" name=""/>
            <p:cNvSpPr/>
            <p:nvPr/>
          </p:nvSpPr>
          <p:spPr>
            <a:xfrm>
              <a:off x="958680" y="2940120"/>
              <a:ext cx="730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Esecuzione dei tes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71640" y="2436840"/>
              <a:ext cx="8172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Implementazione degli algoritmi di segmentazion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7360" y="1365120"/>
              <a:ext cx="77565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Realizzazione d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0880" y="4005360"/>
              <a:ext cx="8496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226080" indent="-226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Dal confronto visivo dei risultati dei test è emerso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41360" y="4579920"/>
              <a:ext cx="3995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Segmentazione miglior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5078520"/>
              <a:ext cx="70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Region growing + Active Contour Snak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844640"/>
              <a:ext cx="79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Advanced Segmentation Toolbox in Matlab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06F-F264-4F5B-B666-F8A8976C311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0197A-351E-4260-B0F6-4AAE956774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viluppi Fut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5640" y="1339920"/>
            <a:ext cx="7848720" cy="4249800"/>
            <a:chOff x="755640" y="1339920"/>
            <a:chExt cx="7848720" cy="4249800"/>
          </a:xfrm>
        </p:grpSpPr>
        <p:sp>
          <p:nvSpPr>
            <p:cNvPr id="342" name=""/>
            <p:cNvSpPr/>
            <p:nvPr/>
          </p:nvSpPr>
          <p:spPr>
            <a:xfrm>
              <a:off x="900000" y="2635200"/>
              <a:ext cx="3024360" cy="8636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0000" y="4724280"/>
              <a:ext cx="3097440" cy="8654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Grady /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2271240" y="3928680"/>
              <a:ext cx="504720" cy="365400"/>
            </a:xfrm>
            <a:prstGeom prst="rightArrow">
              <a:avLst>
                <a:gd name="adj1" fmla="val 41741"/>
                <a:gd name="adj2" fmla="val 5738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4500720" y="3210120"/>
              <a:ext cx="1874520" cy="187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6588000" y="3210120"/>
              <a:ext cx="1873440" cy="1873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7" name=""/>
            <p:cNvSpPr/>
            <p:nvPr/>
          </p:nvSpPr>
          <p:spPr>
            <a:xfrm>
              <a:off x="755640" y="133992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secuzione di ulteriori test per il miglioramento della 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36F-DD58-4A36-A624-B7D819AEA30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B2695-BBD7-4169-88A0-9C0F84982F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3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05B-10B6-43CA-BA7D-76A2619A2506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EBD77-EB5D-4183-AF51-B8BE2869833E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826920" y="1195560"/>
            <a:ext cx="7773840" cy="4900320"/>
            <a:chOff x="826920" y="1195560"/>
            <a:chExt cx="7773840" cy="4900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993920" y="2421000"/>
              <a:ext cx="2671920" cy="36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409400" y="2709720"/>
              <a:ext cx="233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In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Mammografia           digita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2400" y="4708440"/>
              <a:ext cx="2887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Out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Segnalazione di       eventuali les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2307960" y="407520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920" y="1195560"/>
              <a:ext cx="777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si inserita nel progetto di sviluppo di un sistema CAD      per i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onoscimento di lesioni tumorali in mammografie digit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Aided Detection - C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994280" y="2421000"/>
            <a:ext cx="2670120" cy="367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E49-42B7-4413-95E9-9BA08813B2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E6ECB-70C9-464E-8621-54CD2226EA28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4560" y="1125360"/>
            <a:ext cx="8101080" cy="4969440"/>
            <a:chOff x="574560" y="1125360"/>
            <a:chExt cx="8101080" cy="4969440"/>
          </a:xfrm>
        </p:grpSpPr>
        <p:sp>
          <p:nvSpPr>
            <p:cNvPr id="63" name=""/>
            <p:cNvSpPr/>
            <p:nvPr/>
          </p:nvSpPr>
          <p:spPr>
            <a:xfrm>
              <a:off x="576360" y="2838600"/>
              <a:ext cx="190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Tahoma"/>
                </a:rPr>
                <a:t>OBIETTIV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6360" y="42274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ETODOLOG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30480" y="461628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30480" y="533700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30480" y="569592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30480" y="497664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560" y="1125360"/>
              <a:ext cx="29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ASSE TUMOR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4000" y="1508040"/>
              <a:ext cx="51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uminose sul mammogram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4000" y="1878120"/>
              <a:ext cx="74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nde variabilità in dimensione (3-40 mm), bordo e densit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24000" y="2239920"/>
              <a:ext cx="57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ifficoltà nella distinzione dalle zone s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00000" y="3284640"/>
              <a:ext cx="777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Aumento del numero di lesioni rilevate dal CAD attraverso una corretta identificazione dei loro contorn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2800" y="3381480"/>
              <a:ext cx="108000" cy="576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7C9-818D-4AFC-9C8D-73E00C0BFCB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9D471-F728-4444-8AC4-68D4C0AF08BC}" type="datetime1">
              <a:rPr lang="en-US"/>
              <a:t>07/31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55640" y="1484280"/>
            <a:ext cx="7920000" cy="4308120"/>
            <a:chOff x="755640" y="1484280"/>
            <a:chExt cx="7920000" cy="4308120"/>
          </a:xfrm>
        </p:grpSpPr>
        <p:sp>
          <p:nvSpPr>
            <p:cNvPr id="77" name=""/>
            <p:cNvSpPr/>
            <p:nvPr/>
          </p:nvSpPr>
          <p:spPr>
            <a:xfrm>
              <a:off x="755640" y="1959120"/>
              <a:ext cx="7691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no snake è una curva modellata da forze che la spingono 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formarsi alla periferia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di un ogget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5640" y="1484280"/>
              <a:ext cx="79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eliminare concavit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42920" y="3213000"/>
              <a:ext cx="2579400" cy="2579400"/>
              <a:chOff x="1042920" y="3213000"/>
              <a:chExt cx="2579400" cy="257940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2920" y="3213000"/>
                <a:ext cx="2579400" cy="25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1266840" y="3419640"/>
                <a:ext cx="2148840" cy="214920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ctive Contour Sn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227480" y="3429000"/>
            <a:ext cx="44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inizi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7480" y="4249800"/>
            <a:ext cx="415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fin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7480" y="5089680"/>
            <a:ext cx="31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5DB-9143-4037-9C7E-587D2BE8F2B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5B8A5-6A91-4552-855D-9E8C2DCD55BA}" type="datetime1">
              <a:rPr lang="en-US"/>
              <a:t>07/31/2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684360" y="1311120"/>
            <a:ext cx="8640360" cy="4921200"/>
            <a:chOff x="684360" y="1311120"/>
            <a:chExt cx="8640360" cy="49212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900000" y="2708280"/>
              <a:ext cx="3167280" cy="316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1" name=""/>
            <p:cNvSpPr/>
            <p:nvPr/>
          </p:nvSpPr>
          <p:spPr>
            <a:xfrm>
              <a:off x="684360" y="1311120"/>
              <a:ext cx="77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Raggruppa pixel adiacenti aventi valor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tensità simili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ra lor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356000" y="2421000"/>
              <a:ext cx="4897080" cy="752400"/>
              <a:chOff x="4356000" y="2421000"/>
              <a:chExt cx="4897080" cy="752400"/>
            </a:xfrm>
          </p:grpSpPr>
          <p:sp>
            <p:nvSpPr>
              <p:cNvPr id="93" name=""/>
              <p:cNvSpPr/>
              <p:nvPr/>
            </p:nvSpPr>
            <p:spPr>
              <a:xfrm>
                <a:off x="4438800" y="2805120"/>
                <a:ext cx="48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sceglie il seme R (pixel iniziale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56000" y="2421000"/>
                <a:ext cx="22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ZIALIZZAZI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356000" y="3357720"/>
              <a:ext cx="4968720" cy="2874600"/>
              <a:chOff x="4356000" y="3357720"/>
              <a:chExt cx="4968720" cy="2874600"/>
            </a:xfrm>
          </p:grpSpPr>
          <p:sp>
            <p:nvSpPr>
              <p:cNvPr id="96" name=""/>
              <p:cNvSpPr/>
              <p:nvPr/>
            </p:nvSpPr>
            <p:spPr>
              <a:xfrm>
                <a:off x="4437000" y="4311720"/>
                <a:ext cx="44053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siderano tutti i pixel p adiacenti ad R: sia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l’intensità di p corrent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7000" y="3716280"/>
                <a:ext cx="40856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alcola la media 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dei valori di intensità di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56000" y="3357720"/>
                <a:ext cx="296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CRITERIO DI SIMILARIT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8800" y="4935600"/>
                <a:ext cx="48859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 |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–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| è abbastanza piccolo           si aggiunge p ad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37000" y="5589720"/>
                <a:ext cx="488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tinua finchè nessun pixel supera        il criterio di similarità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175248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6056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056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684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684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684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6056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056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684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492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74920" y="44006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74920" y="46083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481644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684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056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7492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476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4760" y="4818240"/>
            <a:ext cx="20772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476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876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6840" y="397656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4920" y="3978360"/>
            <a:ext cx="208080" cy="21276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81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81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81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1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81200" y="48164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28760" y="44020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28760" y="46101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2760" y="419112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74920" y="37702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81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7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97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97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97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97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2760" y="39830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684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7492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1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97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13200" y="37702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13200" y="3976560"/>
            <a:ext cx="20772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1320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1320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7492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9480" y="397512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74920" y="3141720"/>
            <a:ext cx="208080" cy="1969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4760" y="46101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30320" y="4575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84160" y="269388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974-63A0-4291-8000-0B856B10CA0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81081-ABBE-4999-9C41-634A7DA57B7A}" type="datetime1">
              <a:rPr lang="en-US"/>
              <a:t>07/31/2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5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5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5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5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5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5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5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9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95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15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2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5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3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5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4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45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6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65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7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75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186920" y="3033360"/>
            <a:ext cx="864000" cy="864000"/>
            <a:chOff x="1186920" y="3033360"/>
            <a:chExt cx="864000" cy="864000"/>
          </a:xfrm>
        </p:grpSpPr>
        <p:sp>
          <p:nvSpPr>
            <p:cNvPr id="161" name=""/>
            <p:cNvSpPr/>
            <p:nvPr/>
          </p:nvSpPr>
          <p:spPr>
            <a:xfrm>
              <a:off x="1187280" y="3033720"/>
              <a:ext cx="86364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8728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5736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8728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736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55736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084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86920" y="352728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86920" y="3403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57360" y="3403800"/>
              <a:ext cx="123480" cy="12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wah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3029040"/>
            <a:ext cx="2519640" cy="25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692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692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2200" y="359712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684680"/>
            <a:ext cx="2890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469728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30680" y="3592440"/>
            <a:ext cx="28872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6692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62728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186920" y="446868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186920" y="410832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4108320"/>
            <a:ext cx="3603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26971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1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413000"/>
            <a:ext cx="7993080" cy="4466520"/>
            <a:chOff x="826920" y="1413000"/>
            <a:chExt cx="7993080" cy="4466520"/>
          </a:xfrm>
        </p:grpSpPr>
        <p:sp>
          <p:nvSpPr>
            <p:cNvPr id="189" name=""/>
            <p:cNvSpPr/>
            <p:nvPr/>
          </p:nvSpPr>
          <p:spPr>
            <a:xfrm>
              <a:off x="4127400" y="3936960"/>
              <a:ext cx="42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calcola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varianza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 delle regioni 1,2,3 e 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40360" y="4780080"/>
              <a:ext cx="4390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l pixel centrale (i, j) assume il valore della media della regione con varianza minima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6920" y="1413000"/>
              <a:ext cx="73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l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servazione dei bor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6920" y="1844640"/>
              <a:ext cx="79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Per ogni pixel dell’immagine si applica il seguente proced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27400" y="2781360"/>
              <a:ext cx="4248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suddivide una finestra quadrata in 4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regioni sovrapposte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71C-3395-4F87-8996-EA3B5E6BD42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C8F29-B62C-4D49-B9AB-195C480C59C6}" type="datetime1">
              <a:rPr lang="en-US"/>
              <a:t>07/31/26</a:t>
            </a:fld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remove" presetClass="emph" presetID="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297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"/>
                            </p:stCondLst>
                            <p:childTnLst>
                              <p:par>
                                <p:cTn id="3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0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remove" presetClass="emph" presetID="1" presetSubtype="1" repeatCount="75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06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98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1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remove" presetClass="emph" presetID="1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15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97"/>
                            </p:stCondLst>
                            <p:childTnLst>
                              <p:par>
                                <p:cTn id="3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1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24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97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10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33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133920"/>
            <a:ext cx="8435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Visualizzazione Bi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3860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inuisce la dimensione dei camp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50880" y="57261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p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421080"/>
            <a:ext cx="144360" cy="1808280"/>
          </a:xfrm>
          <a:prstGeom prst="upArrow">
            <a:avLst>
              <a:gd name="adj1" fmla="val 30398"/>
              <a:gd name="adj2" fmla="val 193228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3280" y="337968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menta la risol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197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basa sul campionamento non lineare di un immagine effettuato da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stema visivo u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0559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risoluzione spaziale non è uniform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tutta l’area osserv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01880" y="3041640"/>
            <a:ext cx="2590560" cy="2590920"/>
            <a:chOff x="1001880" y="3041640"/>
            <a:chExt cx="2590560" cy="2590920"/>
          </a:xfrm>
        </p:grpSpPr>
        <p:sp>
          <p:nvSpPr>
            <p:cNvPr id="205" name=""/>
            <p:cNvSpPr/>
            <p:nvPr/>
          </p:nvSpPr>
          <p:spPr>
            <a:xfrm>
              <a:off x="1001880" y="3041640"/>
              <a:ext cx="2590560" cy="2590920"/>
            </a:xfrm>
            <a:prstGeom prst="ellipse">
              <a:avLst/>
            </a:prstGeom>
            <a:solidFill>
              <a:srgbClr val="f8f8f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000" y="3475080"/>
              <a:ext cx="1728720" cy="1727280"/>
            </a:xfrm>
            <a:prstGeom prst="ellipse">
              <a:avLst/>
            </a:prstGeom>
            <a:solidFill>
              <a:srgbClr val="d6d6d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7520" y="3787920"/>
              <a:ext cx="1081080" cy="1081080"/>
            </a:xfrm>
            <a:prstGeom prst="ellipse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0040" y="3973680"/>
              <a:ext cx="717480" cy="718920"/>
            </a:xfrm>
            <a:prstGeom prst="ellipse">
              <a:avLst/>
            </a:prstGeom>
            <a:solidFill>
              <a:srgbClr val="474747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8680" y="4162320"/>
              <a:ext cx="346320" cy="34632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68720" y="3429000"/>
            <a:ext cx="432000" cy="1799640"/>
            <a:chOff x="4068720" y="3429000"/>
            <a:chExt cx="432000" cy="1799640"/>
          </a:xfrm>
        </p:grpSpPr>
        <p:sp>
          <p:nvSpPr>
            <p:cNvPr id="211" name=""/>
            <p:cNvSpPr/>
            <p:nvPr/>
          </p:nvSpPr>
          <p:spPr>
            <a:xfrm>
              <a:off x="4068720" y="3788640"/>
              <a:ext cx="432000" cy="364320"/>
            </a:xfrm>
            <a:prstGeom prst="rect">
              <a:avLst/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8720" y="4147560"/>
              <a:ext cx="432000" cy="362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68720" y="4507200"/>
              <a:ext cx="432000" cy="361800"/>
            </a:xfrm>
            <a:prstGeom prst="rect">
              <a:avLst/>
            </a:prstGeom>
            <a:solidFill>
              <a:srgbClr val="d6d6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68720" y="4866840"/>
              <a:ext cx="432000" cy="361800"/>
            </a:xfrm>
            <a:prstGeom prst="rect">
              <a:avLst/>
            </a:prstGeom>
            <a:solidFill>
              <a:srgbClr val="f8f8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8720" y="3429000"/>
              <a:ext cx="432000" cy="361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9EE-3D2B-43B8-9799-81BF92F4CD0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AEFF0-413D-4BF6-8D71-4FF860097D17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78480" y="4222800"/>
            <a:ext cx="2519280" cy="1295280"/>
            <a:chOff x="5478480" y="4222800"/>
            <a:chExt cx="2519280" cy="1295280"/>
          </a:xfrm>
        </p:grpSpPr>
        <p:sp>
          <p:nvSpPr>
            <p:cNvPr id="219" name=""/>
            <p:cNvSpPr/>
            <p:nvPr/>
          </p:nvSpPr>
          <p:spPr>
            <a:xfrm>
              <a:off x="5478480" y="4943520"/>
              <a:ext cx="251928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6482520" y="4292640"/>
              <a:ext cx="504720" cy="364680"/>
            </a:xfrm>
            <a:prstGeom prst="rightArrow">
              <a:avLst>
                <a:gd name="adj1" fmla="val 41741"/>
                <a:gd name="adj2" fmla="val 575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35640" y="1773360"/>
            <a:ext cx="2592360" cy="720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ma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478480" y="2709720"/>
            <a:ext cx="2592360" cy="1297080"/>
            <a:chOff x="5478480" y="2709720"/>
            <a:chExt cx="2592360" cy="1297080"/>
          </a:xfrm>
        </p:grpSpPr>
        <p:sp>
          <p:nvSpPr>
            <p:cNvPr id="223" name=""/>
            <p:cNvSpPr/>
            <p:nvPr/>
          </p:nvSpPr>
          <p:spPr>
            <a:xfrm>
              <a:off x="5478480" y="3430440"/>
              <a:ext cx="2592360" cy="5763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6482520" y="2779920"/>
              <a:ext cx="505080" cy="364680"/>
            </a:xfrm>
            <a:prstGeom prst="rightArrow">
              <a:avLst>
                <a:gd name="adj1" fmla="val 41741"/>
                <a:gd name="adj2" fmla="val 5754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229200" cy="32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768-0F3A-435F-89A1-C794C397261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B9A6D-8882-4356-9082-C4C21C627837}" type="datetime1">
              <a:rPr lang="en-US"/>
              <a:t>07/31/26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Campion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1280" y="1413000"/>
            <a:ext cx="8353440" cy="4537080"/>
            <a:chOff x="611280" y="1413000"/>
            <a:chExt cx="8353440" cy="4537080"/>
          </a:xfrm>
        </p:grpSpPr>
        <p:sp>
          <p:nvSpPr>
            <p:cNvPr id="231" name=""/>
            <p:cNvSpPr/>
            <p:nvPr/>
          </p:nvSpPr>
          <p:spPr>
            <a:xfrm>
              <a:off x="4176720" y="1844640"/>
              <a:ext cx="47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mportazione dell’immagine su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042920" y="2781360"/>
              <a:ext cx="3168720" cy="316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3" name=""/>
            <p:cNvSpPr/>
            <p:nvPr/>
          </p:nvSpPr>
          <p:spPr>
            <a:xfrm>
              <a:off x="1189080" y="5518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6360" y="3573360"/>
              <a:ext cx="3889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Nod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nformazioni su un singolo campi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6360" y="4976640"/>
              <a:ext cx="39610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Lat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diacenza fra camp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6360" y="2852640"/>
              <a:ext cx="352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Contenuto informativo di 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280" y="1413000"/>
              <a:ext cx="820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 marL="250200" indent="-25020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topologia retinale umana è rappresentata da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fo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280" y="1851120"/>
              <a:ext cx="2881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90920" y="1987560"/>
              <a:ext cx="574560" cy="217440"/>
            </a:xfrm>
            <a:prstGeom prst="leftRightArrow">
              <a:avLst>
                <a:gd name="adj1" fmla="val 43065"/>
                <a:gd name="adj2" fmla="val 59123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D87-9E96-4147-AD55-642B44DB432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B7F4E-8D16-4F9E-BBAB-449A164F71C1}" type="datetime1">
              <a:rPr lang="en-US"/>
              <a:t>07/31/26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5:18:52Z</dcterms:created>
  <dc:creator>Luca</dc:creator>
  <dc:description/>
  <dc:language>en-US</dc:language>
  <cp:lastModifiedBy>John Nash</cp:lastModifiedBy>
  <dcterms:modified xsi:type="dcterms:W3CDTF">2004-12-16T09:04:04Z</dcterms:modified>
  <cp:revision>788</cp:revision>
  <dc:subject/>
  <dc:title>Diapositiva 1</dc:title>
</cp:coreProperties>
</file>