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42113" cy="9893300"/>
  <p:custShowLst>
    <p:custShow name="Presentazione personalizzata 1" id="0">
      <p:sldLst>
        <p:sld r:id="rId3"/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B0A-1A0E-47A0-B2B3-FB605306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0B41-6468-4EF8-B44C-E085A536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3CA-CC4C-421A-AED1-9830CF9D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AE04-59D5-4CEA-8DF3-DB367D42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B6FA-64FD-4CAD-B5D0-894C9950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926A-BF97-4EED-8187-3C4D917F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AA9-FEC0-4AE4-8B80-AB027A50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558C-52C6-4D63-BD5E-BEC1BAAB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14A-6449-4B02-813A-233441A4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E16E-FB0F-4FBC-904E-806D3EA8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5135-2329-430C-9E86-109334BB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D98-E015-42A9-8305-5139503C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059C-243D-4B42-89CA-FF15FC0C4261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ABE1-65D1-43FA-BD53-5B4AAF021A1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536920"/>
            <a:ext cx="81360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Filtri non isotropici per la segmentazione di           oggetti in mammografia digi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437000"/>
            <a:ext cx="40384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422100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47640" y="628344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172360" y="4221000"/>
            <a:ext cx="0" cy="2062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4508640"/>
            <a:ext cx="3613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59400" y="6283440"/>
            <a:ext cx="3612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549360"/>
            <a:ext cx="756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LMA MATER STUDIORUM – UNIVERSITA’ DI BOLOG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DE DI CES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ACOLTA’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42920" y="4564080"/>
          <a:ext cx="7561440" cy="146376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. Renato Campani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-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tt. Matteo Roffi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ata 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ca Bologn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68360" y="249228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366696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A70-A4F6-475E-9793-D4C2AA42F7C7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5A58CA-1AD4-43E9-9D53-CA7DD12350D0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Segment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84360" y="1125360"/>
            <a:ext cx="8135640" cy="4989600"/>
            <a:chOff x="684360" y="1125360"/>
            <a:chExt cx="8135640" cy="4989600"/>
          </a:xfrm>
        </p:grpSpPr>
        <p:sp>
          <p:nvSpPr>
            <p:cNvPr id="243" name=""/>
            <p:cNvSpPr/>
            <p:nvPr/>
          </p:nvSpPr>
          <p:spPr>
            <a:xfrm>
              <a:off x="684360" y="1125360"/>
              <a:ext cx="784836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a segmentazione di un’immagine (memorizzata su un grafo) è realizzata da algoritmi di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partizionamento dei grafi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4360" y="2278080"/>
              <a:ext cx="813564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6000"/>
            </a:bodyPr>
            <a:p>
              <a:pPr marL="260640" indent="-26064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Fanno parte della stessa partizione nodi adiacenti aventi valori di intensità simili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403280" y="3357720"/>
              <a:ext cx="6408720" cy="2757240"/>
              <a:chOff x="1403280" y="3357720"/>
              <a:chExt cx="6408720" cy="27572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1403280" y="3357720"/>
                <a:ext cx="6408720" cy="2757240"/>
                <a:chOff x="1403280" y="3357720"/>
                <a:chExt cx="6408720" cy="27572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1403280" y="3357720"/>
                  <a:ext cx="6408720" cy="2757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1527840" y="3419640"/>
                  <a:ext cx="6157440" cy="2615040"/>
                  <a:chOff x="1527840" y="3419640"/>
                  <a:chExt cx="6157440" cy="2615040"/>
                </a:xfrm>
              </p:grpSpPr>
              <p:pic>
                <p:nvPicPr>
                  <p:cNvPr id="249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046840" y="3419640"/>
                    <a:ext cx="2638440" cy="26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840" y="3419640"/>
                    <a:ext cx="2638440" cy="26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1" name=""/>
                  <p:cNvSpPr/>
                  <p:nvPr/>
                </p:nvSpPr>
                <p:spPr>
                  <a:xfrm>
                    <a:off x="4418280" y="4572720"/>
                    <a:ext cx="440640" cy="317520"/>
                  </a:xfrm>
                  <a:prstGeom prst="rightArrow">
                    <a:avLst>
                      <a:gd name="adj1" fmla="val 41741"/>
                      <a:gd name="adj2" fmla="val 57656"/>
                    </a:avLst>
                  </a:pr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2" name=""/>
              <p:cNvSpPr/>
              <p:nvPr/>
            </p:nvSpPr>
            <p:spPr>
              <a:xfrm>
                <a:off x="4001400" y="5169240"/>
                <a:ext cx="257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549240" y="5658480"/>
                <a:ext cx="254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726000" y="5445720"/>
                <a:ext cx="447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0" lang="it-IT" sz="1600" spc="-1" strike="noStrike" baseline="-25000">
                    <a:solidFill>
                      <a:srgbClr val="000000"/>
                    </a:solidFill>
                    <a:latin typeface="Arial"/>
                  </a:rPr>
                  <a:t>x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68D0-4AE4-4AB2-8A1C-FD6A967A8C4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7F350-99F8-4E7D-8990-7BAA96CFB2EE}" type="datetime1">
              <a:rPr lang="en-US"/>
              <a:t>07/30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4" dur="3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Applic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11280" y="1268280"/>
            <a:ext cx="8066160" cy="1468080"/>
            <a:chOff x="611280" y="1268280"/>
            <a:chExt cx="8066160" cy="1468080"/>
          </a:xfrm>
        </p:grpSpPr>
        <p:sp>
          <p:nvSpPr>
            <p:cNvPr id="258" name="PlaceHolder 2"/>
            <p:cNvSpPr>
              <a:spLocks noGrp="1"/>
            </p:cNvSpPr>
            <p:nvPr>
              <p:ph/>
            </p:nvPr>
          </p:nvSpPr>
          <p:spPr>
            <a:xfrm>
              <a:off x="611280" y="1268280"/>
              <a:ext cx="8066160" cy="64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 fontScale="95000"/>
            </a:bodyPr>
            <a:p>
              <a:pPr marL="325800" indent="-325800">
                <a:lnSpc>
                  <a:spcPct val="80000"/>
                </a:lnSpc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Si applica la tecnica di Grady alle mammografie digitali considerando solo le regioni di interesse – ROI (lesioni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32000" y="2276640"/>
              <a:ext cx="720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Il background (tessuto sano) rimane sfuoc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32000" y="1916280"/>
              <a:ext cx="57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e lesioni sono “messe a fuoco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2200320" cy="3024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195640" y="2997360"/>
            <a:ext cx="2200320" cy="30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5651640" y="3502080"/>
            <a:ext cx="1079280" cy="1079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861080" y="5230800"/>
            <a:ext cx="25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mmografia digi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59280" y="5237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gioni di inter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59280" y="523080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mpionamento visivo 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165480" y="3803760"/>
            <a:ext cx="2595600" cy="1092240"/>
            <a:chOff x="3165480" y="3803760"/>
            <a:chExt cx="2595600" cy="1092240"/>
          </a:xfrm>
        </p:grpSpPr>
        <p:sp>
          <p:nvSpPr>
            <p:cNvPr id="268" name=""/>
            <p:cNvSpPr/>
            <p:nvPr/>
          </p:nvSpPr>
          <p:spPr>
            <a:xfrm rot="15640800">
              <a:off x="4116240" y="3091680"/>
              <a:ext cx="693720" cy="2516400"/>
            </a:xfrm>
            <a:custGeom>
              <a:avLst/>
              <a:gdLst>
                <a:gd name="textAreaLeft" fmla="*/ 239400 w 693720"/>
                <a:gd name="textAreaRight" fmla="*/ 454320 w 693720"/>
                <a:gd name="textAreaTop" fmla="*/ 868320 h 2516400"/>
                <a:gd name="textAreaBottom" fmla="*/ 1648080 h 251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1334" y="21600"/>
                  </a:lnTo>
                  <a:lnTo>
                    <a:pt x="1026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0"/>
                  </a:srgbClr>
                </a:gs>
                <a:gs pos="100000">
                  <a:srgbClr val="ff0000">
                    <a:alpha val="60392"/>
                  </a:srgbClr>
                </a:gs>
              </a:gsLst>
              <a:lin ang="113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28840" y="4208400"/>
              <a:ext cx="576360" cy="57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987640" y="3835440"/>
            <a:ext cx="2724120" cy="544320"/>
            <a:chOff x="2987640" y="3835440"/>
            <a:chExt cx="2724120" cy="544320"/>
          </a:xfrm>
        </p:grpSpPr>
        <p:sp>
          <p:nvSpPr>
            <p:cNvPr id="271" name=""/>
            <p:cNvSpPr/>
            <p:nvPr/>
          </p:nvSpPr>
          <p:spPr>
            <a:xfrm rot="16200000">
              <a:off x="4077360" y="2745360"/>
              <a:ext cx="544320" cy="2724120"/>
            </a:xfrm>
            <a:custGeom>
              <a:avLst/>
              <a:gdLst>
                <a:gd name="textAreaLeft" fmla="*/ 189000 w 544320"/>
                <a:gd name="textAreaRight" fmla="*/ 355320 w 544320"/>
                <a:gd name="textAreaTop" fmla="*/ 946080 h 2724120"/>
                <a:gd name="textAreaBottom" fmla="*/ 1778040 h 27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1247" y="21600"/>
                  </a:lnTo>
                  <a:lnTo>
                    <a:pt x="1035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0"/>
                  </a:srgbClr>
                </a:gs>
                <a:gs pos="100000">
                  <a:srgbClr val="ff0000">
                    <a:alpha val="60392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87640" y="3860640"/>
              <a:ext cx="504720" cy="504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486240" y="3205080"/>
            <a:ext cx="2303280" cy="1343520"/>
            <a:chOff x="3486240" y="3205080"/>
            <a:chExt cx="2303280" cy="1343520"/>
          </a:xfrm>
        </p:grpSpPr>
        <p:sp>
          <p:nvSpPr>
            <p:cNvPr id="274" name=""/>
            <p:cNvSpPr/>
            <p:nvPr/>
          </p:nvSpPr>
          <p:spPr>
            <a:xfrm rot="16903800">
              <a:off x="4176000" y="2796120"/>
              <a:ext cx="923760" cy="2160720"/>
            </a:xfrm>
            <a:custGeom>
              <a:avLst/>
              <a:gdLst>
                <a:gd name="textAreaLeft" fmla="*/ 317520 w 923760"/>
                <a:gd name="textAreaRight" fmla="*/ 606240 w 923760"/>
                <a:gd name="textAreaTop" fmla="*/ 742680 h 2160720"/>
                <a:gd name="textAreaBottom" fmla="*/ 1418040 h 21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1387" y="21600"/>
                  </a:lnTo>
                  <a:lnTo>
                    <a:pt x="1021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0"/>
                  </a:srgbClr>
                </a:gs>
                <a:gs pos="100000">
                  <a:srgbClr val="ff0000">
                    <a:alpha val="60392"/>
                  </a:srgbClr>
                </a:gs>
              </a:gsLst>
              <a:lin ang="100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35280" y="3384720"/>
              <a:ext cx="719280" cy="719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C128-2294-4C1D-8D66-0E1E37E4EBE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3A17E-10CD-4126-9FE2-426B7CCD36DA}" type="datetime1">
              <a:rPr lang="en-US"/>
              <a:t>07/30/26</a:t>
            </a:fld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9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600"/>
                            </p:stCondLst>
                            <p:childTnLst>
                              <p:par>
                                <p:cTn id="4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6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3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900"/>
                            </p:stCondLst>
                            <p:childTnLst>
                              <p:par>
                                <p:cTn id="462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4" dur="2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6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900"/>
                            </p:stCondLst>
                            <p:childTnLst>
                              <p:par>
                                <p:cTn id="472" nodeType="afterEffect" fill="hold" presetClass="entr" presetID="18" presetSubtype="1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3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500"/>
                            </p:stCondLst>
                            <p:childTnLst>
                              <p:par>
                                <p:cTn id="4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800"/>
                            </p:stCondLst>
                            <p:childTnLst>
                              <p:par>
                                <p:cTn id="483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300"/>
                            </p:stCondLst>
                            <p:childTnLst>
                              <p:par>
                                <p:cTn id="49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100"/>
                            </p:stCondLst>
                            <p:childTnLst>
                              <p:par>
                                <p:cTn id="49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6416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todolog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84360" y="1341360"/>
            <a:ext cx="7920000" cy="4248360"/>
            <a:chOff x="684360" y="1341360"/>
            <a:chExt cx="7920000" cy="4248360"/>
          </a:xfrm>
        </p:grpSpPr>
        <p:sp>
          <p:nvSpPr>
            <p:cNvPr id="279" name=""/>
            <p:cNvSpPr/>
            <p:nvPr/>
          </p:nvSpPr>
          <p:spPr>
            <a:xfrm>
              <a:off x="4788000" y="2708280"/>
              <a:ext cx="3456000" cy="57456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88000" y="3718080"/>
              <a:ext cx="3456000" cy="86328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Region Growing +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Active Contour Sna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88000" y="5014800"/>
              <a:ext cx="3456000" cy="57492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4360" y="3573360"/>
              <a:ext cx="2735280" cy="8654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Ricerca contorn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51280" y="278136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51280" y="392904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51280" y="507996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5640" y="1341360"/>
              <a:ext cx="78487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6000"/>
            </a:bodyPr>
            <a:p>
              <a:pPr marL="260640" indent="-26064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ecniche sperimentate per identificare correttamente il contorno delle lesioni tumorali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D49-C6E0-4954-97ED-4BEAE0A5A33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C64D1-793D-4A90-A07B-33E95AAC86EF}" type="datetime1">
              <a:rPr lang="en-US"/>
              <a:t>07/30/26</a:t>
            </a:fld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6" dur="3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ronto dei Risultati [1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68360" y="1182600"/>
            <a:ext cx="7991280" cy="4838760"/>
            <a:chOff x="468360" y="1182600"/>
            <a:chExt cx="7991280" cy="4838760"/>
          </a:xfrm>
        </p:grpSpPr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898560" y="3284640"/>
              <a:ext cx="7561080" cy="13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898560" y="1844640"/>
              <a:ext cx="7561080" cy="13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042920" y="118260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sioni tumor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54200" y="11826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i di intere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8132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64280" y="11826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 growing        +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9128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" descr=""/>
            <p:cNvPicPr/>
            <p:nvPr/>
          </p:nvPicPr>
          <p:blipFill>
            <a:blip r:embed="rId3"/>
            <a:stretch/>
          </p:blipFill>
          <p:spPr>
            <a:xfrm>
              <a:off x="898560" y="4697280"/>
              <a:ext cx="756108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468360" y="22971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8360" y="37368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9520" y="523224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CE67-18CC-4CAE-9E67-E8C94963EEF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B71A5-277F-4CDE-ABB2-988AC8518CF9}" type="datetime1">
              <a:rPr lang="en-US"/>
              <a:t>07/30/26</a:t>
            </a:fld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3" dur="3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ronto dei Risultati [2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8360" y="1182600"/>
            <a:ext cx="7991280" cy="4838760"/>
            <a:chOff x="468360" y="1182600"/>
            <a:chExt cx="7991280" cy="483876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898560" y="1844640"/>
              <a:ext cx="7561080" cy="13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2"/>
            <a:stretch/>
          </p:blipFill>
          <p:spPr>
            <a:xfrm>
              <a:off x="898560" y="3284640"/>
              <a:ext cx="7561080" cy="13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3"/>
            <a:stretch/>
          </p:blipFill>
          <p:spPr>
            <a:xfrm>
              <a:off x="898560" y="4697280"/>
              <a:ext cx="756108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042920" y="118260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sioni tumor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54200" y="11826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i di intere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8132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64280" y="11826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 growing        +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9128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8360" y="22971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8360" y="37368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4720" y="52322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ED9A-FB74-431A-8CC9-0A2699767044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F45C9-64AB-4C8A-925A-AE06FEB362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0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ronto dei Risultati [3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68360" y="1182600"/>
            <a:ext cx="7991280" cy="4873680"/>
            <a:chOff x="468360" y="1182600"/>
            <a:chExt cx="7991280" cy="4873680"/>
          </a:xfrm>
        </p:grpSpPr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900000" y="1844640"/>
              <a:ext cx="7559640" cy="13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900000" y="3284640"/>
              <a:ext cx="7559640" cy="13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3"/>
            <a:stretch/>
          </p:blipFill>
          <p:spPr>
            <a:xfrm>
              <a:off x="900000" y="4724280"/>
              <a:ext cx="755964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042920" y="118260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sioni tumor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54200" y="11826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oni di intere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8132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64280" y="11826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 growing        +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9128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8360" y="22971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8360" y="37368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1560" y="52322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i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7D48-BE58-49EB-9C44-53E0D7D2B5F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BB632-FE5D-48B2-91D3-746A98D2BE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7" dur="3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80880" y="1365120"/>
            <a:ext cx="8763120" cy="4233960"/>
            <a:chOff x="380880" y="1365120"/>
            <a:chExt cx="8763120" cy="4233960"/>
          </a:xfrm>
        </p:grpSpPr>
        <p:sp>
          <p:nvSpPr>
            <p:cNvPr id="332" name=""/>
            <p:cNvSpPr/>
            <p:nvPr/>
          </p:nvSpPr>
          <p:spPr>
            <a:xfrm>
              <a:off x="958680" y="2940120"/>
              <a:ext cx="730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Esecuzione dei tes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71640" y="2436840"/>
              <a:ext cx="8172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Implementazione degli algoritmi di segmentazion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7360" y="1365120"/>
              <a:ext cx="77565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Realizzazione d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0880" y="4005360"/>
              <a:ext cx="84963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 marL="226080" indent="-22608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Dal confronto visivo dei risultati dei test è emerso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41360" y="4579920"/>
              <a:ext cx="3995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Segmentazione miglior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32000" y="5078520"/>
              <a:ext cx="702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Arial"/>
                </a:rPr>
                <a:t>Region growing + Active Contour Snak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5640" y="1844640"/>
              <a:ext cx="79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Arial"/>
                </a:rPr>
                <a:t>Advanced Segmentation Toolbox in Matlab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A781-86A8-4710-9CB5-8F2CD9CAEAE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662E6-CD9F-4462-9746-0255A74B0F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viluppi Futu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55640" y="1339920"/>
            <a:ext cx="7848720" cy="4249800"/>
            <a:chOff x="755640" y="1339920"/>
            <a:chExt cx="7848720" cy="4249800"/>
          </a:xfrm>
        </p:grpSpPr>
        <p:sp>
          <p:nvSpPr>
            <p:cNvPr id="342" name=""/>
            <p:cNvSpPr/>
            <p:nvPr/>
          </p:nvSpPr>
          <p:spPr>
            <a:xfrm>
              <a:off x="900000" y="2635200"/>
              <a:ext cx="3024360" cy="86364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Region Growing +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Active Contour Snak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00000" y="4724280"/>
              <a:ext cx="3097440" cy="86544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Grady /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Region Grow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5400000">
              <a:off x="2271240" y="3928680"/>
              <a:ext cx="504720" cy="365400"/>
            </a:xfrm>
            <a:prstGeom prst="rightArrow">
              <a:avLst>
                <a:gd name="adj1" fmla="val 41741"/>
                <a:gd name="adj2" fmla="val 57387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" descr=""/>
            <p:cNvPicPr/>
            <p:nvPr/>
          </p:nvPicPr>
          <p:blipFill>
            <a:blip r:embed="rId1"/>
            <a:stretch/>
          </p:blipFill>
          <p:spPr>
            <a:xfrm>
              <a:off x="4500720" y="3210120"/>
              <a:ext cx="1874520" cy="1874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46" name="" descr=""/>
            <p:cNvPicPr/>
            <p:nvPr/>
          </p:nvPicPr>
          <p:blipFill>
            <a:blip r:embed="rId2"/>
            <a:stretch/>
          </p:blipFill>
          <p:spPr>
            <a:xfrm>
              <a:off x="6588000" y="3210120"/>
              <a:ext cx="1873440" cy="1873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47" name=""/>
            <p:cNvSpPr/>
            <p:nvPr/>
          </p:nvSpPr>
          <p:spPr>
            <a:xfrm>
              <a:off x="755640" y="1339920"/>
              <a:ext cx="784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Esecuzione di ulteriori test per il miglioramento della segmentazi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09E2-BB39-40A8-B837-D1299F46226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E87B2-B4D4-44AC-9895-5A83B00FFD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1" dur="3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68360" y="2536920"/>
            <a:ext cx="81360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Filtri non isotropici per la segmentazione di           oggetti in mammografia digi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4437000"/>
            <a:ext cx="40384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47640" y="422100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47640" y="628344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72360" y="4221000"/>
            <a:ext cx="0" cy="2062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0" y="4508640"/>
            <a:ext cx="3613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59400" y="6283440"/>
            <a:ext cx="3612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26920" y="549360"/>
            <a:ext cx="756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LMA MATER STUDIORUM – UNIVERSITA’ DI BOLOG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DE DI CES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ACOLTA’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042920" y="4564080"/>
          <a:ext cx="7561440" cy="146376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. Renato Campani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-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tt. Matteo Roffi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ata 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ca Bologn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468360" y="249228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8360" y="366696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C63C-F933-49B1-9572-A17603639CA5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70566-02EE-46FA-9AFB-0AF95C6A4CBA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826920" y="1195560"/>
            <a:ext cx="7773840" cy="4900320"/>
            <a:chOff x="826920" y="1195560"/>
            <a:chExt cx="7773840" cy="49003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4993920" y="2421000"/>
              <a:ext cx="2671920" cy="36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409400" y="2709720"/>
              <a:ext cx="2330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200" spc="-1" strike="noStrike">
                  <a:solidFill>
                    <a:srgbClr val="000000"/>
                  </a:solidFill>
                  <a:latin typeface="Tahoma"/>
                </a:rPr>
                <a:t>Input:</a:t>
              </a:r>
              <a:r>
                <a:rPr b="0" lang="it-IT" sz="2200" spc="-1" strike="noStrike">
                  <a:solidFill>
                    <a:srgbClr val="000000"/>
                  </a:solidFill>
                  <a:latin typeface="Tahoma"/>
                </a:rPr>
                <a:t>                 Mammografia           digita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12400" y="4708440"/>
              <a:ext cx="2887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200" spc="-1" strike="noStrike">
                  <a:solidFill>
                    <a:srgbClr val="000000"/>
                  </a:solidFill>
                  <a:latin typeface="Tahoma"/>
                </a:rPr>
                <a:t>Output:</a:t>
              </a:r>
              <a:r>
                <a:rPr b="0" lang="it-IT" sz="2200" spc="-1" strike="noStrike">
                  <a:solidFill>
                    <a:srgbClr val="000000"/>
                  </a:solidFill>
                  <a:latin typeface="Tahoma"/>
                </a:rPr>
                <a:t>                 Segnalazione di       eventuali lesion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2307960" y="407520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6920" y="1195560"/>
              <a:ext cx="7773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esi inserita nel progetto di sviluppo di un sistema CAD      per il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riconoscimento di lesioni tumorali in mammografie digitali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er Aided Detection - C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994280" y="2421000"/>
            <a:ext cx="2670120" cy="3674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AEE-6A89-45CD-B825-F60B77D058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645E1-2628-4F05-813E-27EDDF060E63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m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74560" y="1125360"/>
            <a:ext cx="8101080" cy="4969440"/>
            <a:chOff x="574560" y="1125360"/>
            <a:chExt cx="8101080" cy="4969440"/>
          </a:xfrm>
        </p:grpSpPr>
        <p:sp>
          <p:nvSpPr>
            <p:cNvPr id="63" name=""/>
            <p:cNvSpPr/>
            <p:nvPr/>
          </p:nvSpPr>
          <p:spPr>
            <a:xfrm>
              <a:off x="576360" y="2838600"/>
              <a:ext cx="190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Tahoma"/>
                </a:rPr>
                <a:t>OBIETTIV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6360" y="422748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METODOLOG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30480" y="4616280"/>
              <a:ext cx="54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Active contour snak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30480" y="5337000"/>
              <a:ext cx="54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30480" y="569592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30480" y="4976640"/>
              <a:ext cx="54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Region Grow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4560" y="1125360"/>
              <a:ext cx="295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MASSE TUMORAL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24000" y="1508040"/>
              <a:ext cx="51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Luminose sul mammogram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24000" y="1878120"/>
              <a:ext cx="745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Grande variabilità in dimensione (3-40 mm), bordo e densit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24000" y="2239920"/>
              <a:ext cx="57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Difficoltà nella distinzione dalle zone sa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00000" y="3284640"/>
              <a:ext cx="777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Aumento del numero di lesioni rilevate dal CAD attraverso una corretta identificazione dei loro contorni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12800" y="3381480"/>
              <a:ext cx="108000" cy="576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7179-4F33-42DC-90BB-753B828E754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650F5-CF3F-443D-8FAD-1B6FDF1BDAC3}" type="datetime1">
              <a:rPr lang="en-US"/>
              <a:t>07/30/26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755640" y="1484280"/>
            <a:ext cx="7920000" cy="4308120"/>
            <a:chOff x="755640" y="1484280"/>
            <a:chExt cx="7920000" cy="4308120"/>
          </a:xfrm>
        </p:grpSpPr>
        <p:sp>
          <p:nvSpPr>
            <p:cNvPr id="77" name=""/>
            <p:cNvSpPr/>
            <p:nvPr/>
          </p:nvSpPr>
          <p:spPr>
            <a:xfrm>
              <a:off x="755640" y="1959120"/>
              <a:ext cx="7691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Uno snake è una curva modellata da forze che la spingono a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conformarsi alla periferia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di un oggett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5640" y="1484280"/>
              <a:ext cx="79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Utilizzato per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eliminare concavit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42920" y="3213000"/>
              <a:ext cx="2579400" cy="2579400"/>
              <a:chOff x="1042920" y="3213000"/>
              <a:chExt cx="2579400" cy="2579400"/>
            </a:xfrm>
          </p:grpSpPr>
          <p:pic>
            <p:nvPicPr>
              <p:cNvPr id="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42920" y="3213000"/>
                <a:ext cx="2579400" cy="25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1266840" y="3419640"/>
                <a:ext cx="2148840" cy="2149200"/>
              </a:xfrm>
              <a:prstGeom prst="ellipse">
                <a:avLst/>
              </a:prstGeom>
              <a:noFill/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ctive Contour Sn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2579760" cy="2579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042920" y="3213000"/>
            <a:ext cx="2579760" cy="2579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227480" y="3429000"/>
            <a:ext cx="448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osizione iniziale dello sn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27480" y="4249800"/>
            <a:ext cx="415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osizione finale dello sn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27480" y="5089680"/>
            <a:ext cx="31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1CF4-17F9-4AF5-8357-4341E1757E5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2EC95-94B6-48D8-8DED-0AAFCD06EA11}" type="datetime1">
              <a:rPr lang="en-US"/>
              <a:t>07/30/26</a:t>
            </a:fld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684360" y="1311120"/>
            <a:ext cx="8640360" cy="4921200"/>
            <a:chOff x="684360" y="1311120"/>
            <a:chExt cx="8640360" cy="492120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900000" y="2708280"/>
              <a:ext cx="3167280" cy="3166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1" name=""/>
            <p:cNvSpPr/>
            <p:nvPr/>
          </p:nvSpPr>
          <p:spPr>
            <a:xfrm>
              <a:off x="684360" y="1311120"/>
              <a:ext cx="777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Raggruppa pixel adiacenti aventi valori di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intensità simili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ra lor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4356000" y="2421000"/>
              <a:ext cx="4897080" cy="752400"/>
              <a:chOff x="4356000" y="2421000"/>
              <a:chExt cx="4897080" cy="752400"/>
            </a:xfrm>
          </p:grpSpPr>
          <p:sp>
            <p:nvSpPr>
              <p:cNvPr id="93" name=""/>
              <p:cNvSpPr/>
              <p:nvPr/>
            </p:nvSpPr>
            <p:spPr>
              <a:xfrm>
                <a:off x="4438800" y="2805120"/>
                <a:ext cx="481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sceglie il seme R (pixel iniziale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56000" y="2421000"/>
                <a:ext cx="220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INIZIALIZZAZIO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356000" y="3357720"/>
              <a:ext cx="4968720" cy="2874600"/>
              <a:chOff x="4356000" y="3357720"/>
              <a:chExt cx="4968720" cy="2874600"/>
            </a:xfrm>
          </p:grpSpPr>
          <p:sp>
            <p:nvSpPr>
              <p:cNvPr id="96" name=""/>
              <p:cNvSpPr/>
              <p:nvPr/>
            </p:nvSpPr>
            <p:spPr>
              <a:xfrm>
                <a:off x="4437000" y="4311720"/>
                <a:ext cx="440532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considerano tutti i pixel p adiacenti ad R: sia I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 l’intensità di p corrente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37000" y="3716280"/>
                <a:ext cx="408564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calcola la media avg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 dei valori di intensità di R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56000" y="3357720"/>
                <a:ext cx="296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CRITERIO DI SIMILARITA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438800" y="4935600"/>
                <a:ext cx="488592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e |avg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 – I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| è abbastanza piccolo           si aggiunge p ad R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437000" y="5589720"/>
                <a:ext cx="4885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continua finchè nessun pixel supera        il criterio di similarità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"/>
          <p:cNvSpPr/>
          <p:nvPr/>
        </p:nvSpPr>
        <p:spPr>
          <a:xfrm>
            <a:off x="1752480" y="46101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60560" y="46101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4020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0560" y="44020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6840" y="44020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66840" y="46101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66840" y="48182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60560" y="48182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48182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056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6684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7492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74920" y="44006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74920" y="46083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74920" y="481644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684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6056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7492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4760" y="440208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4760" y="4818240"/>
            <a:ext cx="20772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44760" y="419256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28760" y="41925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66840" y="397656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74920" y="3978360"/>
            <a:ext cx="208080" cy="21276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81200" y="397656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81200" y="41925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81200" y="4400640"/>
            <a:ext cx="21600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81200" y="46083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81200" y="481644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28760" y="440208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28760" y="46101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2760" y="4191120"/>
            <a:ext cx="21600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74920" y="37702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81200" y="377028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97200" y="377028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97200" y="397656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97200" y="41925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97200" y="4400640"/>
            <a:ext cx="21600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97200" y="46083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2760" y="398304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66840" y="355428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74920" y="355428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81200" y="355428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97200" y="355428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13200" y="377028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13200" y="3976560"/>
            <a:ext cx="20772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13200" y="419256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13200" y="440208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66840" y="3338640"/>
            <a:ext cx="208080" cy="21564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74920" y="3338640"/>
            <a:ext cx="208080" cy="21564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19480" y="397512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74920" y="3141720"/>
            <a:ext cx="208080" cy="1969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egion Gr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44760" y="461016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30320" y="45752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884160" y="2693880"/>
            <a:ext cx="3195720" cy="3195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A1EC-9D96-4915-8695-2440BA8F519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43225-643C-48A0-9BB6-76580EF20793}" type="datetime1">
              <a:rPr lang="en-US"/>
              <a:t>07/30/2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5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5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5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5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5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1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15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25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35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5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5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6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65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7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75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8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85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9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95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5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1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15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2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25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3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35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4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45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5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6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65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7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75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186920" y="3033360"/>
            <a:ext cx="864000" cy="864000"/>
            <a:chOff x="1186920" y="3033360"/>
            <a:chExt cx="864000" cy="864000"/>
          </a:xfrm>
        </p:grpSpPr>
        <p:sp>
          <p:nvSpPr>
            <p:cNvPr id="161" name=""/>
            <p:cNvSpPr/>
            <p:nvPr/>
          </p:nvSpPr>
          <p:spPr>
            <a:xfrm>
              <a:off x="1187280" y="3033720"/>
              <a:ext cx="86364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87280" y="303372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57360" y="303372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87280" y="340380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57360" y="340380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557360" y="3033360"/>
              <a:ext cx="0" cy="86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680840" y="3033360"/>
              <a:ext cx="0" cy="86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186920" y="352728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186920" y="340380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57360" y="3403800"/>
              <a:ext cx="123480" cy="123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uwaha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3029040"/>
            <a:ext cx="2519640" cy="251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3029040"/>
            <a:ext cx="1440000" cy="143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66920" y="3029040"/>
            <a:ext cx="1440000" cy="143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4108320"/>
            <a:ext cx="1440000" cy="14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66920" y="4108320"/>
            <a:ext cx="1440000" cy="14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2200" y="3597120"/>
            <a:ext cx="28872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4684680"/>
            <a:ext cx="28908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4697280"/>
            <a:ext cx="28872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30680" y="3592440"/>
            <a:ext cx="28872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266920" y="3029040"/>
            <a:ext cx="0" cy="25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627280" y="3029040"/>
            <a:ext cx="0" cy="25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186920" y="4468680"/>
            <a:ext cx="251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186920" y="4108320"/>
            <a:ext cx="251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66920" y="4108320"/>
            <a:ext cx="36036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95640" y="26971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4106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26920" y="1413000"/>
            <a:ext cx="7993080" cy="4466520"/>
            <a:chOff x="826920" y="1413000"/>
            <a:chExt cx="7993080" cy="4466520"/>
          </a:xfrm>
        </p:grpSpPr>
        <p:sp>
          <p:nvSpPr>
            <p:cNvPr id="189" name=""/>
            <p:cNvSpPr/>
            <p:nvPr/>
          </p:nvSpPr>
          <p:spPr>
            <a:xfrm>
              <a:off x="4127400" y="3936960"/>
              <a:ext cx="424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Si calcola </a:t>
              </a: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media 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varianza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 delle regioni 1,2,3 e 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40360" y="4780080"/>
              <a:ext cx="4390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Il pixel centrale (i, j) assume il valore della media della regione con varianza minima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6920" y="1413000"/>
              <a:ext cx="73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Utilizzato per la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conservazione dei bord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26920" y="1844640"/>
              <a:ext cx="799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Per ogni pixel dell’immagine si applica il seguente procedi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27400" y="2781360"/>
              <a:ext cx="4248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Si suddivide una finestra quadrata in 4 </a:t>
              </a: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regioni sovrapposte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87280" y="3029040"/>
            <a:ext cx="2521080" cy="25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187280" y="3029040"/>
            <a:ext cx="2521080" cy="25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5C76-D682-4D7A-BCB4-754A64105DC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48F82-B3B4-4AE2-AEB3-9310017F8616}" type="datetime1">
              <a:rPr lang="en-US"/>
              <a:t>07/30/26</a:t>
            </a:fld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10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remove" presetClass="emph" presetID="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4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297" dur="4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"/>
                            </p:stCondLst>
                            <p:childTnLst>
                              <p:par>
                                <p:cTn id="30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100" autoRev="1" fill="hold"/>
                                        <p:tgtEl>
                                          <p:spTgt spid="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remove" presetClass="emph" presetID="1" presetSubtype="1" repeatCount="75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53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06" dur="53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98"/>
                            </p:stCondLst>
                            <p:childTnLst>
                              <p:par>
                                <p:cTn id="31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10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3" nodeType="withEffect" fill="remove" presetClass="emph" presetID="1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33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15" dur="133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197"/>
                            </p:stCondLst>
                            <p:childTnLst>
                              <p:par>
                                <p:cTn id="3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10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4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24" dur="4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97"/>
                            </p:stCondLst>
                            <p:childTnLst>
                              <p:par>
                                <p:cTn id="3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2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100" autoRev="1" fill="hold"/>
                                        <p:tgtEl>
                                          <p:spTgt spid="1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2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33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3640" y="133920"/>
            <a:ext cx="8435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Visualizzazione Bi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64000" y="386064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minuisce la dimensione dei camp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50880" y="57261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mpo vi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3421080"/>
            <a:ext cx="144360" cy="1808280"/>
          </a:xfrm>
          <a:prstGeom prst="upArrow">
            <a:avLst>
              <a:gd name="adj1" fmla="val 30398"/>
              <a:gd name="adj2" fmla="val 193228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63280" y="337968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umenta la risolu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119700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basa sul campionamento non lineare di un immagine effettuato da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istema visivo um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20559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risoluzione spaziale non è uniform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tutta l’area osserv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001880" y="3041640"/>
            <a:ext cx="2590560" cy="2590920"/>
            <a:chOff x="1001880" y="3041640"/>
            <a:chExt cx="2590560" cy="2590920"/>
          </a:xfrm>
        </p:grpSpPr>
        <p:sp>
          <p:nvSpPr>
            <p:cNvPr id="205" name=""/>
            <p:cNvSpPr/>
            <p:nvPr/>
          </p:nvSpPr>
          <p:spPr>
            <a:xfrm>
              <a:off x="1001880" y="3041640"/>
              <a:ext cx="2590560" cy="2590920"/>
            </a:xfrm>
            <a:prstGeom prst="ellipse">
              <a:avLst/>
            </a:prstGeom>
            <a:solidFill>
              <a:srgbClr val="f8f8f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40000" y="3475080"/>
              <a:ext cx="1728720" cy="1727280"/>
            </a:xfrm>
            <a:prstGeom prst="ellipse">
              <a:avLst/>
            </a:prstGeom>
            <a:solidFill>
              <a:srgbClr val="d6d6d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57520" y="3787920"/>
              <a:ext cx="1081080" cy="1081080"/>
            </a:xfrm>
            <a:prstGeom prst="ellipse">
              <a:avLst/>
            </a:prstGeom>
            <a:solidFill>
              <a:srgbClr val="80808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40040" y="3973680"/>
              <a:ext cx="717480" cy="718920"/>
            </a:xfrm>
            <a:prstGeom prst="ellipse">
              <a:avLst/>
            </a:prstGeom>
            <a:solidFill>
              <a:srgbClr val="474747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28680" y="4162320"/>
              <a:ext cx="346320" cy="346320"/>
            </a:xfrm>
            <a:prstGeom prst="ellips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068720" y="3429000"/>
            <a:ext cx="432000" cy="1799640"/>
            <a:chOff x="4068720" y="3429000"/>
            <a:chExt cx="432000" cy="1799640"/>
          </a:xfrm>
        </p:grpSpPr>
        <p:sp>
          <p:nvSpPr>
            <p:cNvPr id="211" name=""/>
            <p:cNvSpPr/>
            <p:nvPr/>
          </p:nvSpPr>
          <p:spPr>
            <a:xfrm>
              <a:off x="4068720" y="3788640"/>
              <a:ext cx="432000" cy="364320"/>
            </a:xfrm>
            <a:prstGeom prst="rect">
              <a:avLst/>
            </a:prstGeom>
            <a:solidFill>
              <a:srgbClr val="47474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68720" y="4147560"/>
              <a:ext cx="432000" cy="3625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68720" y="4507200"/>
              <a:ext cx="432000" cy="361800"/>
            </a:xfrm>
            <a:prstGeom prst="rect">
              <a:avLst/>
            </a:prstGeom>
            <a:solidFill>
              <a:srgbClr val="d6d6d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68720" y="4866840"/>
              <a:ext cx="432000" cy="361800"/>
            </a:xfrm>
            <a:prstGeom prst="rect">
              <a:avLst/>
            </a:prstGeom>
            <a:solidFill>
              <a:srgbClr val="f8f8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68720" y="3429000"/>
              <a:ext cx="432000" cy="361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53F9-EA06-4499-9B16-CD45A52925C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B416F-AB35-4EF6-929C-DE36C66EE2C9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Metodolog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478480" y="4222800"/>
            <a:ext cx="2519280" cy="1295280"/>
            <a:chOff x="5478480" y="4222800"/>
            <a:chExt cx="2519280" cy="1295280"/>
          </a:xfrm>
        </p:grpSpPr>
        <p:sp>
          <p:nvSpPr>
            <p:cNvPr id="219" name=""/>
            <p:cNvSpPr/>
            <p:nvPr/>
          </p:nvSpPr>
          <p:spPr>
            <a:xfrm>
              <a:off x="5478480" y="4943520"/>
              <a:ext cx="2519280" cy="57456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Segmentazi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6482520" y="4292640"/>
              <a:ext cx="504720" cy="364680"/>
            </a:xfrm>
            <a:prstGeom prst="rightArrow">
              <a:avLst>
                <a:gd name="adj1" fmla="val 41741"/>
                <a:gd name="adj2" fmla="val 575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35640" y="1773360"/>
            <a:ext cx="2592360" cy="720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mma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478480" y="2709720"/>
            <a:ext cx="2592360" cy="1297080"/>
            <a:chOff x="5478480" y="2709720"/>
            <a:chExt cx="2592360" cy="1297080"/>
          </a:xfrm>
        </p:grpSpPr>
        <p:sp>
          <p:nvSpPr>
            <p:cNvPr id="223" name=""/>
            <p:cNvSpPr/>
            <p:nvPr/>
          </p:nvSpPr>
          <p:spPr>
            <a:xfrm>
              <a:off x="5478480" y="3430440"/>
              <a:ext cx="2592360" cy="57636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Campion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5400000">
              <a:off x="6482520" y="2779920"/>
              <a:ext cx="505080" cy="364680"/>
            </a:xfrm>
            <a:prstGeom prst="rightArrow">
              <a:avLst>
                <a:gd name="adj1" fmla="val 41741"/>
                <a:gd name="adj2" fmla="val 57541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3229200" cy="32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3227400" cy="322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042920" y="2060640"/>
            <a:ext cx="3227400" cy="322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8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75C4-949F-426A-B1E1-5AAB9E51354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616FA-8C25-46E2-A782-EC8B33824937}" type="datetime1">
              <a:rPr lang="en-US"/>
              <a:t>07/30/26</a:t>
            </a:fld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1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4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Campion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11280" y="1413000"/>
            <a:ext cx="8353440" cy="4537080"/>
            <a:chOff x="611280" y="1413000"/>
            <a:chExt cx="8353440" cy="4537080"/>
          </a:xfrm>
        </p:grpSpPr>
        <p:sp>
          <p:nvSpPr>
            <p:cNvPr id="231" name=""/>
            <p:cNvSpPr/>
            <p:nvPr/>
          </p:nvSpPr>
          <p:spPr>
            <a:xfrm>
              <a:off x="4176720" y="1844640"/>
              <a:ext cx="47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Importazione dell’immagine su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1042920" y="2781360"/>
              <a:ext cx="3168720" cy="3168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33" name=""/>
            <p:cNvSpPr/>
            <p:nvPr/>
          </p:nvSpPr>
          <p:spPr>
            <a:xfrm>
              <a:off x="1189080" y="55180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6360" y="3573360"/>
              <a:ext cx="38894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Nodi: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Informazioni su un singolo campio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16360" y="4976640"/>
              <a:ext cx="396108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Lati: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Adiacenza fra campion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16360" y="2852640"/>
              <a:ext cx="3529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Contenuto informativo di 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1280" y="1413000"/>
              <a:ext cx="820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3000"/>
            </a:bodyPr>
            <a:p>
              <a:pPr marL="250200" indent="-25020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a topologia retinale umana è rappresentata dal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grafo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1280" y="1851120"/>
              <a:ext cx="2881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318960" indent="-31896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Campion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90920" y="1987560"/>
              <a:ext cx="574560" cy="217440"/>
            </a:xfrm>
            <a:prstGeom prst="leftRightArrow">
              <a:avLst>
                <a:gd name="adj1" fmla="val 43065"/>
                <a:gd name="adj2" fmla="val 59123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C8C9-362E-4814-8143-6E86839DFEA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B90CD-CDF8-47C8-A9BB-03B80660CDDC}" type="datetime1">
              <a:rPr lang="en-US"/>
              <a:t>07/30/26</a:t>
            </a:fld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7" dur="3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15:18:52Z</dcterms:created>
  <dc:creator>Luca</dc:creator>
  <dc:description/>
  <dc:language>en-US</dc:language>
  <cp:lastModifiedBy>John Nash</cp:lastModifiedBy>
  <dcterms:modified xsi:type="dcterms:W3CDTF">2004-12-16T09:04:04Z</dcterms:modified>
  <cp:revision>788</cp:revision>
  <dc:subject/>
  <dc:title>Diapositiva 1</dc:title>
</cp:coreProperties>
</file>