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17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6D595-7E8E-4A31-8027-9546BB7FD6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AAE87-B8A6-4511-AE5D-103140965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5BE0-5083-4A17-AA8E-2210ABFAB8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6C823-69AC-449B-9189-E9CBCD271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217440-3F90-4985-8A57-DE68E5A39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BC04C-5E1A-451F-8065-7E7A777798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E03C48-CFF8-4484-B9FD-DF880A113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B8849-8B2E-449E-AC55-AEFD4E449E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BA3AB-470A-457C-8C55-554256A1DF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8091A-5EFB-4837-BA4D-C492E1A347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606CA4-9B06-412C-A5BB-8659A7BBD3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319C5-DF3F-4D98-9C49-403CC3D88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065C7-A934-44CD-8555-E412A1960CE4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7.png"/><Relationship Id="rId8" Type="http://schemas.openxmlformats.org/officeDocument/2006/relationships/image" Target="../media/image8.png"/><Relationship Id="rId9" Type="http://schemas.openxmlformats.org/officeDocument/2006/relationships/image" Target="../media/image9.png"/><Relationship Id="rId10" Type="http://schemas.openxmlformats.org/officeDocument/2006/relationships/image" Target="../media/image10.png"/><Relationship Id="rId11" Type="http://schemas.openxmlformats.org/officeDocument/2006/relationships/image" Target="../media/image11.png"/><Relationship Id="rId12" Type="http://schemas.openxmlformats.org/officeDocument/2006/relationships/image" Target="../media/image12.png"/><Relationship Id="rId13" Type="http://schemas.openxmlformats.org/officeDocument/2006/relationships/image" Target="../media/image13.png"/><Relationship Id="rId14" Type="http://schemas.openxmlformats.org/officeDocument/2006/relationships/image" Target="../media/image8.png"/><Relationship Id="rId15" Type="http://schemas.openxmlformats.org/officeDocument/2006/relationships/image" Target="../media/image8.png"/><Relationship Id="rId16" Type="http://schemas.openxmlformats.org/officeDocument/2006/relationships/image" Target="../media/image14.png"/><Relationship Id="rId17" Type="http://schemas.openxmlformats.org/officeDocument/2006/relationships/image" Target="../media/image15.png"/><Relationship Id="rId1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Lo Structured Reporting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64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6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385920" y="1190520"/>
            <a:ext cx="837216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Structured Reporting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rappresenta un’importante e recente estensione dello standard DICOM che permette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a gestione e l’archiviazione dei risultati dell’analisi di un’immagine medica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385920" y="2271600"/>
            <a:ext cx="8372160" cy="1293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Lo standard di riferimento e i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Supplemento 50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ammography Computer-Aided Detection SR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ello Standard DIC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590280" y="3639960"/>
            <a:ext cx="1965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Caratteristich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468360" y="4149720"/>
            <a:ext cx="8207280" cy="187164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611280" y="42210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 dati vengono archiviati utilizzand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a struttura ad albero molto compless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11280" y="464040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utilizzat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ncetti codificati o numeric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in aggiunta al testo esplicit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611280" y="505944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utilizza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elazioni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i diverso tipo fra i nodi dell’albero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11280" y="5479920"/>
            <a:ext cx="806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struttura può contener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riferimenti ad immagini o ad altri element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577" dur="indefinite" restart="never" nodeType="tmRoot">
          <p:childTnLst>
            <p:seq>
              <p:cTn id="578" dur="indefinite" nodeType="mainSeq">
                <p:childTnLst>
                  <p:par>
                    <p:cTn id="579" fill="hold">
                      <p:stCondLst>
                        <p:cond delay="0"/>
                      </p:stCondLst>
                      <p:childTnLst>
                        <p:par>
                          <p:cTn id="580" fill="hold">
                            <p:stCondLst>
                              <p:cond delay="0"/>
                            </p:stCondLst>
                            <p:childTnLst>
                              <p:par>
                                <p:cTn id="581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3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9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fill="hold">
                      <p:stCondLst>
                        <p:cond delay="indefinite"/>
                      </p:stCondLst>
                      <p:childTnLst>
                        <p:par>
                          <p:cTn id="588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2" dur="10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3" dur="9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9" dur="10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0" dur="1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1" dur="9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3" fill="hold">
                            <p:stCondLst>
                              <p:cond delay="1000"/>
                            </p:stCondLst>
                            <p:childTnLst>
                              <p:par>
                                <p:cTn id="604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6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9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1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3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4" dur="1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9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1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2" dur="10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3" dur="9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5" fill="hold">
                      <p:stCondLst>
                        <p:cond delay="indefinite"/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9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9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fill="hold">
                      <p:stCondLst>
                        <p:cond delay="indefinite"/>
                      </p:stCondLst>
                      <p:childTnLst>
                        <p:par>
                          <p:cTn id="634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7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38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9" dur="9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Applicazione sviluppata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9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81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398520" y="1015920"/>
            <a:ext cx="8277120" cy="147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Durante questo lavoro di tesi è stata realizzata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un’applicazione client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SCU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Us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 che permett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seriment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i risultati dell’analisi dell’immagine mammografica all’interno del file DICOM 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l’invio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egli stessi ad un server remoto (SCP, </a:t>
            </a:r>
            <a:r>
              <a:rPr b="0" i="1" lang="it-IT" sz="1600" spc="-1" strike="noStrike">
                <a:solidFill>
                  <a:srgbClr val="000000"/>
                </a:solidFill>
                <a:latin typeface="Arial"/>
              </a:rPr>
              <a:t>Service Class Provider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n particolare, è stato concordato l’inserimento delle </a:t>
            </a: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coordinate del centro della massa tumoral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(o di più masse) eventualmente rilevata nell’immagi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5" name=""/>
          <p:cNvGrpSpPr/>
          <p:nvPr/>
        </p:nvGrpSpPr>
        <p:grpSpPr>
          <a:xfrm>
            <a:off x="5651640" y="2781360"/>
            <a:ext cx="3313080" cy="2449440"/>
            <a:chOff x="5651640" y="2781360"/>
            <a:chExt cx="3313080" cy="2449440"/>
          </a:xfrm>
        </p:grpSpPr>
        <p:sp>
          <p:nvSpPr>
            <p:cNvPr id="286" name=""/>
            <p:cNvSpPr/>
            <p:nvPr/>
          </p:nvSpPr>
          <p:spPr>
            <a:xfrm>
              <a:off x="5651640" y="2781360"/>
              <a:ext cx="3313080" cy="244944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106680" y="3206880"/>
              <a:ext cx="2401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DICOM Server (SC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laptop"/>
            <p:cNvSpPr/>
            <p:nvPr/>
          </p:nvSpPr>
          <p:spPr>
            <a:xfrm>
              <a:off x="6640560" y="3718080"/>
              <a:ext cx="1336680" cy="1019160"/>
            </a:xfrm>
            <a:prstGeom prst="pie">
              <a:avLst/>
            </a:prstGeom>
            <a:solidFill>
              <a:srgbClr val="c0c0c0"/>
            </a:solidFill>
            <a:ln w="936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9" name=""/>
          <p:cNvGrpSpPr/>
          <p:nvPr/>
        </p:nvGrpSpPr>
        <p:grpSpPr>
          <a:xfrm>
            <a:off x="1077840" y="4437000"/>
            <a:ext cx="2340360" cy="1584360"/>
            <a:chOff x="1077840" y="4437000"/>
            <a:chExt cx="2340360" cy="1584360"/>
          </a:xfrm>
        </p:grpSpPr>
        <p:sp>
          <p:nvSpPr>
            <p:cNvPr id="290" name=""/>
            <p:cNvSpPr/>
            <p:nvPr/>
          </p:nvSpPr>
          <p:spPr>
            <a:xfrm>
              <a:off x="1096920" y="4437000"/>
              <a:ext cx="2303640" cy="1584360"/>
            </a:xfrm>
            <a:prstGeom prst="ellipse">
              <a:avLst/>
            </a:prstGeom>
            <a:gradFill rotWithShape="0">
              <a:gsLst>
                <a:gs pos="0">
                  <a:srgbClr val="829c9e"/>
                </a:gs>
                <a:gs pos="50000">
                  <a:srgbClr val="bbe0e3"/>
                </a:gs>
                <a:gs pos="100000">
                  <a:srgbClr val="829c9e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1077840" y="5013360"/>
              <a:ext cx="2340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800" spc="-1" strike="noStrike">
                  <a:solidFill>
                    <a:srgbClr val="ff0000"/>
                  </a:solidFill>
                  <a:latin typeface="Arial"/>
                </a:rPr>
                <a:t>DICOM Client (SCU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1260720" y="5372280"/>
              <a:ext cx="1972800" cy="291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300" spc="-1" strike="noStrike">
                  <a:solidFill>
                    <a:srgbClr val="0000cc"/>
                  </a:solidFill>
                  <a:latin typeface="Arial"/>
                </a:rPr>
                <a:t>(Applicazione realizzata)</a:t>
              </a:r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93" name="" descr=""/>
          <p:cNvPicPr/>
          <p:nvPr/>
        </p:nvPicPr>
        <p:blipFill>
          <a:blip r:embed="rId3"/>
          <a:stretch/>
        </p:blipFill>
        <p:spPr>
          <a:xfrm>
            <a:off x="755640" y="2924280"/>
            <a:ext cx="998640" cy="1368360"/>
          </a:xfrm>
          <a:prstGeom prst="rect">
            <a:avLst/>
          </a:prstGeom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</p:pic>
      <p:sp>
        <p:nvSpPr>
          <p:cNvPr id="294" name=""/>
          <p:cNvSpPr/>
          <p:nvPr/>
        </p:nvSpPr>
        <p:spPr>
          <a:xfrm>
            <a:off x="4144680" y="5659560"/>
            <a:ext cx="372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SERIMENTO COORDINAT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2154240" y="3500280"/>
            <a:ext cx="216000" cy="216000"/>
          </a:xfrm>
          <a:prstGeom prst="plus">
            <a:avLst>
              <a:gd name="adj" fmla="val 25000"/>
            </a:avLst>
          </a:prstGeom>
          <a:gradFill rotWithShape="0">
            <a:gsLst>
              <a:gs pos="0">
                <a:srgbClr val="687d7e"/>
              </a:gs>
              <a:gs pos="50000">
                <a:srgbClr val="bbe0e3"/>
              </a:gs>
              <a:gs pos="100000">
                <a:srgbClr val="687d7e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2771640" y="3247920"/>
            <a:ext cx="2232000" cy="685800"/>
          </a:xfrm>
          <a:prstGeom prst="rect">
            <a:avLst/>
          </a:prstGeom>
          <a:solidFill>
            <a:srgbClr val="bbe0e3"/>
          </a:soli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Findings = Ma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Type = POIN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000000"/>
                </a:solidFill>
                <a:latin typeface="Arial"/>
              </a:rPr>
              <a:t>Graphic Data = “80.5, 100.5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7785360" y="5413320"/>
            <a:ext cx="685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33"/>
                </a:solidFill>
                <a:latin typeface="Wingdings"/>
                <a:ea typeface="Wingdings"/>
              </a:rPr>
              <a:t>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4791600" y="5661000"/>
            <a:ext cx="3018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0000"/>
                </a:solidFill>
                <a:latin typeface="Arial"/>
              </a:rPr>
              <a:t>INVIO FILE AL SER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 flipV="1">
            <a:off x="3348000" y="4365720"/>
            <a:ext cx="2376360" cy="576000"/>
          </a:xfrm>
          <a:prstGeom prst="line">
            <a:avLst/>
          </a:prstGeom>
          <a:ln w="57240">
            <a:solidFill>
              <a:srgbClr val="ff99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641" dur="indefinite" restart="never" nodeType="tmRoot">
          <p:childTnLst>
            <p:seq>
              <p:cTn id="642" dur="indefinite" nodeType="mainSeq">
                <p:childTnLst>
                  <p:par>
                    <p:cTn id="643" fill="hold">
                      <p:stCondLst>
                        <p:cond delay="0"/>
                      </p:stCondLst>
                      <p:childTnLst>
                        <p:par>
                          <p:cTn id="644" fill="hold">
                            <p:stCondLst>
                              <p:cond delay="0"/>
                            </p:stCondLst>
                            <p:childTnLst>
                              <p:par>
                                <p:cTn id="64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9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4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6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7" fill="hold">
                            <p:stCondLst>
                              <p:cond delay="500"/>
                            </p:stCondLst>
                            <p:childTnLst>
                              <p:par>
                                <p:cTn id="658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0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2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3" fill="hold">
                      <p:stCondLst>
                        <p:cond delay="indefinite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7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9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0" fill="hold">
                            <p:stCondLst>
                              <p:cond delay="500"/>
                            </p:stCondLst>
                            <p:childTnLst>
                              <p:par>
                                <p:cTn id="671" nodeType="afterEffect" fill="hold" presetClass="entr" presetID="53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6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3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4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5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6" fill="hold">
                            <p:stCondLst>
                              <p:cond delay="2000"/>
                            </p:stCondLst>
                            <p:childTnLst>
                              <p:par>
                                <p:cTn id="677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9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0" dur="50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1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3000"/>
                            </p:stCondLst>
                            <p:childTnLst>
                              <p:par>
                                <p:cTn id="68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7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8" fill="hold">
                      <p:stCondLst>
                        <p:cond delay="indefinite"/>
                      </p:stCondLst>
                      <p:childTnLst>
                        <p:par>
                          <p:cTn id="689" fill="hold">
                            <p:stCondLst>
                              <p:cond delay="0"/>
                            </p:stCondLst>
                            <p:childTnLst>
                              <p:par>
                                <p:cTn id="690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6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8" dur="50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00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01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2" dur="500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03" dur="50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5" fill="hold">
                            <p:stCondLst>
                              <p:cond delay="500"/>
                            </p:stCondLst>
                            <p:childTnLst>
                              <p:par>
                                <p:cTn id="70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1" fill="hold">
                      <p:stCondLst>
                        <p:cond delay="indefinite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4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16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8" nodeType="with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719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21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500"/>
                            </p:stCondLst>
                            <p:childTnLst>
                              <p:par>
                                <p:cTn id="7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5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8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fill="hold">
                            <p:stCondLst>
                              <p:cond delay="1000"/>
                            </p:stCondLst>
                            <p:childTnLst>
                              <p:par>
                                <p:cTn id="730" nodeType="afterEffect" fill="hold" presetClass="entr" presetID="22" presetSubtype="4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2" dur="2000"/>
                                        <p:tgtEl>
                                          <p:spTgt spid="2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3" fill="hold">
                            <p:stCondLst>
                              <p:cond delay="3500"/>
                            </p:stCondLst>
                            <p:childTnLst>
                              <p:par>
                                <p:cTn id="734" nodeType="afterEffect" fill="hold" presetClass="entr" presetID="53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7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6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8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755640" y="189000"/>
            <a:ext cx="849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serimento dei risultati nel fil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0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0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"/>
          <p:cNvGrpSpPr/>
          <p:nvPr/>
        </p:nvGrpSpPr>
        <p:grpSpPr>
          <a:xfrm>
            <a:off x="162000" y="1197000"/>
            <a:ext cx="8820000" cy="4896000"/>
            <a:chOff x="162000" y="1197000"/>
            <a:chExt cx="8820000" cy="4896000"/>
          </a:xfrm>
        </p:grpSpPr>
        <p:sp>
          <p:nvSpPr>
            <p:cNvPr id="308" name=""/>
            <p:cNvSpPr/>
            <p:nvPr/>
          </p:nvSpPr>
          <p:spPr>
            <a:xfrm>
              <a:off x="3456000" y="1197000"/>
              <a:ext cx="2232000" cy="64764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MAMMOGRAPHY CAD REPOR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3456000" y="21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4572000" y="1844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2892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AD PROCESSING AND FINDINGS SUMM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All algorithms succedeed; with finding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62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MAGE LIBRAR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97280" y="3357720"/>
              <a:ext cx="201636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DETECTION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966000" y="335772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SUMMARY OF ANALYS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Succede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4572000" y="2779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97400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57056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43692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17000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150920" y="307008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2320920" y="443880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3435480" y="4149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 flipH="1">
              <a:off x="3419640" y="5084640"/>
              <a:ext cx="15840" cy="10083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4" name=""/>
          <p:cNvGrpSpPr/>
          <p:nvPr/>
        </p:nvGrpSpPr>
        <p:grpSpPr>
          <a:xfrm>
            <a:off x="3419280" y="1844640"/>
            <a:ext cx="1152720" cy="4248360"/>
            <a:chOff x="3419280" y="1844640"/>
            <a:chExt cx="1152720" cy="4248360"/>
          </a:xfrm>
        </p:grpSpPr>
        <p:sp>
          <p:nvSpPr>
            <p:cNvPr id="325" name=""/>
            <p:cNvSpPr/>
            <p:nvPr/>
          </p:nvSpPr>
          <p:spPr>
            <a:xfrm>
              <a:off x="4572000" y="1844640"/>
              <a:ext cx="0" cy="122400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 flipH="1">
              <a:off x="3419280" y="306864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435480" y="3068640"/>
              <a:ext cx="0" cy="3024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162000" y="1125360"/>
            <a:ext cx="8820000" cy="4824720"/>
            <a:chOff x="162000" y="1125360"/>
            <a:chExt cx="8820000" cy="4824720"/>
          </a:xfrm>
        </p:grpSpPr>
        <p:sp>
          <p:nvSpPr>
            <p:cNvPr id="329" name=""/>
            <p:cNvSpPr/>
            <p:nvPr/>
          </p:nvSpPr>
          <p:spPr>
            <a:xfrm flipH="1">
              <a:off x="4564080" y="1125360"/>
              <a:ext cx="15840" cy="57492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42892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62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4697280" y="198900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6966000" y="198900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INDIVIDUAL IMPRESSION/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RECOMMEND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NTAIN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74000" y="170172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570564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43692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170000" y="170028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1150920" y="1701720"/>
              <a:ext cx="6840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436920" y="2781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1116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RENDERING INT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Presentation Require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3780000" y="4292640"/>
              <a:ext cx="2016000" cy="79200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1200" spc="-1" strike="noStrike">
                  <a:solidFill>
                    <a:srgbClr val="000000"/>
                  </a:solidFill>
                  <a:latin typeface="Arial"/>
                </a:rPr>
                <a:t>COMPOSITE FEATUR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it-IT" sz="1200" spc="-1" strike="noStrike">
                  <a:solidFill>
                    <a:srgbClr val="000000"/>
                  </a:solidFill>
                  <a:latin typeface="Arial"/>
                </a:rPr>
                <a:t>Mammographic Breast Mas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63528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CONTAIN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71640" y="3357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CONCEPT MOD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085840" y="30686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4749840" y="307008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085840" y="307008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085840" y="400536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4749840" y="40035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4765680" y="5084640"/>
              <a:ext cx="22320" cy="86544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0" name=""/>
          <p:cNvGrpSpPr/>
          <p:nvPr/>
        </p:nvGrpSpPr>
        <p:grpSpPr>
          <a:xfrm>
            <a:off x="3419280" y="1125360"/>
            <a:ext cx="1368720" cy="4824720"/>
            <a:chOff x="3419280" y="1125360"/>
            <a:chExt cx="1368720" cy="4824720"/>
          </a:xfrm>
        </p:grpSpPr>
        <p:sp>
          <p:nvSpPr>
            <p:cNvPr id="351" name=""/>
            <p:cNvSpPr/>
            <p:nvPr/>
          </p:nvSpPr>
          <p:spPr>
            <a:xfrm>
              <a:off x="4572000" y="1125360"/>
              <a:ext cx="0" cy="57492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 flipH="1">
              <a:off x="3419280" y="1700280"/>
              <a:ext cx="11523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35480" y="1700280"/>
              <a:ext cx="0" cy="136836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19640" y="3068640"/>
              <a:ext cx="1312560" cy="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4749840" y="3068640"/>
              <a:ext cx="38160" cy="2881440"/>
            </a:xfrm>
            <a:prstGeom prst="line">
              <a:avLst/>
            </a:prstGeom>
            <a:ln w="38160">
              <a:solidFill>
                <a:srgbClr val="ff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900000" y="1054080"/>
            <a:ext cx="6048360" cy="4896000"/>
            <a:chOff x="900000" y="1054080"/>
            <a:chExt cx="6048360" cy="4896000"/>
          </a:xfrm>
        </p:grpSpPr>
        <p:sp>
          <p:nvSpPr>
            <p:cNvPr id="357" name=""/>
            <p:cNvSpPr/>
            <p:nvPr/>
          </p:nvSpPr>
          <p:spPr>
            <a:xfrm flipH="1">
              <a:off x="4564080" y="1054080"/>
              <a:ext cx="15840" cy="574560"/>
            </a:xfrm>
            <a:prstGeom prst="line">
              <a:avLst/>
            </a:prstGeom>
            <a:ln w="28440">
              <a:solidFill>
                <a:srgbClr val="0000ff"/>
              </a:solidFill>
              <a:prstDash val="sysDot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56000" y="1628640"/>
              <a:ext cx="2232000" cy="64800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INFERRED FROM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4570560" y="227664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2268360" y="285264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932360" y="285264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SINGLE IMAGE FINDING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ODE: </a:t>
              </a:r>
              <a:r>
                <a:rPr b="0" i="1" lang="en-US" sz="1200" spc="-1" strike="noStrike">
                  <a:solidFill>
                    <a:srgbClr val="000000"/>
                  </a:solidFill>
                  <a:latin typeface="Arial"/>
                </a:rPr>
                <a:t>Density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201840" y="256392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5902200" y="2565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203640" y="2565360"/>
              <a:ext cx="2698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087640" y="3933720"/>
              <a:ext cx="2232000" cy="647640"/>
            </a:xfrm>
            <a:prstGeom prst="diamond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0000"/>
                  </a:solidFill>
                  <a:latin typeface="Arial"/>
                </a:rPr>
                <a:t>HAS PROPERTIES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3201840" y="458136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900000" y="5157720"/>
              <a:ext cx="201636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CENTER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564000" y="5157720"/>
              <a:ext cx="2016000" cy="792360"/>
            </a:xfrm>
            <a:prstGeom prst="rect">
              <a:avLst/>
            </a:prstGeom>
            <a:gradFill rotWithShape="0">
              <a:gsLst>
                <a:gs pos="0">
                  <a:srgbClr val="9fbfc2"/>
                </a:gs>
                <a:gs pos="50000">
                  <a:srgbClr val="bbe0e3"/>
                </a:gs>
                <a:gs pos="100000">
                  <a:srgbClr val="9fbfc2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OUTLIN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OORD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1870200" y="4869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533840" y="4870440"/>
              <a:ext cx="0" cy="2890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1870200" y="4870440"/>
              <a:ext cx="26654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203640" y="3645000"/>
              <a:ext cx="0" cy="288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3" name=""/>
          <p:cNvGrpSpPr/>
          <p:nvPr/>
        </p:nvGrpSpPr>
        <p:grpSpPr>
          <a:xfrm>
            <a:off x="900000" y="1052640"/>
            <a:ext cx="3687840" cy="4860720"/>
            <a:chOff x="900000" y="1052640"/>
            <a:chExt cx="3687840" cy="4860720"/>
          </a:xfrm>
        </p:grpSpPr>
        <p:grpSp>
          <p:nvGrpSpPr>
            <p:cNvPr id="374" name=""/>
            <p:cNvGrpSpPr/>
            <p:nvPr/>
          </p:nvGrpSpPr>
          <p:grpSpPr>
            <a:xfrm>
              <a:off x="1852200" y="1052640"/>
              <a:ext cx="2735640" cy="4105080"/>
              <a:chOff x="1852200" y="1052640"/>
              <a:chExt cx="2735640" cy="4105080"/>
            </a:xfrm>
          </p:grpSpPr>
          <p:sp>
            <p:nvSpPr>
              <p:cNvPr id="375" name=""/>
              <p:cNvSpPr/>
              <p:nvPr/>
            </p:nvSpPr>
            <p:spPr>
              <a:xfrm>
                <a:off x="4572000" y="1052640"/>
                <a:ext cx="0" cy="1512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6" name=""/>
              <p:cNvSpPr/>
              <p:nvPr/>
            </p:nvSpPr>
            <p:spPr>
              <a:xfrm flipH="1">
                <a:off x="3184560" y="2565360"/>
                <a:ext cx="140328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7" name=""/>
              <p:cNvSpPr/>
              <p:nvPr/>
            </p:nvSpPr>
            <p:spPr>
              <a:xfrm>
                <a:off x="3203640" y="2565360"/>
                <a:ext cx="0" cy="230364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8" name=""/>
              <p:cNvSpPr/>
              <p:nvPr/>
            </p:nvSpPr>
            <p:spPr>
              <a:xfrm flipH="1">
                <a:off x="1852200" y="4869000"/>
                <a:ext cx="1368360" cy="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79" name=""/>
              <p:cNvSpPr/>
              <p:nvPr/>
            </p:nvSpPr>
            <p:spPr>
              <a:xfrm>
                <a:off x="1870200" y="4869000"/>
                <a:ext cx="0" cy="288720"/>
              </a:xfrm>
              <a:prstGeom prst="line">
                <a:avLst/>
              </a:prstGeom>
              <a:ln w="38160">
                <a:solidFill>
                  <a:srgbClr val="ff99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80" name=""/>
            <p:cNvSpPr/>
            <p:nvPr/>
          </p:nvSpPr>
          <p:spPr>
            <a:xfrm>
              <a:off x="900000" y="5157720"/>
              <a:ext cx="2016360" cy="755640"/>
            </a:xfrm>
            <a:prstGeom prst="ellipse">
              <a:avLst/>
            </a:prstGeom>
            <a:noFill/>
            <a:ln w="38160">
              <a:solidFill>
                <a:srgbClr val="ff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739" dur="indefinite" restart="never" nodeType="tmRoot">
          <p:childTnLst>
            <p:seq>
              <p:cTn id="740" dur="indefinite" nodeType="mainSeq">
                <p:childTnLst>
                  <p:par>
                    <p:cTn id="741" fill="hold">
                      <p:stCondLst>
                        <p:cond delay="0"/>
                      </p:stCondLst>
                      <p:childTnLst>
                        <p:par>
                          <p:cTn id="742" fill="hold">
                            <p:stCondLst>
                              <p:cond delay="0"/>
                            </p:stCondLst>
                            <p:childTnLst>
                              <p:par>
                                <p:cTn id="743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5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6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7" fill="hold">
                            <p:stCondLst>
                              <p:cond delay="1000"/>
                            </p:stCondLst>
                            <p:childTnLst>
                              <p:par>
                                <p:cTn id="748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50" dur="3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4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5" dur="1000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7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58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9" dur="1000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61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63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4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5" fill="hold">
                            <p:stCondLst>
                              <p:cond delay="1000"/>
                            </p:stCondLst>
                            <p:childTnLst>
                              <p:par>
                                <p:cTn id="766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8" dur="3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2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3" dur="1000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5" nodeType="withEffect" fill="hold" presetClass="exit" presetID="2" presetSubtype="1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76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7" dur="1000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9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1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2" dur="1000" fill="hold"/>
                                        <p:tgtEl>
                                          <p:spTgt spid="3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3" fill="hold">
                            <p:stCondLst>
                              <p:cond delay="1000"/>
                            </p:stCondLst>
                            <p:childTnLst>
                              <p:par>
                                <p:cTn id="784" nodeType="afterEffect" fill="hold" presetClass="entr" presetID="22" presetSubtype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7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86" dur="30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381" name=""/>
          <p:cNvGraphicFramePr/>
          <p:nvPr/>
        </p:nvGraphicFramePr>
        <p:xfrm>
          <a:off x="5146560" y="2852640"/>
          <a:ext cx="3997440" cy="3997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38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146560" y="2852640"/>
                    <a:ext cx="3997440" cy="399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83" name="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7c9496"/>
              </a:gs>
              <a:gs pos="50000">
                <a:srgbClr val="bbe0e3">
                  <a:alpha val="19215"/>
                </a:srgbClr>
              </a:gs>
              <a:gs pos="100000">
                <a:srgbClr val="7c94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39640" y="476280"/>
            <a:ext cx="8604360" cy="110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UNIVERSIT</a:t>
            </a: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À</a:t>
            </a:r>
            <a:r>
              <a:rPr b="1" lang="it-IT" sz="1800" spc="-1" strike="noStrike">
                <a:solidFill>
                  <a:srgbClr val="000000"/>
                </a:solidFill>
                <a:latin typeface="Arial"/>
              </a:rPr>
              <a:t> DEGLI STUDI DI BOLOG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FACOLT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À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900000" y="1241280"/>
            <a:ext cx="77058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04720" y="2205000"/>
            <a:ext cx="8028000" cy="1464480"/>
          </a:xfrm>
          <a:prstGeom prst="rect">
            <a:avLst/>
          </a:prstGeom>
          <a:noFill/>
          <a:ln w="0">
            <a:noFill/>
          </a:ln>
          <a:effectLst>
            <a:outerShdw dist="52300" dir="836435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000" spc="-1" strike="noStrike">
                <a:solidFill>
                  <a:srgbClr val="0000cc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5867280" y="5734080"/>
            <a:ext cx="302436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resentata da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GABRIELE GARAV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179280" y="4869000"/>
            <a:ext cx="4537080" cy="17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lator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Chiar.mo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Prof. RENATO CAMPANI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orrelator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cc"/>
                </a:solidFill>
                <a:latin typeface="Arial"/>
              </a:rPr>
              <a:t>Dott.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MATTEO ROFFILL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24000" y="1700280"/>
            <a:ext cx="143964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ommario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7" name=""/>
          <p:cNvSpPr/>
          <p:nvPr/>
        </p:nvSpPr>
        <p:spPr>
          <a:xfrm rot="5400000">
            <a:off x="548280" y="128628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555480" y="135720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1619280" y="126828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1674720" y="1327320"/>
            <a:ext cx="1857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roduzio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 rot="5400000">
            <a:off x="548280" y="2078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55480" y="2149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619280" y="2060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678320" y="2119320"/>
            <a:ext cx="466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estione delle immagini medich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548280" y="287064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55480" y="294156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619280" y="285264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676160" y="2911320"/>
            <a:ext cx="505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ecessità di integrazione fra sist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 rot="5400000">
            <a:off x="548640" y="366300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555480" y="3733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19280" y="364500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675080" y="3703680"/>
            <a:ext cx="578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rotocollo DICOM e Structured Reporting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 rot="5400000">
            <a:off x="548280" y="4455000"/>
            <a:ext cx="52236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555480" y="452592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19280" y="4437000"/>
            <a:ext cx="5905440" cy="576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679040" y="4495680"/>
            <a:ext cx="3359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pplicazione sviluppa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rot="5400000">
            <a:off x="548640" y="5247360"/>
            <a:ext cx="522000" cy="540000"/>
          </a:xfrm>
          <a:prstGeom prst="triangle">
            <a:avLst>
              <a:gd name="adj" fmla="val 55245"/>
            </a:avLst>
          </a:prstGeom>
          <a:gradFill rotWithShape="0">
            <a:gsLst>
              <a:gs pos="0">
                <a:srgbClr val="6f8587"/>
              </a:gs>
              <a:gs pos="50000">
                <a:srgbClr val="bbe0e3"/>
              </a:gs>
              <a:gs pos="100000">
                <a:srgbClr val="6f8587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555480" y="5318280"/>
            <a:ext cx="360360" cy="398880"/>
          </a:xfrm>
          <a:prstGeom prst="rect">
            <a:avLst/>
          </a:prstGeom>
          <a:noFill/>
          <a:ln w="0">
            <a:noFill/>
          </a:ln>
          <a:effectLst>
            <a:outerShdw dist="52300" dir="9963564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619280" y="5229360"/>
            <a:ext cx="5905440" cy="576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678680" y="5288040"/>
            <a:ext cx="386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clusioni e sviluppi futur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9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" dur="1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9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9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9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" dur="10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9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9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0" y="189000"/>
            <a:ext cx="91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ntroduzion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50720" y="1484280"/>
            <a:ext cx="827748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Questo lavoro di tesi si colloca nell’ambito di un progetto di Computer-Aided Detection (CAD) sviluppato da un gruppo di ricerca denominato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Medical Imaging Group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(MIG)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50720" y="2565360"/>
            <a:ext cx="827748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sso è composto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fisici dell’Università di Bologna</a:t>
            </a:r>
            <a:r>
              <a:rPr b="0" lang="en-US" sz="2000" spc="-1" strike="noStrike">
                <a:solidFill>
                  <a:srgbClr val="0000cc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e d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informatici del Corso di Laurea in Scienze dell’Informazione di Cesen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42440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050920" y="4400640"/>
            <a:ext cx="1008360" cy="503280"/>
          </a:xfrm>
          <a:prstGeom prst="rightArrow">
            <a:avLst>
              <a:gd name="adj1" fmla="val 50000"/>
              <a:gd name="adj2" fmla="val 50089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492360" y="3787920"/>
            <a:ext cx="5400720" cy="1728720"/>
            <a:chOff x="3492360" y="3787920"/>
            <a:chExt cx="5400720" cy="1728720"/>
          </a:xfrm>
        </p:grpSpPr>
        <p:sp>
          <p:nvSpPr>
            <p:cNvPr id="93" name=""/>
            <p:cNvSpPr/>
            <p:nvPr/>
          </p:nvSpPr>
          <p:spPr>
            <a:xfrm>
              <a:off x="3492360" y="3787920"/>
              <a:ext cx="5400720" cy="1728720"/>
            </a:xfrm>
            <a:prstGeom prst="rect">
              <a:avLst/>
            </a:prstGeom>
            <a:gradFill rotWithShape="0">
              <a:gsLst>
                <a:gs pos="0">
                  <a:srgbClr val="95b2b4"/>
                </a:gs>
                <a:gs pos="50000">
                  <a:srgbClr val="bbe0e3"/>
                </a:gs>
                <a:gs pos="100000">
                  <a:srgbClr val="95b2b4"/>
                </a:gs>
              </a:gsLst>
              <a:lin ang="5400000"/>
            </a:gradFill>
            <a:ln w="9360">
              <a:solidFill>
                <a:srgbClr val="0000ff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43480" y="3995640"/>
              <a:ext cx="5205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000000"/>
                  </a:solidFill>
                  <a:latin typeface="Arial"/>
                </a:rPr>
                <a:t>La ricerca e lo sviluppo di metodologie e apparati che possano aiutare i medici nella </a:t>
              </a:r>
              <a:r>
                <a:rPr b="1" lang="en-US" sz="2000" spc="-1" strike="noStrike">
                  <a:solidFill>
                    <a:srgbClr val="0000cc"/>
                  </a:solidFill>
                  <a:latin typeface="Arial"/>
                </a:rPr>
                <a:t>rilevazione e nella diagnosi precoce di tumori al seno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0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2" dur="1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865080" y="189000"/>
            <a:ext cx="82440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La gestione delle immagini mediche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7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9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9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190520"/>
            <a:ext cx="8277120" cy="10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a tappa fondamentale nel percorso di miglioramento, dal punto di vista tecnologico, delle apparecchiature utilizzate in ambito ospedaliero è rappresentata dal passaggio alla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tecnologia digital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388800" y="2421000"/>
            <a:ext cx="6982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 vantaggi offerti da questo tipo di tecnologia sono molteplici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79280" y="3068640"/>
            <a:ext cx="8713800" cy="266400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0920" y="3182760"/>
            <a:ext cx="822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Un’immagine digitale può esser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laborata al computer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anche dopo la creazion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50920" y="36939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In ambito radiografico,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 riduce la dose di radiazion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somministrata al paziente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42051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3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Vengono messi a disposizione del radiologo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istemi di rilevazione automatizzati (CAD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50920" y="4716360"/>
            <a:ext cx="835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E’ possibile creare una cartella clinica del pazient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completamente computerizzat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50920" y="5227560"/>
            <a:ext cx="8569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5.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 Le informazioni possono essere trasmesse a distanz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in modo semplice e veloc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500"/>
                            </p:stCondLst>
                            <p:childTnLst>
                              <p:par>
                                <p:cTn id="9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000"/>
                            </p:stCondLst>
                            <p:childTnLst>
                              <p:par>
                                <p:cTn id="9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4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1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I sistemi informativi ospedalier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71600" y="1052640"/>
            <a:ext cx="82771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gli ultimi anni, le tecnologie informatiche sono state caratterizzate da una continua e crescente evoluzione che ha permesso di realizzare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sistemi informativi ospedalieri sempre più potenti, veloci e sicuri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"/>
          <p:cNvGrpSpPr/>
          <p:nvPr/>
        </p:nvGrpSpPr>
        <p:grpSpPr>
          <a:xfrm>
            <a:off x="250920" y="2133720"/>
            <a:ext cx="4664160" cy="3338280"/>
            <a:chOff x="250920" y="2133720"/>
            <a:chExt cx="4664160" cy="3338280"/>
          </a:xfrm>
        </p:grpSpPr>
        <p:grpSp>
          <p:nvGrpSpPr>
            <p:cNvPr id="119" name=""/>
            <p:cNvGrpSpPr/>
            <p:nvPr/>
          </p:nvGrpSpPr>
          <p:grpSpPr>
            <a:xfrm>
              <a:off x="250920" y="4935600"/>
              <a:ext cx="4664160" cy="536400"/>
              <a:chOff x="250920" y="4935600"/>
              <a:chExt cx="4664160" cy="536400"/>
            </a:xfrm>
          </p:grpSpPr>
          <p:sp>
            <p:nvSpPr>
              <p:cNvPr id="120" name=""/>
              <p:cNvSpPr txBox="1"/>
              <p:nvPr/>
            </p:nvSpPr>
            <p:spPr>
              <a:xfrm>
                <a:off x="250920" y="4935600"/>
                <a:ext cx="84780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AC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1" name=""/>
              <p:cNvSpPr txBox="1"/>
              <p:nvPr/>
            </p:nvSpPr>
            <p:spPr>
              <a:xfrm>
                <a:off x="1371600" y="5224320"/>
                <a:ext cx="354348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Picture Archiving and Communication System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2" name=""/>
            <p:cNvGrpSpPr/>
            <p:nvPr/>
          </p:nvGrpSpPr>
          <p:grpSpPr>
            <a:xfrm>
              <a:off x="250920" y="3495600"/>
              <a:ext cx="3600000" cy="531720"/>
              <a:chOff x="250920" y="3495600"/>
              <a:chExt cx="3600000" cy="531720"/>
            </a:xfrm>
          </p:grpSpPr>
          <p:sp>
            <p:nvSpPr>
              <p:cNvPr id="123" name=""/>
              <p:cNvSpPr txBox="1"/>
              <p:nvPr/>
            </p:nvSpPr>
            <p:spPr>
              <a:xfrm>
                <a:off x="250920" y="3495600"/>
                <a:ext cx="54252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4" name=""/>
              <p:cNvSpPr txBox="1"/>
              <p:nvPr/>
            </p:nvSpPr>
            <p:spPr>
              <a:xfrm>
                <a:off x="1069920" y="3779640"/>
                <a:ext cx="278100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Radiologic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  <p:grpSp>
          <p:nvGrpSpPr>
            <p:cNvPr id="125" name=""/>
            <p:cNvGrpSpPr/>
            <p:nvPr/>
          </p:nvGrpSpPr>
          <p:grpSpPr>
            <a:xfrm>
              <a:off x="250920" y="2133720"/>
              <a:ext cx="3341160" cy="520560"/>
              <a:chOff x="250920" y="2133720"/>
              <a:chExt cx="3341160" cy="520560"/>
            </a:xfrm>
          </p:grpSpPr>
          <p:sp>
            <p:nvSpPr>
              <p:cNvPr id="126" name=""/>
              <p:cNvSpPr txBox="1"/>
              <p:nvPr/>
            </p:nvSpPr>
            <p:spPr>
              <a:xfrm>
                <a:off x="250920" y="2133720"/>
                <a:ext cx="552240" cy="50472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3200" spc="1" strike="noStrike">
                    <a:ln w="2232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IS</a:t>
                </a:r>
                <a:endParaRPr b="0" lang="en-US" sz="3200" spc="1" strike="noStrike">
                  <a:ln w="2232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  <p:sp>
            <p:nvSpPr>
              <p:cNvPr id="127" name=""/>
              <p:cNvSpPr txBox="1"/>
              <p:nvPr/>
            </p:nvSpPr>
            <p:spPr>
              <a:xfrm>
                <a:off x="1096920" y="2406600"/>
                <a:ext cx="2495160" cy="247680"/>
              </a:xfrm>
              <a:prstGeom prst="rect">
                <a:avLst/>
              </a:prstGeom>
            </p:spPr>
            <p:txBody>
              <a:bodyPr wrap="none" lIns="90000" rIns="90000" tIns="46800" bIns="46800" anchor="t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1" strike="noStrike">
                    <a:ln w="12600">
                      <a:solidFill>
                        <a:srgbClr val="000000"/>
                      </a:solidFill>
                      <a:miter/>
                    </a:ln>
                    <a:gradFill rotWithShape="0">
                      <a:gsLst>
                        <a:gs pos="0">
                          <a:srgbClr val="0000cc"/>
                        </a:gs>
                        <a:gs pos="100000">
                          <a:srgbClr val="bbe0e3"/>
                        </a:gs>
                      </a:gsLst>
                      <a:lin ang="5400000"/>
                    </a:gradFill>
                    <a:latin typeface="Impact"/>
                  </a:rPr>
                  <a:t>Hospital Information System </a:t>
                </a:r>
                <a:endParaRPr b="0" lang="en-US" sz="1600" spc="1" strike="noStrike">
                  <a:ln w="12600">
                    <a:solidFill>
                      <a:srgbClr val="000000"/>
                    </a:solidFill>
                    <a:miter/>
                  </a:ln>
                  <a:gradFill rotWithShape="0">
                    <a:gsLst>
                      <a:gs pos="0">
                        <a:srgbClr val="0000cc"/>
                      </a:gs>
                      <a:gs pos="100000">
                        <a:srgbClr val="bbe0e3"/>
                      </a:gs>
                    </a:gsLst>
                    <a:lin ang="5400000"/>
                  </a:gradFill>
                  <a:latin typeface="Impact"/>
                  <a:ea typeface="Impact"/>
                </a:endParaRPr>
              </a:p>
            </p:txBody>
          </p:sp>
        </p:grpSp>
      </p:grpSp>
      <p:sp>
        <p:nvSpPr>
          <p:cNvPr id="128" name=""/>
          <p:cNvSpPr/>
          <p:nvPr/>
        </p:nvSpPr>
        <p:spPr>
          <a:xfrm>
            <a:off x="326880" y="270828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spcBef>
                <a:spcPts val="93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Ospedalier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complessiva del paziente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cettazione, prenotazione di esami, fatturazione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26880" y="4043520"/>
            <a:ext cx="8637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Informativo Radiologico, responsabile prevalentemente della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gestione delle attività specifiche local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programmazione degli esami, esecuzione esame,</a:t>
            </a:r>
            <a:r>
              <a:rPr b="1" i="1" lang="en-US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archiviazione e distribuzione dei refert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26880" y="5511960"/>
            <a:ext cx="8637840" cy="58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Sistema per l'Archiviazione e la Comunicazione delle Immagini, </a:t>
            </a:r>
            <a:r>
              <a:rPr b="1" i="1" lang="en-US" sz="1500" spc="-1" strike="noStrike">
                <a:solidFill>
                  <a:srgbClr val="0000cc"/>
                </a:solidFill>
                <a:latin typeface="Arial"/>
              </a:rPr>
              <a:t>responsabile della parte riguardante le immagini</a:t>
            </a:r>
            <a:r>
              <a:rPr b="0" i="1" lang="en-US" sz="1500" spc="-1" strike="noStrike">
                <a:solidFill>
                  <a:srgbClr val="000000"/>
                </a:solidFill>
                <a:latin typeface="Arial"/>
              </a:rPr>
              <a:t> (acquisizione, archiviazione e distribuzione d’immagini).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0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8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3" dur="10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000"/>
                            </p:stCondLst>
                            <p:childTnLst>
                              <p:par>
                                <p:cTn id="145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47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2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57" dur="10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900000" y="189000"/>
            <a:ext cx="813780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Schema di un PACS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33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5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26920" y="1125360"/>
            <a:ext cx="7488360" cy="4824720"/>
          </a:xfrm>
          <a:prstGeom prst="roundRect">
            <a:avLst>
              <a:gd name="adj" fmla="val 8213"/>
            </a:avLst>
          </a:prstGeom>
          <a:solidFill>
            <a:srgbClr val="ffffff"/>
          </a:solidFill>
          <a:ln w="64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1685880" y="1246320"/>
            <a:ext cx="366840" cy="4982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4"/>
          <a:stretch/>
        </p:blipFill>
        <p:spPr>
          <a:xfrm>
            <a:off x="3894120" y="1246320"/>
            <a:ext cx="290520" cy="35856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5"/>
          <a:stretch/>
        </p:blipFill>
        <p:spPr>
          <a:xfrm>
            <a:off x="3770280" y="1374840"/>
            <a:ext cx="252360" cy="312840"/>
          </a:xfrm>
          <a:prstGeom prst="rect">
            <a:avLst/>
          </a:prstGeom>
          <a:ln w="0">
            <a:noFill/>
          </a:ln>
        </p:spPr>
      </p:pic>
      <p:pic>
        <p:nvPicPr>
          <p:cNvPr id="142" name="" descr=""/>
          <p:cNvPicPr/>
          <p:nvPr/>
        </p:nvPicPr>
        <p:blipFill>
          <a:blip r:embed="rId6"/>
          <a:stretch/>
        </p:blipFill>
        <p:spPr>
          <a:xfrm>
            <a:off x="5775480" y="1258920"/>
            <a:ext cx="571320" cy="55548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7"/>
          <a:stretch/>
        </p:blipFill>
        <p:spPr>
          <a:xfrm>
            <a:off x="7262640" y="1260360"/>
            <a:ext cx="587520" cy="513000"/>
          </a:xfrm>
          <a:prstGeom prst="rect">
            <a:avLst/>
          </a:prstGeom>
          <a:ln w="0">
            <a:noFill/>
          </a:ln>
        </p:spPr>
      </p:pic>
      <p:sp>
        <p:nvSpPr>
          <p:cNvPr id="144" name=""/>
          <p:cNvSpPr/>
          <p:nvPr/>
        </p:nvSpPr>
        <p:spPr>
          <a:xfrm>
            <a:off x="3950280" y="1555920"/>
            <a:ext cx="115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TIFF,BMP,.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6368040" y="1566720"/>
            <a:ext cx="877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Modal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88136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024440" y="1760400"/>
            <a:ext cx="1440" cy="2095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43600" y="1773360"/>
            <a:ext cx="1440" cy="2458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8"/>
          <a:stretch/>
        </p:blipFill>
        <p:spPr>
          <a:xfrm>
            <a:off x="1654200" y="1940040"/>
            <a:ext cx="436680" cy="3999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1301760" y="2854440"/>
            <a:ext cx="6681600" cy="7308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6280" bIns="262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9"/>
          <a:stretch/>
        </p:blipFill>
        <p:spPr>
          <a:xfrm>
            <a:off x="1569960" y="5241960"/>
            <a:ext cx="1263600" cy="6714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353960" y="4371840"/>
            <a:ext cx="8496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Quer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2700360" y="4371840"/>
            <a:ext cx="116820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onsult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78452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211640" y="4371840"/>
            <a:ext cx="129708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Visualizza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6454800" y="43718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2287440" y="5097600"/>
            <a:ext cx="1800" cy="193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99436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" descr=""/>
          <p:cNvPicPr/>
          <p:nvPr/>
        </p:nvPicPr>
        <p:blipFill>
          <a:blip r:embed="rId10"/>
          <a:stretch/>
        </p:blipFill>
        <p:spPr>
          <a:xfrm>
            <a:off x="3568680" y="5229360"/>
            <a:ext cx="1203480" cy="709560"/>
          </a:xfrm>
          <a:prstGeom prst="rect">
            <a:avLst/>
          </a:prstGeom>
          <a:ln w="0">
            <a:noFill/>
          </a:ln>
        </p:spPr>
      </p:pic>
      <p:sp>
        <p:nvSpPr>
          <p:cNvPr id="160" name=""/>
          <p:cNvSpPr/>
          <p:nvPr/>
        </p:nvSpPr>
        <p:spPr>
          <a:xfrm>
            <a:off x="4041720" y="5081760"/>
            <a:ext cx="1800" cy="225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011680" y="1496880"/>
            <a:ext cx="80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11"/>
          <a:srcRect l="0" t="0" r="0" b="20742"/>
          <a:stretch/>
        </p:blipFill>
        <p:spPr>
          <a:xfrm>
            <a:off x="5508720" y="5214960"/>
            <a:ext cx="1270080" cy="66024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1301760" y="5038560"/>
            <a:ext cx="6620040" cy="8424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7440" bIns="374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301760" y="3827520"/>
            <a:ext cx="3679920" cy="74520"/>
          </a:xfrm>
          <a:prstGeom prst="rect">
            <a:avLst/>
          </a:prstGeom>
          <a:gradFill rotWithShape="0">
            <a:gsLst>
              <a:gs pos="0">
                <a:srgbClr val="000082"/>
              </a:gs>
              <a:gs pos="50000">
                <a:srgbClr val="ff8200"/>
              </a:gs>
              <a:gs pos="100000">
                <a:srgbClr val="000082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996480" y="3279600"/>
            <a:ext cx="1348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Image Serv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2"/>
          <a:stretch/>
        </p:blipFill>
        <p:spPr>
          <a:xfrm>
            <a:off x="6477120" y="3252960"/>
            <a:ext cx="423720" cy="45072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7013160" y="3610080"/>
            <a:ext cx="1082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imes New Roman"/>
                <a:ea typeface="굴림"/>
              </a:rPr>
              <a:t>Stampant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8" name="" descr=""/>
          <p:cNvPicPr/>
          <p:nvPr/>
        </p:nvPicPr>
        <p:blipFill>
          <a:blip r:embed="rId13"/>
          <a:stretch/>
        </p:blipFill>
        <p:spPr>
          <a:xfrm>
            <a:off x="6956280" y="3259080"/>
            <a:ext cx="412920" cy="41112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14"/>
          <a:stretch/>
        </p:blipFill>
        <p:spPr>
          <a:xfrm>
            <a:off x="3813120" y="1940040"/>
            <a:ext cx="434880" cy="39996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15"/>
          <a:stretch/>
        </p:blipFill>
        <p:spPr>
          <a:xfrm>
            <a:off x="5742000" y="1952640"/>
            <a:ext cx="434880" cy="39996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7020000" y="2022480"/>
            <a:ext cx="968400" cy="182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Aquisizio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246560" y="2048040"/>
            <a:ext cx="849240" cy="2077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Captur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117880" y="2048040"/>
            <a:ext cx="849240" cy="209520"/>
          </a:xfrm>
          <a:prstGeom prst="roundRect">
            <a:avLst>
              <a:gd name="adj" fmla="val 16667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  <a:ea typeface="굴림"/>
              </a:rPr>
              <a:t>Scannin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6"/>
          <a:stretch/>
        </p:blipFill>
        <p:spPr>
          <a:xfrm>
            <a:off x="2873520" y="2992320"/>
            <a:ext cx="615960" cy="771480"/>
          </a:xfrm>
          <a:prstGeom prst="rect">
            <a:avLst/>
          </a:prstGeom>
          <a:ln w="0">
            <a:noFill/>
          </a:ln>
        </p:spPr>
      </p:pic>
      <p:pic>
        <p:nvPicPr>
          <p:cNvPr id="175" name="" descr=""/>
          <p:cNvPicPr/>
          <p:nvPr/>
        </p:nvPicPr>
        <p:blipFill>
          <a:blip r:embed="rId17"/>
          <a:stretch/>
        </p:blipFill>
        <p:spPr>
          <a:xfrm>
            <a:off x="3608280" y="2992320"/>
            <a:ext cx="488880" cy="763560"/>
          </a:xfrm>
          <a:prstGeom prst="rect">
            <a:avLst/>
          </a:prstGeom>
          <a:ln w="0">
            <a:noFill/>
          </a:ln>
        </p:spPr>
      </p:pic>
      <p:sp>
        <p:nvSpPr>
          <p:cNvPr id="176" name=""/>
          <p:cNvSpPr/>
          <p:nvPr/>
        </p:nvSpPr>
        <p:spPr>
          <a:xfrm>
            <a:off x="3443400" y="3506760"/>
            <a:ext cx="129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7624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873840" y="457668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865920" y="38847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846680" y="4589640"/>
            <a:ext cx="0" cy="46332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838760" y="389736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287880" y="458964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79600" y="3895560"/>
            <a:ext cx="0" cy="46224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18302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7044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5962680" y="2354400"/>
            <a:ext cx="0" cy="4618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27960" y="1757520"/>
            <a:ext cx="0" cy="242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7515360" y="2340000"/>
            <a:ext cx="0" cy="46368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5106600" y="3859200"/>
            <a:ext cx="1322280" cy="12600"/>
          </a:xfrm>
          <a:prstGeom prst="line">
            <a:avLst/>
          </a:prstGeom>
          <a:ln w="38160">
            <a:solidFill>
              <a:srgbClr val="ff0000"/>
            </a:solidFill>
            <a:prstDash val="sysDot"/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158" dur="indefinite" restart="never" nodeType="tmRoot">
          <p:childTnLst>
            <p:seq>
              <p:cTn id="159" dur="indefinite" nodeType="mainSeq">
                <p:childTnLst>
                  <p:par>
                    <p:cTn id="160" fill="hold">
                      <p:stCondLst>
                        <p:cond delay="0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1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6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6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5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6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0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1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4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6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1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6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1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1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6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1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6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1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4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6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6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6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6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9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1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1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4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6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9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1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9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1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6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1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4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1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500"/>
                            </p:stCondLst>
                            <p:childTnLst>
                              <p:par>
                                <p:cTn id="423" nodeType="after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28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1" dur="10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2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4" dur="1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5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37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8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0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1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3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6" dur="1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4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2" dur="10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5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58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" presetSubtype="32" repeatCount="indefinite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46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971640" y="189000"/>
            <a:ext cx="813744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Necessità di integrazione fra sistemi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92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9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4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36000" y="2516040"/>
            <a:ext cx="1485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Problem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619280" y="249408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2771640" y="1125360"/>
            <a:ext cx="6121440" cy="324036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919240" y="119700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0000cc"/>
                </a:solidFill>
                <a:latin typeface="Arial"/>
              </a:rPr>
              <a:t>ma ciascuna operava su piattaforme proprietarie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919240" y="225576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’intercomunicazione era agevole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solo all’interno di una stessa struttu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919240" y="3070080"/>
            <a:ext cx="5900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a comunicazione fra macchine prodotte da costruttori diversi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era molto difficoltosa e soggetta ad errori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919240" y="3884760"/>
            <a:ext cx="5900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gni modalità era considerata </a:t>
            </a:r>
            <a:r>
              <a:rPr b="1" lang="en-US" sz="1600" spc="-1" strike="noStrike">
                <a:solidFill>
                  <a:srgbClr val="0000cc"/>
                </a:solidFill>
                <a:latin typeface="Arial"/>
              </a:rPr>
              <a:t>un sistema isolato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4920" y="5072040"/>
            <a:ext cx="1503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Obiettiv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619280" y="5049720"/>
            <a:ext cx="1008000" cy="503280"/>
          </a:xfrm>
          <a:prstGeom prst="rightArrow">
            <a:avLst>
              <a:gd name="adj1" fmla="val 50000"/>
              <a:gd name="adj2" fmla="val 50072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1908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2771640" y="4724280"/>
            <a:ext cx="6121440" cy="1152720"/>
          </a:xfrm>
          <a:prstGeom prst="rect">
            <a:avLst/>
          </a:pr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2824200" y="4724280"/>
            <a:ext cx="5924520" cy="113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i fu la necessità che macchine di produttori diversi 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potessero comunicare fra di loro senza problemi 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e</a:t>
            </a:r>
            <a:r>
              <a:rPr b="1" lang="en-US" sz="1700" spc="-1" strike="noStrike">
                <a:solidFill>
                  <a:srgbClr val="0000cc"/>
                </a:solidFill>
                <a:latin typeface="Arial"/>
              </a:rPr>
              <a:t> fossero in grado di utilizzare un formato dei dati comune</a:t>
            </a: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randomBar dir="horz"/>
  </p:transition>
  <p:timing>
    <p:tnLst>
      <p:par>
        <p:cTn id="462" dur="indefinite" restart="never" nodeType="tmRoot">
          <p:childTnLst>
            <p:seq>
              <p:cTn id="463" dur="indefinite" nodeType="mainSeq">
                <p:childTnLst>
                  <p:par>
                    <p:cTn id="464" fill="hold">
                      <p:stCondLst>
                        <p:cond delay="0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8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9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0" fill="hold">
                            <p:stCondLst>
                              <p:cond delay="500"/>
                            </p:stCondLst>
                            <p:childTnLst>
                              <p:par>
                                <p:cTn id="471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3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4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1000"/>
                            </p:stCondLst>
                            <p:childTnLst>
                              <p:par>
                                <p:cTn id="47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9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0" fill="hold">
                            <p:stCondLst>
                              <p:cond delay="1500"/>
                            </p:stCondLst>
                            <p:childTnLst>
                              <p:par>
                                <p:cTn id="48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3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4" dur="5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2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9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7" fill="hold">
                      <p:stCondLst>
                        <p:cond delay="indefinite"/>
                      </p:stCondLst>
                      <p:childTnLst>
                        <p:par>
                          <p:cTn id="508" fill="hold">
                            <p:stCondLst>
                              <p:cond delay="0"/>
                            </p:stCondLst>
                            <p:childTnLst>
                              <p:par>
                                <p:cTn id="509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1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2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3" fill="hold">
                            <p:stCondLst>
                              <p:cond delay="500"/>
                            </p:stCondLst>
                            <p:childTnLst>
                              <p:par>
                                <p:cTn id="514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7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8" fill="hold">
                            <p:stCondLst>
                              <p:cond delay="1000"/>
                            </p:stCondLst>
                            <p:childTnLst>
                              <p:par>
                                <p:cTn id="519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3" fill="hold">
                            <p:stCondLst>
                              <p:cond delay="1500"/>
                            </p:stCondLst>
                            <p:childTnLst>
                              <p:par>
                                <p:cTn id="524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8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826920" y="189000"/>
            <a:ext cx="842652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3500" spc="-1" strike="noStrike">
                <a:solidFill>
                  <a:srgbClr val="0c1a7e"/>
                </a:solidFill>
                <a:latin typeface="Arial"/>
              </a:rPr>
              <a:t>DICOM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D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igital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I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aging and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CO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mmunication in </a:t>
            </a:r>
            <a:r>
              <a:rPr b="1" i="1" lang="it-IT" sz="2200" spc="-1" strike="noStrike">
                <a:solidFill>
                  <a:srgbClr val="ff0000"/>
                </a:solidFill>
                <a:latin typeface="Arial"/>
              </a:rPr>
              <a:t>M</a:t>
            </a:r>
            <a:r>
              <a:rPr b="1" i="1" lang="it-IT" sz="2200" spc="-1" strike="noStrike">
                <a:solidFill>
                  <a:srgbClr val="0c1a7e"/>
                </a:solidFill>
                <a:latin typeface="Arial"/>
              </a:rPr>
              <a:t>edicin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10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1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12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95280" y="1125360"/>
            <a:ext cx="827712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Per risolvere il problema dell’integrazione fra sistemi diversi, </a:t>
            </a:r>
            <a:r>
              <a:rPr b="1" lang="it-IT" sz="2000" spc="-1" strike="noStrike">
                <a:solidFill>
                  <a:srgbClr val="0000cc"/>
                </a:solidFill>
                <a:latin typeface="Arial"/>
              </a:rPr>
              <a:t>l’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American College of Radiology (ACR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e la </a:t>
            </a:r>
            <a:r>
              <a:rPr b="1" i="1" lang="it-IT" sz="2000" spc="-1" strike="noStrike">
                <a:solidFill>
                  <a:srgbClr val="0000cc"/>
                </a:solidFill>
                <a:latin typeface="Arial"/>
              </a:rPr>
              <a:t>National Electrical Manufactoring Association (NEMA)</a:t>
            </a:r>
            <a:r>
              <a:rPr b="0" i="1" lang="it-IT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formarono, nel 1983, un comitato congiunto per lo sviluppo di uno standard di comunicazione unic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95280" y="2638440"/>
            <a:ext cx="8277120" cy="158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l lavoro di questo comitato si concretizzò negli standard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1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5) e successivamente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ACR-NEMA 2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88). Il passo decisivo fu compiuto con la terza versione dello standard che venne denominata </a:t>
            </a:r>
            <a:r>
              <a:rPr b="1" i="1" lang="en-US" sz="2000" spc="-1" strike="noStrike">
                <a:solidFill>
                  <a:srgbClr val="0000cc"/>
                </a:solidFill>
                <a:latin typeface="Arial"/>
              </a:rPr>
              <a:t>DICOM 3.0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1993); può essere considerato </a:t>
            </a:r>
            <a:r>
              <a:rPr b="1" lang="en-US" sz="2000" spc="-1" strike="noStrike">
                <a:solidFill>
                  <a:srgbClr val="0000cc"/>
                </a:solidFill>
                <a:latin typeface="Arial"/>
              </a:rPr>
              <a:t>lo standard mondiale per il trasferimento e la gestione delle immagini mediche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230976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995720" y="5187960"/>
            <a:ext cx="432000" cy="504720"/>
          </a:xfrm>
          <a:prstGeom prst="rightArrow">
            <a:avLst>
              <a:gd name="adj1" fmla="val 50000"/>
              <a:gd name="adj2" fmla="val 25000"/>
            </a:avLst>
          </a:prstGeom>
          <a:gradFill rotWithShape="0">
            <a:gsLst>
              <a:gs pos="0">
                <a:srgbClr val="566768"/>
              </a:gs>
              <a:gs pos="100000">
                <a:srgbClr val="bbe0e3"/>
              </a:gs>
            </a:gsLst>
            <a:lin ang="5400000"/>
          </a:gradFill>
          <a:ln w="3240">
            <a:solidFill>
              <a:srgbClr val="0000c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280800" y="4446720"/>
            <a:ext cx="1803960" cy="1425600"/>
            <a:chOff x="280800" y="4446720"/>
            <a:chExt cx="1803960" cy="1425600"/>
          </a:xfrm>
        </p:grpSpPr>
        <p:grpSp>
          <p:nvGrpSpPr>
            <p:cNvPr id="220" name=""/>
            <p:cNvGrpSpPr/>
            <p:nvPr/>
          </p:nvGrpSpPr>
          <p:grpSpPr>
            <a:xfrm>
              <a:off x="280800" y="5007240"/>
              <a:ext cx="1803960" cy="865080"/>
              <a:chOff x="280800" y="5007240"/>
              <a:chExt cx="1803960" cy="865080"/>
            </a:xfrm>
          </p:grpSpPr>
          <p:sp>
            <p:nvSpPr>
              <p:cNvPr id="221" name=""/>
              <p:cNvSpPr/>
              <p:nvPr/>
            </p:nvSpPr>
            <p:spPr>
              <a:xfrm>
                <a:off x="281160" y="5007240"/>
                <a:ext cx="180000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>
                <a:off x="280800" y="525636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1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3" name=""/>
            <p:cNvSpPr/>
            <p:nvPr/>
          </p:nvSpPr>
          <p:spPr>
            <a:xfrm>
              <a:off x="85140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5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" name=""/>
          <p:cNvGrpSpPr/>
          <p:nvPr/>
        </p:nvGrpSpPr>
        <p:grpSpPr>
          <a:xfrm>
            <a:off x="2966760" y="4444920"/>
            <a:ext cx="1803960" cy="1427040"/>
            <a:chOff x="2966760" y="4444920"/>
            <a:chExt cx="1803960" cy="1427040"/>
          </a:xfrm>
        </p:grpSpPr>
        <p:grpSp>
          <p:nvGrpSpPr>
            <p:cNvPr id="225" name=""/>
            <p:cNvGrpSpPr/>
            <p:nvPr/>
          </p:nvGrpSpPr>
          <p:grpSpPr>
            <a:xfrm>
              <a:off x="2966760" y="5006880"/>
              <a:ext cx="1803960" cy="865080"/>
              <a:chOff x="2966760" y="5006880"/>
              <a:chExt cx="1803960" cy="865080"/>
            </a:xfrm>
          </p:grpSpPr>
          <p:sp>
            <p:nvSpPr>
              <p:cNvPr id="226" name=""/>
              <p:cNvSpPr/>
              <p:nvPr/>
            </p:nvSpPr>
            <p:spPr>
              <a:xfrm>
                <a:off x="2968560" y="5006880"/>
                <a:ext cx="1800360" cy="86508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7" name=""/>
              <p:cNvSpPr/>
              <p:nvPr/>
            </p:nvSpPr>
            <p:spPr>
              <a:xfrm>
                <a:off x="2966760" y="5256000"/>
                <a:ext cx="180396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800" spc="-1" strike="noStrike">
                    <a:solidFill>
                      <a:srgbClr val="ff0000"/>
                    </a:solidFill>
                    <a:latin typeface="Arial"/>
                  </a:rPr>
                  <a:t>ACR-NEMA 2.0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8" name=""/>
            <p:cNvSpPr/>
            <p:nvPr/>
          </p:nvSpPr>
          <p:spPr>
            <a:xfrm>
              <a:off x="3537360" y="44449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88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"/>
          <p:cNvGrpSpPr/>
          <p:nvPr/>
        </p:nvGrpSpPr>
        <p:grpSpPr>
          <a:xfrm>
            <a:off x="5651640" y="4446720"/>
            <a:ext cx="3311280" cy="1430280"/>
            <a:chOff x="5651640" y="4446720"/>
            <a:chExt cx="3311280" cy="1430280"/>
          </a:xfrm>
        </p:grpSpPr>
        <p:pic>
          <p:nvPicPr>
            <p:cNvPr id="230" name="" descr=""/>
            <p:cNvPicPr/>
            <p:nvPr/>
          </p:nvPicPr>
          <p:blipFill>
            <a:blip r:embed="rId3"/>
            <a:stretch/>
          </p:blipFill>
          <p:spPr>
            <a:xfrm>
              <a:off x="5651640" y="5004000"/>
              <a:ext cx="3311280" cy="873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" name=""/>
            <p:cNvSpPr/>
            <p:nvPr/>
          </p:nvSpPr>
          <p:spPr>
            <a:xfrm>
              <a:off x="6976080" y="4446720"/>
              <a:ext cx="662400" cy="353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700" spc="-1" strike="noStrike">
                  <a:solidFill>
                    <a:srgbClr val="ff0000"/>
                  </a:solidFill>
                  <a:latin typeface="Arial"/>
                </a:rPr>
                <a:t>1993</a:t>
              </a:r>
              <a:endParaRPr b="0" lang="en-US" sz="17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29" dur="indefinite" restart="never" nodeType="tmRoot">
          <p:childTnLst>
            <p:seq>
              <p:cTn id="530" dur="indefinite" nodeType="mainSeq">
                <p:childTnLst>
                  <p:par>
                    <p:cTn id="531" fill="hold">
                      <p:stCondLst>
                        <p:cond delay="0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5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6" fill="hold">
                      <p:stCondLst>
                        <p:cond delay="indefinite"/>
                      </p:stCondLst>
                      <p:childTnLst>
                        <p:par>
                          <p:cTn id="537" fill="hold">
                            <p:stCondLst>
                              <p:cond delay="0"/>
                            </p:stCondLst>
                            <p:childTnLst>
                              <p:par>
                                <p:cTn id="53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0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4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000"/>
                            </p:stCondLst>
                            <p:childTnLst>
                              <p:par>
                                <p:cTn id="5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8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9" fill="hold">
                            <p:stCondLst>
                              <p:cond delay="1500"/>
                            </p:stCondLst>
                            <p:childTnLst>
                              <p:par>
                                <p:cTn id="55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2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3" fill="hold">
                            <p:stCondLst>
                              <p:cond delay="2000"/>
                            </p:stCondLst>
                            <p:childTnLst>
                              <p:par>
                                <p:cTn id="5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5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2500"/>
                            </p:stCondLst>
                            <p:childTnLst>
                              <p:par>
                                <p:cTn id="5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60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395280" y="1700280"/>
            <a:ext cx="6985080" cy="1008000"/>
          </a:xfrm>
          <a:custGeom>
            <a:avLst/>
            <a:gdLst>
              <a:gd name="textAreaLeft" fmla="*/ 0 w 6985080"/>
              <a:gd name="textAreaRight" fmla="*/ 6985440 w 6985080"/>
              <a:gd name="textAreaTop" fmla="*/ 0 h 1008000"/>
              <a:gd name="textAreaBottom" fmla="*/ 1008360 h 100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0192" y="0"/>
                </a:lnTo>
                <a:lnTo>
                  <a:pt x="21600" y="10800"/>
                </a:lnTo>
                <a:lnTo>
                  <a:pt x="20192" y="21600"/>
                </a:lnTo>
                <a:lnTo>
                  <a:pt x="0" y="21600"/>
                </a:lnTo>
                <a:close/>
              </a:path>
            </a:pathLst>
          </a:custGeom>
          <a:gradFill rotWithShape="0">
            <a:gsLst>
              <a:gs pos="0">
                <a:srgbClr val="95b2b4"/>
              </a:gs>
              <a:gs pos="50000">
                <a:srgbClr val="bbe0e3"/>
              </a:gs>
              <a:gs pos="100000">
                <a:srgbClr val="95b2b4"/>
              </a:gs>
            </a:gsLst>
            <a:lin ang="5400000"/>
          </a:gradFill>
          <a:ln w="9360">
            <a:solidFill>
              <a:srgbClr val="0000ff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0" y="0"/>
            <a:ext cx="9144000" cy="981000"/>
          </a:xfrm>
          <a:prstGeom prst="rect">
            <a:avLst/>
          </a:prstGeom>
          <a:gradFill rotWithShape="0">
            <a:gsLst>
              <a:gs pos="0">
                <a:srgbClr val="bbe0e3"/>
              </a:gs>
              <a:gs pos="100000">
                <a:srgbClr val="708688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95280" y="189000"/>
            <a:ext cx="8858160" cy="6274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c1a7e"/>
                </a:solidFill>
                <a:latin typeface="Arial"/>
              </a:rPr>
              <a:t>Caratteristiche di DICOM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35" name=""/>
          <p:cNvGraphicFramePr/>
          <p:nvPr/>
        </p:nvGraphicFramePr>
        <p:xfrm>
          <a:off x="17640" y="17640"/>
          <a:ext cx="954000" cy="954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3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640" y="17640"/>
                    <a:ext cx="954000" cy="954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37" name=""/>
          <p:cNvSpPr/>
          <p:nvPr/>
        </p:nvSpPr>
        <p:spPr>
          <a:xfrm>
            <a:off x="0" y="6165720"/>
            <a:ext cx="9144000" cy="692280"/>
          </a:xfrm>
          <a:prstGeom prst="rect">
            <a:avLst/>
          </a:prstGeom>
          <a:gradFill rotWithShape="0">
            <a:gsLst>
              <a:gs pos="0">
                <a:srgbClr val="4c5b5d"/>
              </a:gs>
              <a:gs pos="100000">
                <a:srgbClr val="bbe0e3"/>
              </a:gs>
            </a:gsLst>
            <a:lin ang="5400000"/>
          </a:gradFill>
          <a:ln w="255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0" y="6354720"/>
            <a:ext cx="7777080" cy="3070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c1a7e"/>
                </a:solidFill>
                <a:latin typeface="Arial"/>
              </a:rPr>
              <a:t>Gestione, tramite protocollo DICOM, dei risultati di un programma di Computer-Aided Detec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8604360" y="6308640"/>
            <a:ext cx="504720" cy="398880"/>
          </a:xfrm>
          <a:prstGeom prst="rect">
            <a:avLst/>
          </a:prstGeom>
          <a:noFill/>
          <a:ln w="0">
            <a:noFill/>
          </a:ln>
          <a:effectLst>
            <a:outerShdw dist="40186" dir="1096358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c1a7e"/>
                </a:solidFill>
                <a:latin typeface="Arial"/>
              </a:rPr>
              <a:t>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34920" y="1192320"/>
            <a:ext cx="7129440" cy="475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DICOM è uno standard basato sull’architettura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Object-Oriented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informazioni del mondo reale (paziente, ricovero, immagini) modellate come oggetti informativi detti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Information Object Definition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Fornisce le specifiche delle operazioni denomina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DICOM Message Service </a:t>
            </a:r>
            <a:r>
              <a:rPr b="1" lang="it-IT" sz="1800" spc="-1" strike="noStrike">
                <a:solidFill>
                  <a:srgbClr val="0000cc"/>
                </a:solidFill>
                <a:latin typeface="Arial"/>
              </a:rPr>
              <a:t> (DIMSE)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 che possono essere eseguite su questi oggetti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Le operazioni DIMSE realizzano funzionalità dette </a:t>
            </a:r>
            <a:r>
              <a:rPr b="1" i="1" lang="it-IT" sz="1800" spc="-1" strike="noStrike">
                <a:solidFill>
                  <a:srgbClr val="0000cc"/>
                </a:solidFill>
                <a:latin typeface="Arial"/>
              </a:rPr>
              <a:t>Service Class</a:t>
            </a: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dality Worklist Management, Performed Procedure Step, Storage, Print, Query/Retrieve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ermette la comunicazione fra due applicazioni DICOM; una di esse fornisce il servizio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P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Provid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mentre l’altra lo utilizza (</a:t>
            </a:r>
            <a:r>
              <a:rPr b="1" lang="en-US" sz="1800" spc="-1" strike="noStrike">
                <a:solidFill>
                  <a:srgbClr val="0000cc"/>
                </a:solidFill>
                <a:latin typeface="Arial"/>
              </a:rPr>
              <a:t>SCU, </a:t>
            </a:r>
            <a:r>
              <a:rPr b="1" i="1" lang="en-US" sz="1800" spc="-1" strike="noStrike">
                <a:solidFill>
                  <a:srgbClr val="0000cc"/>
                </a:solidFill>
                <a:latin typeface="Arial"/>
              </a:rPr>
              <a:t>Service Class Us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1" name=""/>
          <p:cNvGrpSpPr/>
          <p:nvPr/>
        </p:nvGrpSpPr>
        <p:grpSpPr>
          <a:xfrm>
            <a:off x="7524720" y="1125360"/>
            <a:ext cx="1440000" cy="4896000"/>
            <a:chOff x="7524720" y="1125360"/>
            <a:chExt cx="1440000" cy="4896000"/>
          </a:xfrm>
        </p:grpSpPr>
        <p:grpSp>
          <p:nvGrpSpPr>
            <p:cNvPr id="242" name=""/>
            <p:cNvGrpSpPr/>
            <p:nvPr/>
          </p:nvGrpSpPr>
          <p:grpSpPr>
            <a:xfrm>
              <a:off x="7524720" y="1125360"/>
              <a:ext cx="1440000" cy="4896000"/>
              <a:chOff x="7524720" y="1125360"/>
              <a:chExt cx="1440000" cy="4896000"/>
            </a:xfrm>
          </p:grpSpPr>
          <p:sp>
            <p:nvSpPr>
              <p:cNvPr id="243" name=""/>
              <p:cNvSpPr/>
              <p:nvPr/>
            </p:nvSpPr>
            <p:spPr>
              <a:xfrm>
                <a:off x="7524720" y="112536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PAZIENT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7524720" y="259560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TUDIO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7524720" y="4100400"/>
                <a:ext cx="1440000" cy="43200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SERI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6" name=""/>
              <p:cNvSpPr/>
              <p:nvPr/>
            </p:nvSpPr>
            <p:spPr>
              <a:xfrm>
                <a:off x="7524720" y="5589720"/>
                <a:ext cx="1440000" cy="431640"/>
              </a:xfrm>
              <a:prstGeom prst="rect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600" spc="-1" strike="noStrike">
                    <a:solidFill>
                      <a:srgbClr val="0000cc"/>
                    </a:solidFill>
                    <a:latin typeface="Arial"/>
                  </a:rPr>
                  <a:t>IMMAGINE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7" name=""/>
              <p:cNvSpPr/>
              <p:nvPr/>
            </p:nvSpPr>
            <p:spPr>
              <a:xfrm>
                <a:off x="7524720" y="18432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8" name=""/>
              <p:cNvSpPr/>
              <p:nvPr/>
            </p:nvSpPr>
            <p:spPr>
              <a:xfrm>
                <a:off x="7524720" y="331308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9" name=""/>
              <p:cNvSpPr/>
              <p:nvPr/>
            </p:nvSpPr>
            <p:spPr>
              <a:xfrm>
                <a:off x="7524720" y="4800600"/>
                <a:ext cx="1440000" cy="503280"/>
              </a:xfrm>
              <a:prstGeom prst="diamond">
                <a:avLst/>
              </a:prstGeom>
              <a:gradFill rotWithShape="0">
                <a:gsLst>
                  <a:gs pos="0">
                    <a:srgbClr val="95b2b4"/>
                  </a:gs>
                  <a:gs pos="50000">
                    <a:srgbClr val="bbe0e3"/>
                  </a:gs>
                  <a:gs pos="100000">
                    <a:srgbClr val="95b2b4"/>
                  </a:gs>
                </a:gsLst>
                <a:lin ang="5400000"/>
              </a:gradFill>
              <a:ln w="9360">
                <a:solidFill>
                  <a:srgbClr val="0000ff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500" spc="-1" strike="noStrike">
                    <a:solidFill>
                      <a:srgbClr val="ff0000"/>
                    </a:solidFill>
                    <a:latin typeface="Arial"/>
                  </a:rPr>
                  <a:t>Contiene</a:t>
                </a:r>
                <a:endParaRPr b="0" lang="en-US" sz="15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0" name=""/>
              <p:cNvSpPr/>
              <p:nvPr/>
            </p:nvSpPr>
            <p:spPr>
              <a:xfrm flipV="1">
                <a:off x="8253360" y="155736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1" name=""/>
              <p:cNvSpPr/>
              <p:nvPr/>
            </p:nvSpPr>
            <p:spPr>
              <a:xfrm flipV="1">
                <a:off x="8253360" y="2344320"/>
                <a:ext cx="0" cy="25236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2" name=""/>
              <p:cNvSpPr/>
              <p:nvPr/>
            </p:nvSpPr>
            <p:spPr>
              <a:xfrm>
                <a:off x="8253360" y="5302080"/>
                <a:ext cx="0" cy="2890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 flipV="1">
                <a:off x="8253360" y="4532040"/>
                <a:ext cx="0" cy="269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 flipV="1">
                <a:off x="8253360" y="3814920"/>
                <a:ext cx="0" cy="28728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5" name=""/>
              <p:cNvSpPr/>
              <p:nvPr/>
            </p:nvSpPr>
            <p:spPr>
              <a:xfrm flipV="1">
                <a:off x="8253360" y="3026880"/>
                <a:ext cx="0" cy="287640"/>
              </a:xfrm>
              <a:prstGeom prst="line">
                <a:avLst/>
              </a:prstGeom>
              <a:ln w="9360">
                <a:solidFill>
                  <a:srgbClr val="0000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56" name=""/>
            <p:cNvSpPr/>
            <p:nvPr/>
          </p:nvSpPr>
          <p:spPr>
            <a:xfrm>
              <a:off x="8442000" y="162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8441280" y="227664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8442000" y="306720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441280" y="378792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8442000" y="4564080"/>
              <a:ext cx="2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1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8441280" y="5284800"/>
              <a:ext cx="438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00cc"/>
                  </a:solidFill>
                  <a:latin typeface="Arial"/>
                </a:rPr>
                <a:t>0,n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>
    <p:randomBar dir="horz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67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2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3" fill="hold">
                            <p:stCondLst>
                              <p:cond delay="500"/>
                            </p:stCondLst>
                            <p:childTnLst>
                              <p:par>
                                <p:cTn id="574" nodeType="afterEffect" fill="hold" presetClass="entr" presetID="14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7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03T13:48:30Z</dcterms:created>
  <dc:creator>Gabriele Garavini</dc:creator>
  <dc:description/>
  <dc:language>en-US</dc:language>
  <cp:lastModifiedBy>John Nash</cp:lastModifiedBy>
  <dcterms:modified xsi:type="dcterms:W3CDTF">2004-12-06T15:39:31Z</dcterms:modified>
  <cp:revision>45</cp:revision>
  <dc:subject/>
  <dc:title>Diapositiva 1</dc:title>
</cp:coreProperties>
</file>