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84B-5292-41EF-B947-E4D9654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E88-6E0E-4D32-BA36-B743BD7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3D8-A9F8-4F79-8CC8-A7333048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883-73DD-41AD-9C01-97E51C3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934-6B6F-4E68-8820-C8A208E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0DB-4D36-40C2-A452-06DC6DB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86C-EC4E-4B24-AFE7-AFEEF870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C25-266B-4BD5-9B0A-D6E3082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605-5A4B-437E-88E1-E6483090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8C6-55A9-4B8D-B41D-551D94F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F13-979D-402B-86CD-18AA44B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428-7111-4080-8456-4BBC6FE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8203-8448-4A79-A38D-84DB325F5522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2B4-CF1C-44CF-8D67-94DDF92516D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C51-23E7-49AE-A086-7B59B6D2384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19D9D-9E7F-4635-9883-7B32FE9833D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9BD-F343-40E2-9739-9F44D6FD65F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6D9EB-D0B8-4B33-83C1-39B80F3BA106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AF3-A6BD-4A28-A7AB-254A62E342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113D4-E158-4EEA-A4C1-A3C97BDE4C9E}" type="datetime1">
              <a:rPr lang="en-US"/>
              <a:t>07/30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5EA-03B2-46D6-B156-E4E25821BA4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4CA92-F463-4BB6-BD86-D38B2BA57AE4}" type="datetime1">
              <a:rPr lang="en-US"/>
              <a:t>07/30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930-2492-4357-B3E5-CA3F1C05D8B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1344-C7F0-4F89-B6D7-F3F29657E38C}" type="datetime1">
              <a:rPr lang="en-US"/>
              <a:t>07/30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D3D-7144-4A67-AA3D-1EE6F6194EA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40A26-24B3-439A-82A4-527A0B43C2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716-0EB6-473E-B91C-C434B045DD2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7CFA4-F679-4DFF-A466-2F1226DFA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B5B-01D5-436E-A645-419D9F0ACF5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B7CD9-A3CC-473D-B03D-7B0905B761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ECB-44FB-4139-A5E7-785A16DF331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124CE-4ED5-4568-9F48-5F024E5F31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436-3F24-4DC5-8C65-9EA49CF2F93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B1D02-EA66-4F03-9713-6FC2B399BBC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981-B298-4B65-A315-3E3F1BF06C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F1701-D935-4F83-8F4D-DBCF8183CB0C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B6-298B-49A1-9CD2-55DD28AFF8E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51EB1-107B-4721-8012-8CDB2EDE81E6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351-8DC4-43D8-94D9-DAB2EF99514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3E2F0-EAF9-44B8-9812-E503F8A9F26B}" type="datetime1">
              <a:rPr lang="en-US"/>
              <a:t>07/30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5C3-133F-4418-9932-118DF1508E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EDDA-2961-45AE-B631-E84948914D72}" type="datetime1">
              <a:rPr lang="en-US"/>
              <a:t>07/30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0F9-4D5B-444F-816F-AFD1D954601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7508F-D44C-47F4-B6AE-B83E54008B48}" type="datetime1">
              <a:rPr lang="en-US"/>
              <a:t>07/30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457-B6EF-45B3-BDDC-524A5DDB92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24011-7176-4128-AB6C-55F4830DC323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4E6-9FEE-4E13-A0E3-D43B494F1FA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8AB75-8C48-4D47-9273-4EF2F6476A95}" type="datetime1">
              <a:rPr lang="en-US"/>
              <a:t>07/30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6E7-319C-472B-BD8F-7BBA6CED245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32B56-F1D3-4612-884A-88A621A89856}" type="datetime1">
              <a:rPr lang="en-US"/>
              <a:t>07/30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