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D207-6304-4F90-BDD4-43077B02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A82B-54DF-4EE5-900E-0ACA07F3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421A-725E-4FD2-B60F-9F845328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F4B5-0EB8-4D4B-859F-C516591B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B2D8-13C2-440F-8157-B18342DD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5839-5953-4080-8166-43098395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0B9-7D7C-4FB9-BE18-F6205626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AA2F-6C40-443D-8BCC-BB501347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EC81-74FC-4053-B3FC-0813EE3B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2132-844F-46C5-99BD-AAFE63AE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DEFC-9A0A-43AB-B1EF-855B1C09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5ED9-0405-436E-B1E7-254FCF42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D9D3-4CC0-4F56-BCBF-D2A382C045F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46560" y="2852640"/>
          <a:ext cx="3997440" cy="39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6560" y="2852640"/>
                    <a:ext cx="3997440" cy="39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c9496"/>
              </a:gs>
              <a:gs pos="50000">
                <a:srgbClr val="bbe0e3">
                  <a:alpha val="19215"/>
                </a:srgbClr>
              </a:gs>
              <a:gs pos="100000">
                <a:srgbClr val="7c94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76280"/>
            <a:ext cx="860436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IVERS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DEGLI STUDI DI BOLO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ACO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I SCIENZE MATEMATICHE, FISICHE E NA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RSO DI LAUREA IN SCIENZE DELL’IN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124128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4720" y="2205000"/>
            <a:ext cx="8028000" cy="14644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cc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5734080"/>
            <a:ext cx="302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ABRIELE GARAV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4869000"/>
            <a:ext cx="4537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to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hiar.mo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Prof. RENATO CAMPAN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rrelat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Dott.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TTEO ROFFI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700280"/>
            <a:ext cx="1439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5640" y="189000"/>
            <a:ext cx="84978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c1a7e"/>
                </a:solidFill>
                <a:latin typeface="Arial"/>
              </a:rPr>
              <a:t>Lo Structured Report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5920" y="1190520"/>
            <a:ext cx="8372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 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Structured Reportin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rappresenta un’importante e recente estensione dello standard DICOM che permette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la gestione e l’archiviazione dei risultati dell’analisi di un’immagine medic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5920" y="2271600"/>
            <a:ext cx="837216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 standard di riferimento e 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Supplemento 5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Mammography Computer-Aided Detection S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lo Standard DI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590280" y="363996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ratteris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8360" y="4149720"/>
            <a:ext cx="8207280" cy="187164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1280" y="422100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I dati vengono archiviati utilizzando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una struttura ad albero molto compless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464040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Vengono utilizzati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ncetti codificati o numeric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aggiunta al testo esplici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1280" y="505944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E’ possibile utilizzare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relazion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diverso tipo fra i nodi dell’alber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547992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struttura può conten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riferimenti ad immagini o ad altri element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9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9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9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9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55640" y="189000"/>
            <a:ext cx="84978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Applicazione sviluppat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8520" y="1015920"/>
            <a:ext cx="827712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urante questo lavoro di tesi è stata realizzata 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un’applicazione client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SCU,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Service Class Use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 che permette 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l’inserimen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ei risultati dell’analisi dell’immagine mammografica all’interno del file DICOM e 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l’invi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egli stessi ad un server remoto (SCP,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Service Class Provide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 particolare, è stato concordato l’inserimento delle 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coordinate del centro della massa tumoral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o di più masse) eventualmente rilevata nell’immag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651640" y="2781360"/>
            <a:ext cx="3313080" cy="2449440"/>
            <a:chOff x="5651640" y="2781360"/>
            <a:chExt cx="3313080" cy="2449440"/>
          </a:xfrm>
        </p:grpSpPr>
        <p:sp>
          <p:nvSpPr>
            <p:cNvPr id="286" name=""/>
            <p:cNvSpPr/>
            <p:nvPr/>
          </p:nvSpPr>
          <p:spPr>
            <a:xfrm>
              <a:off x="5651640" y="2781360"/>
              <a:ext cx="3313080" cy="2449440"/>
            </a:xfrm>
            <a:prstGeom prst="ellipse">
              <a:avLst/>
            </a:prstGeom>
            <a:gradFill rotWithShape="0">
              <a:gsLst>
                <a:gs pos="0">
                  <a:srgbClr val="829c9e"/>
                </a:gs>
                <a:gs pos="50000">
                  <a:srgbClr val="bbe0e3"/>
                </a:gs>
                <a:gs pos="100000">
                  <a:srgbClr val="829c9e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06680" y="320688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DICOM Server (SC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aptop"/>
            <p:cNvSpPr/>
            <p:nvPr/>
          </p:nvSpPr>
          <p:spPr>
            <a:xfrm>
              <a:off x="6640560" y="3718080"/>
              <a:ext cx="1336680" cy="10191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077840" y="4437000"/>
            <a:ext cx="2340360" cy="1584360"/>
            <a:chOff x="1077840" y="4437000"/>
            <a:chExt cx="2340360" cy="1584360"/>
          </a:xfrm>
        </p:grpSpPr>
        <p:sp>
          <p:nvSpPr>
            <p:cNvPr id="290" name=""/>
            <p:cNvSpPr/>
            <p:nvPr/>
          </p:nvSpPr>
          <p:spPr>
            <a:xfrm>
              <a:off x="1096920" y="4437000"/>
              <a:ext cx="2303640" cy="1584360"/>
            </a:xfrm>
            <a:prstGeom prst="ellipse">
              <a:avLst/>
            </a:prstGeom>
            <a:gradFill rotWithShape="0">
              <a:gsLst>
                <a:gs pos="0">
                  <a:srgbClr val="829c9e"/>
                </a:gs>
                <a:gs pos="50000">
                  <a:srgbClr val="bbe0e3"/>
                </a:gs>
                <a:gs pos="100000">
                  <a:srgbClr val="829c9e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77840" y="501336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DICOM Client (SCU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60720" y="5372280"/>
              <a:ext cx="1972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cc"/>
                  </a:solidFill>
                  <a:latin typeface="Arial"/>
                </a:rPr>
                <a:t>(Applicazione realizzata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755640" y="2924280"/>
            <a:ext cx="998640" cy="1368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94" name=""/>
          <p:cNvSpPr/>
          <p:nvPr/>
        </p:nvSpPr>
        <p:spPr>
          <a:xfrm>
            <a:off x="4144680" y="5659560"/>
            <a:ext cx="372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SERIMENTO COORD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54240" y="3500280"/>
            <a:ext cx="216000" cy="21600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687d7e"/>
              </a:gs>
              <a:gs pos="50000">
                <a:srgbClr val="bbe0e3"/>
              </a:gs>
              <a:gs pos="100000">
                <a:srgbClr val="687d7e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71640" y="3247920"/>
            <a:ext cx="2232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Findings =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raphic Type =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raphic Data = “80.5, 100.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785360" y="541332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33"/>
                </a:solidFill>
                <a:latin typeface="Wingdings"/>
                <a:ea typeface="Wingdings"/>
              </a:rPr>
              <a:t>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91600" y="5661000"/>
            <a:ext cx="30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VIO FILE A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348000" y="4365720"/>
            <a:ext cx="2376360" cy="576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000"/>
                            </p:stCondLst>
                            <p:childTnLst>
                              <p:par>
                                <p:cTn id="6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1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6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9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350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55640" y="189000"/>
            <a:ext cx="84978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Inserimento dei risultati nel fi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62000" y="1197000"/>
            <a:ext cx="8820000" cy="4896000"/>
            <a:chOff x="162000" y="1197000"/>
            <a:chExt cx="8820000" cy="4896000"/>
          </a:xfrm>
        </p:grpSpPr>
        <p:sp>
          <p:nvSpPr>
            <p:cNvPr id="308" name=""/>
            <p:cNvSpPr/>
            <p:nvPr/>
          </p:nvSpPr>
          <p:spPr>
            <a:xfrm>
              <a:off x="3456000" y="1197000"/>
              <a:ext cx="2232000" cy="64764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MMOGRAPHY CAD RE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56000" y="213372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CONTA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72000" y="1844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28920" y="335772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AD PROCESSING AND FINDINGS SUM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All algorithms succedeed; with findin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2000" y="335772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MAGE LIBR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97280" y="3357720"/>
              <a:ext cx="201636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SUMMARY OF DETE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uccede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966000" y="335772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SUMMARY OF ANALY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uccede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572000" y="277956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74000" y="307008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05640" y="3068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36920" y="3068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70000" y="3068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50920" y="3070080"/>
              <a:ext cx="6840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20920" y="443880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INFERRED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435480" y="414972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419640" y="5084640"/>
              <a:ext cx="15840" cy="100836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419280" y="1844640"/>
            <a:ext cx="1152720" cy="4248360"/>
            <a:chOff x="3419280" y="1844640"/>
            <a:chExt cx="1152720" cy="4248360"/>
          </a:xfrm>
        </p:grpSpPr>
        <p:sp>
          <p:nvSpPr>
            <p:cNvPr id="325" name=""/>
            <p:cNvSpPr/>
            <p:nvPr/>
          </p:nvSpPr>
          <p:spPr>
            <a:xfrm>
              <a:off x="4572000" y="1844640"/>
              <a:ext cx="0" cy="12240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419280" y="3068640"/>
              <a:ext cx="11523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35480" y="3068640"/>
              <a:ext cx="0" cy="30243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62000" y="1125360"/>
            <a:ext cx="8820000" cy="4824720"/>
            <a:chOff x="162000" y="1125360"/>
            <a:chExt cx="8820000" cy="4824720"/>
          </a:xfrm>
        </p:grpSpPr>
        <p:sp>
          <p:nvSpPr>
            <p:cNvPr id="329" name=""/>
            <p:cNvSpPr/>
            <p:nvPr/>
          </p:nvSpPr>
          <p:spPr>
            <a:xfrm flipH="1">
              <a:off x="4564080" y="1125360"/>
              <a:ext cx="15840" cy="57492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28920" y="198900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IVIDUAL IMPRESSION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OMMEN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2000" y="198900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IVIDUAL IMPRESSION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OMMEN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97280" y="1989000"/>
              <a:ext cx="201636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IVIDUAL IMPRESSION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OMMEN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66000" y="198900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IVIDUAL IMPRESSION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OMMEN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74000" y="170172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05640" y="170028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436920" y="170028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70000" y="170028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50920" y="1701720"/>
              <a:ext cx="6840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436920" y="278136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16000" y="429264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NDERING INT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Presentation Requi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780000" y="429264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OMPOSITE FEA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Mammographic Breast Ma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35280" y="335772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CONTA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71640" y="335772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HAS CONCEPT M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085840" y="3068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49840" y="307008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85840" y="3070080"/>
              <a:ext cx="2665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85840" y="400536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49840" y="400356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65680" y="5084640"/>
              <a:ext cx="22320" cy="86544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419280" y="1125360"/>
            <a:ext cx="1368720" cy="4824720"/>
            <a:chOff x="3419280" y="1125360"/>
            <a:chExt cx="1368720" cy="4824720"/>
          </a:xfrm>
        </p:grpSpPr>
        <p:sp>
          <p:nvSpPr>
            <p:cNvPr id="351" name=""/>
            <p:cNvSpPr/>
            <p:nvPr/>
          </p:nvSpPr>
          <p:spPr>
            <a:xfrm>
              <a:off x="4572000" y="1125360"/>
              <a:ext cx="0" cy="574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19280" y="1700280"/>
              <a:ext cx="11523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35480" y="1700280"/>
              <a:ext cx="0" cy="13683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19640" y="3068640"/>
              <a:ext cx="13125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49840" y="3068640"/>
              <a:ext cx="38160" cy="28814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900000" y="1054080"/>
            <a:ext cx="6048360" cy="4896000"/>
            <a:chOff x="900000" y="1054080"/>
            <a:chExt cx="6048360" cy="4896000"/>
          </a:xfrm>
        </p:grpSpPr>
        <p:sp>
          <p:nvSpPr>
            <p:cNvPr id="357" name=""/>
            <p:cNvSpPr/>
            <p:nvPr/>
          </p:nvSpPr>
          <p:spPr>
            <a:xfrm flipH="1">
              <a:off x="4564080" y="1054080"/>
              <a:ext cx="15840" cy="57456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56000" y="1628640"/>
              <a:ext cx="2232000" cy="64800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INFERRED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70560" y="227664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68360" y="2852640"/>
              <a:ext cx="201636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NGLE IMAGE FI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Dens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32360" y="285264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NGLE IMAGE FI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Dens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01840" y="256392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02200" y="256536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03640" y="2565360"/>
              <a:ext cx="2698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087640" y="393372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HAS PROPERT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01840" y="458136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0000" y="5157720"/>
              <a:ext cx="201636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O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64000" y="515772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O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70200" y="486900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33840" y="48704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70200" y="4870440"/>
              <a:ext cx="2665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03640" y="364500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900000" y="1052640"/>
            <a:ext cx="3687840" cy="4860720"/>
            <a:chOff x="900000" y="1052640"/>
            <a:chExt cx="3687840" cy="4860720"/>
          </a:xfrm>
        </p:grpSpPr>
        <p:grpSp>
          <p:nvGrpSpPr>
            <p:cNvPr id="374" name=""/>
            <p:cNvGrpSpPr/>
            <p:nvPr/>
          </p:nvGrpSpPr>
          <p:grpSpPr>
            <a:xfrm>
              <a:off x="1852200" y="1052640"/>
              <a:ext cx="2735640" cy="4105080"/>
              <a:chOff x="1852200" y="1052640"/>
              <a:chExt cx="2735640" cy="4105080"/>
            </a:xfrm>
          </p:grpSpPr>
          <p:sp>
            <p:nvSpPr>
              <p:cNvPr id="375" name=""/>
              <p:cNvSpPr/>
              <p:nvPr/>
            </p:nvSpPr>
            <p:spPr>
              <a:xfrm>
                <a:off x="4572000" y="1052640"/>
                <a:ext cx="0" cy="15127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3184560" y="2565360"/>
                <a:ext cx="140328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203640" y="2565360"/>
                <a:ext cx="0" cy="23036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1852200" y="4869000"/>
                <a:ext cx="136836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870200" y="4869000"/>
                <a:ext cx="0" cy="2887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900000" y="5157720"/>
              <a:ext cx="2016360" cy="75564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3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4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8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3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2" dur="1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1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6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5146560" y="2852640"/>
          <a:ext cx="3997440" cy="39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6560" y="2852640"/>
                    <a:ext cx="3997440" cy="39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c9496"/>
              </a:gs>
              <a:gs pos="50000">
                <a:srgbClr val="bbe0e3">
                  <a:alpha val="19215"/>
                </a:srgbClr>
              </a:gs>
              <a:gs pos="100000">
                <a:srgbClr val="7c94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9640" y="476280"/>
            <a:ext cx="860436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IVERS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DEGLI STUDI DI BOLO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ACO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I SCIENZE MATEMATICHE, FISICHE E NA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RSO DI LAUREA IN SCIENZE DELL’IN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00000" y="124128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04720" y="2205000"/>
            <a:ext cx="8028000" cy="14644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cc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67280" y="5734080"/>
            <a:ext cx="302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ABRIELE GARAV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9280" y="4869000"/>
            <a:ext cx="4537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to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hiar.mo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Prof. RENATO CAMPAN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rrelat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Dott.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TTEO ROFFI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24000" y="1700280"/>
            <a:ext cx="1439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9000"/>
            <a:ext cx="91440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Sommar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 rot="5400000">
            <a:off x="548280" y="1286280"/>
            <a:ext cx="52236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5480" y="135720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19280" y="1268280"/>
            <a:ext cx="5905440" cy="576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4720" y="13273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548280" y="2078640"/>
            <a:ext cx="52236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5480" y="214956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2060640"/>
            <a:ext cx="5905440" cy="576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78320" y="2119320"/>
            <a:ext cx="46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e delle immagini med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548280" y="2870640"/>
            <a:ext cx="52236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5480" y="294156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2852640"/>
            <a:ext cx="5905440" cy="576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76160" y="2911320"/>
            <a:ext cx="50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ità di integrazione fra si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548640" y="3663000"/>
            <a:ext cx="52200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5480" y="373392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3645000"/>
            <a:ext cx="5905440" cy="57600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75080" y="3703680"/>
            <a:ext cx="57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tocollo DICOM e Structure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548280" y="4455000"/>
            <a:ext cx="52236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5480" y="452592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4437000"/>
            <a:ext cx="5905440" cy="576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79040" y="449568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zione svilupp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548640" y="5247360"/>
            <a:ext cx="52200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5480" y="531828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5229360"/>
            <a:ext cx="5905440" cy="57600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78680" y="5288040"/>
            <a:ext cx="38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i e sviluppi fut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89000"/>
            <a:ext cx="91440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Introduzion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0720" y="1484280"/>
            <a:ext cx="8277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o lavoro di tesi si colloca nell’ambito di un progetto di Computer-Aided Detection (CAD) sviluppato da un gruppo di ricerca denominato 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Medical Imaging Group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(MIG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0720" y="2565360"/>
            <a:ext cx="827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o è composto d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isici dell’Università di Bologna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d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nformatici del Corso di Laurea in Scienze dell’Informazione di Cese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44244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iet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0920" y="4400640"/>
            <a:ext cx="1008360" cy="503280"/>
          </a:xfrm>
          <a:prstGeom prst="rightArrow">
            <a:avLst>
              <a:gd name="adj1" fmla="val 50000"/>
              <a:gd name="adj2" fmla="val 50089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1908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492360" y="3787920"/>
            <a:ext cx="5400720" cy="1728720"/>
            <a:chOff x="3492360" y="3787920"/>
            <a:chExt cx="5400720" cy="1728720"/>
          </a:xfrm>
        </p:grpSpPr>
        <p:sp>
          <p:nvSpPr>
            <p:cNvPr id="93" name=""/>
            <p:cNvSpPr/>
            <p:nvPr/>
          </p:nvSpPr>
          <p:spPr>
            <a:xfrm>
              <a:off x="3492360" y="3787920"/>
              <a:ext cx="5400720" cy="1728720"/>
            </a:xfrm>
            <a:prstGeom prst="rect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43480" y="3995640"/>
              <a:ext cx="5205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 ricerca e lo sviluppo di metodologie e apparati che possano aiutare i medici nella 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rilevazione e nella diagnosi precoce di tumori al sen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5080" y="189000"/>
            <a:ext cx="82440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La gestione delle immagini medich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190520"/>
            <a:ext cx="827712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tappa fondamentale nel percorso di miglioramento, dal punto di vista tecnologico, delle apparecchiature utilizzate in ambito ospedaliero è rappresentata dal passaggio all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ecnologia digit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8800" y="2421000"/>
            <a:ext cx="698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vantaggi offerti da questo tipo di tecnologia sono moltepli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3068640"/>
            <a:ext cx="8713800" cy="266400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182760"/>
            <a:ext cx="822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Un’immagine digitale può essere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elaborata al compu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che dopo la creazio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3693960"/>
            <a:ext cx="83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In ambito radiografico,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si riduce la dose di radiazion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omministrata al pazien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420516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Vengono messi a disposizione del radiologo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sistemi di rilevazione automatizzati (CAD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4716360"/>
            <a:ext cx="83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E’ possibile creare una cartella clinica del paziente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mpletamente computerizza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522756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5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Le informazioni possono essere trasmesse a distanza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in modo semplice e velo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189000"/>
            <a:ext cx="813744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I sistemi informativi ospedalier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00" y="1052640"/>
            <a:ext cx="8277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i ultimi anni, le tecnologie informatiche sono state caratterizzate da una continua e crescente evoluzione che ha permesso di realizzar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istemi informativi ospedalieri sempre più potenti, veloci e sicu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0920" y="2133720"/>
            <a:ext cx="4664160" cy="3338280"/>
            <a:chOff x="250920" y="2133720"/>
            <a:chExt cx="4664160" cy="3338280"/>
          </a:xfrm>
        </p:grpSpPr>
        <p:grpSp>
          <p:nvGrpSpPr>
            <p:cNvPr id="119" name=""/>
            <p:cNvGrpSpPr/>
            <p:nvPr/>
          </p:nvGrpSpPr>
          <p:grpSpPr>
            <a:xfrm>
              <a:off x="250920" y="4935600"/>
              <a:ext cx="4664160" cy="536400"/>
              <a:chOff x="250920" y="4935600"/>
              <a:chExt cx="4664160" cy="536400"/>
            </a:xfrm>
          </p:grpSpPr>
          <p:sp>
            <p:nvSpPr>
              <p:cNvPr id="120" name=""/>
              <p:cNvSpPr txBox="1"/>
              <p:nvPr/>
            </p:nvSpPr>
            <p:spPr>
              <a:xfrm>
                <a:off x="250920" y="4935600"/>
                <a:ext cx="847800" cy="504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2232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PACS</a:t>
                </a:r>
                <a:endPara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  <p:sp>
            <p:nvSpPr>
              <p:cNvPr id="121" name=""/>
              <p:cNvSpPr txBox="1"/>
              <p:nvPr/>
            </p:nvSpPr>
            <p:spPr>
              <a:xfrm>
                <a:off x="1371600" y="5224320"/>
                <a:ext cx="3543480" cy="247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1" strike="noStrike">
                    <a:ln w="1260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Picture Archiving and Communication System</a:t>
                </a:r>
                <a:endPara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50920" y="3495600"/>
              <a:ext cx="3600000" cy="531720"/>
              <a:chOff x="250920" y="3495600"/>
              <a:chExt cx="3600000" cy="531720"/>
            </a:xfrm>
          </p:grpSpPr>
          <p:sp>
            <p:nvSpPr>
              <p:cNvPr id="123" name=""/>
              <p:cNvSpPr txBox="1"/>
              <p:nvPr/>
            </p:nvSpPr>
            <p:spPr>
              <a:xfrm>
                <a:off x="250920" y="3495600"/>
                <a:ext cx="542520" cy="504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2232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RIS</a:t>
                </a:r>
                <a:endPara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1069920" y="3779640"/>
                <a:ext cx="2781000" cy="247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1" strike="noStrike">
                    <a:ln w="1260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Radiological Information System </a:t>
                </a:r>
                <a:endPara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250920" y="2133720"/>
              <a:ext cx="3341160" cy="520560"/>
              <a:chOff x="250920" y="2133720"/>
              <a:chExt cx="3341160" cy="520560"/>
            </a:xfrm>
          </p:grpSpPr>
          <p:sp>
            <p:nvSpPr>
              <p:cNvPr id="126" name=""/>
              <p:cNvSpPr txBox="1"/>
              <p:nvPr/>
            </p:nvSpPr>
            <p:spPr>
              <a:xfrm>
                <a:off x="250920" y="2133720"/>
                <a:ext cx="552240" cy="504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2232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HIS</a:t>
                </a:r>
                <a:endPara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1096920" y="2406600"/>
                <a:ext cx="2495160" cy="247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1" strike="noStrike">
                    <a:ln w="1260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Hospital Information System </a:t>
                </a:r>
                <a:endPara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326880" y="2708280"/>
            <a:ext cx="8637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istema Informativo Ospedaliero, responsabile prevalentemente della </a:t>
            </a:r>
            <a:r>
              <a:rPr b="1" i="1" lang="en-US" sz="1500" spc="-1" strike="noStrike">
                <a:solidFill>
                  <a:srgbClr val="0000cc"/>
                </a:solidFill>
                <a:latin typeface="Arial"/>
              </a:rPr>
              <a:t>gestione complessiva del paziente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(accettazione, prenotazione di esami, fatturazione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6880" y="4043520"/>
            <a:ext cx="863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istema Informativo Radiologico, responsabile prevalentemente della </a:t>
            </a:r>
            <a:r>
              <a:rPr b="1" i="1" lang="en-US" sz="1500" spc="-1" strike="noStrike">
                <a:solidFill>
                  <a:srgbClr val="0000cc"/>
                </a:solidFill>
                <a:latin typeface="Arial"/>
              </a:rPr>
              <a:t>gestione delle attività specifiche locali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(programmazione degli esami, esecuzione esame,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archiviazione e distribuzione dei referti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6880" y="5511960"/>
            <a:ext cx="8637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istema per l'Archiviazione e la Comunicazione delle Immagini, </a:t>
            </a:r>
            <a:r>
              <a:rPr b="1" i="1" lang="en-US" sz="1500" spc="-1" strike="noStrike">
                <a:solidFill>
                  <a:srgbClr val="0000cc"/>
                </a:solidFill>
                <a:latin typeface="Arial"/>
              </a:rPr>
              <a:t>responsabile della parte riguardante le immagini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(acquisizione, archiviazione e distribuzione d’immagini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189000"/>
            <a:ext cx="81378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Schema di un PAC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1125360"/>
            <a:ext cx="7488360" cy="4824720"/>
          </a:xfrm>
          <a:prstGeom prst="roundRect">
            <a:avLst>
              <a:gd name="adj" fmla="val 8213"/>
            </a:avLst>
          </a:prstGeom>
          <a:solidFill>
            <a:srgbClr val="ffffff"/>
          </a:soli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685880" y="1246320"/>
            <a:ext cx="366840" cy="498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894120" y="1246320"/>
            <a:ext cx="290520" cy="358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3770280" y="1374840"/>
            <a:ext cx="252360" cy="312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5775480" y="1258920"/>
            <a:ext cx="571320" cy="555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7262640" y="1260360"/>
            <a:ext cx="587520" cy="513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950280" y="155592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TIFF,BMP,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68040" y="156672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Mod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81360" y="1760400"/>
            <a:ext cx="1440" cy="20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4440" y="1760400"/>
            <a:ext cx="1440" cy="20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1773360"/>
            <a:ext cx="1440" cy="24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1654200" y="1940040"/>
            <a:ext cx="436680" cy="399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301760" y="2854440"/>
            <a:ext cx="6681600" cy="730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1569960" y="5241960"/>
            <a:ext cx="1263600" cy="671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353960" y="4371840"/>
            <a:ext cx="84960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00360" y="4371840"/>
            <a:ext cx="116820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Consul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84520" y="458964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1640" y="4371840"/>
            <a:ext cx="129708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Visualizz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54800" y="4371840"/>
            <a:ext cx="84924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ta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7440" y="5097600"/>
            <a:ext cx="1800" cy="19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94360" y="5081760"/>
            <a:ext cx="1800" cy="22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0"/>
          <a:stretch/>
        </p:blipFill>
        <p:spPr>
          <a:xfrm>
            <a:off x="3568680" y="5229360"/>
            <a:ext cx="1203480" cy="709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041720" y="5081760"/>
            <a:ext cx="1800" cy="22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11680" y="149688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ca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1"/>
          <a:srcRect l="0" t="0" r="0" b="20742"/>
          <a:stretch/>
        </p:blipFill>
        <p:spPr>
          <a:xfrm>
            <a:off x="5508720" y="5214960"/>
            <a:ext cx="1270080" cy="660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301760" y="5038560"/>
            <a:ext cx="6620040" cy="842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01760" y="3827520"/>
            <a:ext cx="3679920" cy="745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96480" y="3279600"/>
            <a:ext cx="13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Imag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2"/>
          <a:stretch/>
        </p:blipFill>
        <p:spPr>
          <a:xfrm>
            <a:off x="6477120" y="3252960"/>
            <a:ext cx="423720" cy="450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13160" y="361008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Stampa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3"/>
          <a:stretch/>
        </p:blipFill>
        <p:spPr>
          <a:xfrm>
            <a:off x="6956280" y="3259080"/>
            <a:ext cx="412920" cy="411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4"/>
          <a:stretch/>
        </p:blipFill>
        <p:spPr>
          <a:xfrm>
            <a:off x="3813120" y="1940040"/>
            <a:ext cx="434880" cy="399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5"/>
          <a:stretch/>
        </p:blipFill>
        <p:spPr>
          <a:xfrm>
            <a:off x="5742000" y="1952640"/>
            <a:ext cx="434880" cy="399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020000" y="2022480"/>
            <a:ext cx="968400" cy="182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Aquisi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46560" y="2048040"/>
            <a:ext cx="849240" cy="207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Cap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17880" y="2048040"/>
            <a:ext cx="84924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c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6"/>
          <a:stretch/>
        </p:blipFill>
        <p:spPr>
          <a:xfrm>
            <a:off x="2873520" y="2992320"/>
            <a:ext cx="615960" cy="771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7"/>
          <a:stretch/>
        </p:blipFill>
        <p:spPr>
          <a:xfrm>
            <a:off x="3608280" y="2992320"/>
            <a:ext cx="488880" cy="763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443400" y="3506760"/>
            <a:ext cx="12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76240" y="3895560"/>
            <a:ext cx="0" cy="462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73840" y="457668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65920" y="388476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46680" y="4589640"/>
            <a:ext cx="0" cy="463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38760" y="389736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87880" y="458964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9600" y="3895560"/>
            <a:ext cx="0" cy="462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30240" y="2340000"/>
            <a:ext cx="0" cy="4636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70440" y="2340000"/>
            <a:ext cx="0" cy="4636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62680" y="235440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27960" y="1757520"/>
            <a:ext cx="0" cy="24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15360" y="2340000"/>
            <a:ext cx="0" cy="4636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106600" y="3859200"/>
            <a:ext cx="1322280" cy="12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71640" y="189000"/>
            <a:ext cx="813744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Necessità di integrazione fra sistem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000" y="25160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19280" y="2494080"/>
            <a:ext cx="1008000" cy="503280"/>
          </a:xfrm>
          <a:prstGeom prst="rightArrow">
            <a:avLst>
              <a:gd name="adj1" fmla="val 50000"/>
              <a:gd name="adj2" fmla="val 50072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1908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1125360"/>
            <a:ext cx="6121440" cy="3240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19240" y="1197000"/>
            <a:ext cx="59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ma ciascuna operava su piattaforme proprietari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9240" y="2255760"/>
            <a:ext cx="590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’intercomunicazione era agevole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solo all’interno di una stessa struttu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19240" y="3070080"/>
            <a:ext cx="590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comunicazione fra macchine prodotte da costruttori diversi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era molto difficoltosa e soggetta ad error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19240" y="3884760"/>
            <a:ext cx="59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gni modalità era considerata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un sistema isola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20" y="507204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iet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19280" y="5049720"/>
            <a:ext cx="1008000" cy="503280"/>
          </a:xfrm>
          <a:prstGeom prst="rightArrow">
            <a:avLst>
              <a:gd name="adj1" fmla="val 50000"/>
              <a:gd name="adj2" fmla="val 50072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1908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71640" y="4724280"/>
            <a:ext cx="6121440" cy="115272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24200" y="4724280"/>
            <a:ext cx="59245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i fu la necessità che macchine di produttori diversi </a:t>
            </a:r>
            <a:r>
              <a:rPr b="1" lang="en-US" sz="1700" spc="-1" strike="noStrike">
                <a:solidFill>
                  <a:srgbClr val="0000cc"/>
                </a:solidFill>
                <a:latin typeface="Arial"/>
              </a:rPr>
              <a:t>potessero comunicare fra di loro senza problemi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700" spc="-1" strike="noStrike">
                <a:solidFill>
                  <a:srgbClr val="0000cc"/>
                </a:solidFill>
                <a:latin typeface="Arial"/>
              </a:rPr>
              <a:t> fossero in grado di utilizzare un formato dei dati comun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6920" y="189000"/>
            <a:ext cx="842652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c1a7e"/>
                </a:solidFill>
                <a:latin typeface="Arial"/>
              </a:rPr>
              <a:t>DICOM </a:t>
            </a:r>
            <a:r>
              <a:rPr b="1" i="1" lang="it-IT" sz="2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it-IT" sz="2200" spc="-1" strike="noStrike">
                <a:solidFill>
                  <a:srgbClr val="0c1a7e"/>
                </a:solidFill>
                <a:latin typeface="Arial"/>
              </a:rPr>
              <a:t>igital </a:t>
            </a:r>
            <a:r>
              <a:rPr b="1" i="1" lang="it-IT" sz="2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i="1" lang="it-IT" sz="2200" spc="-1" strike="noStrike">
                <a:solidFill>
                  <a:srgbClr val="0c1a7e"/>
                </a:solidFill>
                <a:latin typeface="Arial"/>
              </a:rPr>
              <a:t>maging and </a:t>
            </a:r>
            <a:r>
              <a:rPr b="1" i="1" lang="it-IT" sz="22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i="1" lang="it-IT" sz="2200" spc="-1" strike="noStrike">
                <a:solidFill>
                  <a:srgbClr val="0c1a7e"/>
                </a:solidFill>
                <a:latin typeface="Arial"/>
              </a:rPr>
              <a:t>mmunication in </a:t>
            </a:r>
            <a:r>
              <a:rPr b="1" i="1" lang="it-IT" sz="2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i="1" lang="it-IT" sz="2200" spc="-1" strike="noStrike">
                <a:solidFill>
                  <a:srgbClr val="0c1a7e"/>
                </a:solidFill>
                <a:latin typeface="Arial"/>
              </a:rPr>
              <a:t>edic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1125360"/>
            <a:ext cx="8277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risolvere il problema dell’integrazione fra sistemi diversi,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l’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American College of Radiology (ACR)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 la 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National Electrical Manufactoring Association (NEMA)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marono, nel 1983, un comitato congiunto per lo sviluppo di uno standard di comunicazione u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2638440"/>
            <a:ext cx="827712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lavoro di questo comitato si concretizzò negli standard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ACR-NEMA 1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85) e successivamente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ACR-NEMA 2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88). Il passo decisivo fu compiuto con la terza versione dello standard che venne denominata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DICOM 3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93); può essere considera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o standard mondiale per il trasferimento e la gestione delle immagini medi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09760" y="5187960"/>
            <a:ext cx="432000" cy="5047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324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95720" y="5187960"/>
            <a:ext cx="432000" cy="5047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324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80800" y="4446720"/>
            <a:ext cx="1803960" cy="1425600"/>
            <a:chOff x="280800" y="4446720"/>
            <a:chExt cx="1803960" cy="1425600"/>
          </a:xfrm>
        </p:grpSpPr>
        <p:grpSp>
          <p:nvGrpSpPr>
            <p:cNvPr id="220" name=""/>
            <p:cNvGrpSpPr/>
            <p:nvPr/>
          </p:nvGrpSpPr>
          <p:grpSpPr>
            <a:xfrm>
              <a:off x="280800" y="5007240"/>
              <a:ext cx="1803960" cy="865080"/>
              <a:chOff x="280800" y="5007240"/>
              <a:chExt cx="1803960" cy="865080"/>
            </a:xfrm>
          </p:grpSpPr>
          <p:sp>
            <p:nvSpPr>
              <p:cNvPr id="221" name=""/>
              <p:cNvSpPr/>
              <p:nvPr/>
            </p:nvSpPr>
            <p:spPr>
              <a:xfrm>
                <a:off x="281160" y="5007240"/>
                <a:ext cx="1800000" cy="86508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80800" y="5256360"/>
                <a:ext cx="180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CR-NEMA 1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851400" y="4446720"/>
              <a:ext cx="6624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1985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966760" y="4444920"/>
            <a:ext cx="1803960" cy="1427040"/>
            <a:chOff x="2966760" y="4444920"/>
            <a:chExt cx="1803960" cy="1427040"/>
          </a:xfrm>
        </p:grpSpPr>
        <p:grpSp>
          <p:nvGrpSpPr>
            <p:cNvPr id="225" name=""/>
            <p:cNvGrpSpPr/>
            <p:nvPr/>
          </p:nvGrpSpPr>
          <p:grpSpPr>
            <a:xfrm>
              <a:off x="2966760" y="5006880"/>
              <a:ext cx="1803960" cy="865080"/>
              <a:chOff x="2966760" y="5006880"/>
              <a:chExt cx="1803960" cy="865080"/>
            </a:xfrm>
          </p:grpSpPr>
          <p:sp>
            <p:nvSpPr>
              <p:cNvPr id="226" name=""/>
              <p:cNvSpPr/>
              <p:nvPr/>
            </p:nvSpPr>
            <p:spPr>
              <a:xfrm>
                <a:off x="2968560" y="5006880"/>
                <a:ext cx="1800360" cy="86508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966760" y="5256000"/>
                <a:ext cx="180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CR-NEMA 2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3537360" y="4444920"/>
              <a:ext cx="6624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1988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651640" y="4446720"/>
            <a:ext cx="3311280" cy="1430280"/>
            <a:chOff x="5651640" y="4446720"/>
            <a:chExt cx="3311280" cy="1430280"/>
          </a:xfrm>
        </p:grpSpPr>
        <p:pic>
          <p:nvPicPr>
            <p:cNvPr id="230" name="" descr=""/>
            <p:cNvPicPr/>
            <p:nvPr/>
          </p:nvPicPr>
          <p:blipFill>
            <a:blip r:embed="rId3"/>
            <a:stretch/>
          </p:blipFill>
          <p:spPr>
            <a:xfrm>
              <a:off x="5651640" y="5004000"/>
              <a:ext cx="331128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6976080" y="4446720"/>
              <a:ext cx="6624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199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95280" y="1700280"/>
            <a:ext cx="6985080" cy="1008000"/>
          </a:xfrm>
          <a:custGeom>
            <a:avLst/>
            <a:gdLst>
              <a:gd name="textAreaLeft" fmla="*/ 0 w 6985080"/>
              <a:gd name="textAreaRight" fmla="*/ 6985440 w 6985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2" y="0"/>
                </a:lnTo>
                <a:lnTo>
                  <a:pt x="21600" y="10800"/>
                </a:lnTo>
                <a:lnTo>
                  <a:pt x="2019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189000"/>
            <a:ext cx="885816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Caratteristiche di DICO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920" y="1192320"/>
            <a:ext cx="712944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COM è uno standard basato sull’architettura </a:t>
            </a:r>
            <a:r>
              <a:rPr b="1" lang="it-IT" sz="1800" spc="-1" strike="noStrike">
                <a:solidFill>
                  <a:srgbClr val="0000cc"/>
                </a:solidFill>
                <a:latin typeface="Arial"/>
              </a:rPr>
              <a:t>Object-Oriente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nisce informazioni del mondo reale (paziente, ricovero, immagini) modellate come oggetti informativi detti </a:t>
            </a:r>
            <a:r>
              <a:rPr b="1" i="1" lang="it-IT" sz="1800" spc="-1" strike="noStrike">
                <a:solidFill>
                  <a:srgbClr val="0000cc"/>
                </a:solidFill>
                <a:latin typeface="Arial"/>
              </a:rPr>
              <a:t>Information Object Definitio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nisce le specifiche delle operazioni denominate </a:t>
            </a:r>
            <a:r>
              <a:rPr b="1" i="1" lang="it-IT" sz="1800" spc="-1" strike="noStrike">
                <a:solidFill>
                  <a:srgbClr val="0000cc"/>
                </a:solidFill>
                <a:latin typeface="Arial"/>
              </a:rPr>
              <a:t>DICOM Message Service </a:t>
            </a:r>
            <a:r>
              <a:rPr b="1" lang="it-IT" sz="1800" spc="-1" strike="noStrike">
                <a:solidFill>
                  <a:srgbClr val="0000cc"/>
                </a:solidFill>
                <a:latin typeface="Arial"/>
              </a:rPr>
              <a:t> (DIMSE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che possono essere eseguite su questi oggett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operazioni DIMSE realizzano funzionalità dette </a:t>
            </a:r>
            <a:r>
              <a:rPr b="1" i="1" lang="it-IT" sz="1800" spc="-1" strike="noStrike">
                <a:solidFill>
                  <a:srgbClr val="0000cc"/>
                </a:solidFill>
                <a:latin typeface="Arial"/>
              </a:rPr>
              <a:t>Service Clas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ality Worklist Management, Performed Procedure Step, Storage, Print, Query/Retriev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ette la comunicazione fra due applicazioni DICOM; una di esse fornisce il servizio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CP,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Service Class Provi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mentre l’altra lo utilizza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CU,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Service Class 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524720" y="1125360"/>
            <a:ext cx="1440000" cy="4896000"/>
            <a:chOff x="7524720" y="1125360"/>
            <a:chExt cx="1440000" cy="4896000"/>
          </a:xfrm>
        </p:grpSpPr>
        <p:grpSp>
          <p:nvGrpSpPr>
            <p:cNvPr id="242" name=""/>
            <p:cNvGrpSpPr/>
            <p:nvPr/>
          </p:nvGrpSpPr>
          <p:grpSpPr>
            <a:xfrm>
              <a:off x="7524720" y="1125360"/>
              <a:ext cx="1440000" cy="4896000"/>
              <a:chOff x="7524720" y="1125360"/>
              <a:chExt cx="1440000" cy="4896000"/>
            </a:xfrm>
          </p:grpSpPr>
          <p:sp>
            <p:nvSpPr>
              <p:cNvPr id="243" name=""/>
              <p:cNvSpPr/>
              <p:nvPr/>
            </p:nvSpPr>
            <p:spPr>
              <a:xfrm>
                <a:off x="7524720" y="1125360"/>
                <a:ext cx="1440000" cy="43200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Arial"/>
                  </a:rPr>
                  <a:t>PAZIEN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524720" y="2595600"/>
                <a:ext cx="1440000" cy="43164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Arial"/>
                  </a:rPr>
                  <a:t>STUDI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524720" y="4100400"/>
                <a:ext cx="1440000" cy="43200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Arial"/>
                  </a:rPr>
                  <a:t>SERI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24720" y="5589720"/>
                <a:ext cx="1440000" cy="43164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Arial"/>
                  </a:rPr>
                  <a:t>IMMAGIN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24720" y="1843200"/>
                <a:ext cx="1440000" cy="503280"/>
              </a:xfrm>
              <a:prstGeom prst="diamond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0000"/>
                    </a:solidFill>
                    <a:latin typeface="Arial"/>
                  </a:rPr>
                  <a:t>Contien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24720" y="3313080"/>
                <a:ext cx="1440000" cy="503280"/>
              </a:xfrm>
              <a:prstGeom prst="diamond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0000"/>
                    </a:solidFill>
                    <a:latin typeface="Arial"/>
                  </a:rPr>
                  <a:t>Contien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24720" y="4800600"/>
                <a:ext cx="1440000" cy="503280"/>
              </a:xfrm>
              <a:prstGeom prst="diamond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0000"/>
                    </a:solidFill>
                    <a:latin typeface="Arial"/>
                  </a:rPr>
                  <a:t>Contien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8253360" y="1557360"/>
                <a:ext cx="0" cy="287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8253360" y="2344320"/>
                <a:ext cx="0" cy="252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253360" y="5302080"/>
                <a:ext cx="0" cy="289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8253360" y="4532040"/>
                <a:ext cx="0" cy="2696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8253360" y="3814920"/>
                <a:ext cx="0" cy="287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8253360" y="3026880"/>
                <a:ext cx="0" cy="2876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8442000" y="1627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41280" y="227664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,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42000" y="3067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441280" y="378792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,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442000" y="4564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441280" y="528480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0,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3T13:48:30Z</dcterms:created>
  <dc:creator>Gabriele Garavini</dc:creator>
  <dc:description/>
  <dc:language>en-US</dc:language>
  <cp:lastModifiedBy>John Nash</cp:lastModifiedBy>
  <dcterms:modified xsi:type="dcterms:W3CDTF">2004-12-06T15:39:31Z</dcterms:modified>
  <cp:revision>45</cp:revision>
  <dc:subject/>
  <dc:title>Diapositiva 1</dc:title>
</cp:coreProperties>
</file>