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42800" cy="98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1960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898200" y="741240"/>
            <a:ext cx="4946760" cy="37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2DC1-4BDA-4E24-9E24-47F71DCD2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Buongiorno,  mi chiamo Marco Gieri e presento una tesi dal titol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REALIZZAZIONE DI UNA APPLICAZIONE PER IL TRASFERIMENTO DI IMMAGINI MEDICHE TRAMITE PROTOCOLLO DI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renderci conto di questi vantaggi, consideriamo un tipico flusso operazionale all’interno di una struttura ospedaliera, ricordando che ogni flusso è possibile grazie a funzionalità introdotte da DIC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a volta eseguito un esame radiologi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le immagini generate dal dispositivo sono trasferite in un apposito archiv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dal quale il medico è in grado di  reperire, anche dopo molto tempo, le immagini desiderate per diagnosticare  o anche solo  consult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e eventuali diagnosi sono salvate in archivi dedicati all’interno del PA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e salvate anche nella cartella clinica del paziente, pertinente al Sistema informativo Radiolo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Questi dati, saranno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nsultabili quindi anche da altri sistemi informativi i quali potranno accedere sia ai dati relativi alle diagnosi , sia alle immagin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51000" y="0"/>
            <a:ext cx="4208400" cy="31561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1120" y="3231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sì come all’interno di una struttura ospedaliera, DICOM comporta notevoli vantaggi anche per il paz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nsideriamo uno scenario rea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a paziente residente a Cesena effettua una mammografia all’ospedale di Cese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’immagine viene archiviata nel server DI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A questo punto il sistema CAD può prelevare le immagini da sottoporre ad analisi 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...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restituire al server dell’AUSL della Paziente la diagno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Analogamente il medico  specialista che per esempio si può trovare a Forlì, preleva l’immagine mammografia e la pre-diagnosi effettuata dal CAD e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...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anch’egli invia al server dell’AUSL la propria diagno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n caso di rilevazione di masse tumorali, il paziente si recherà all’Ospedale di Bolog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 medici dell’ospedale richiederanno al server DICOM di Cesena tutte le informazioni utili all’esecuzione dell’operazion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ed in seguito forniranno all’AUSL della Paziente l’esito di tale operazi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Appare quindi evidente come, grazie a DICOM,  tutte le fasi riguardanti il trasferimento di immagini possano essere efficientemente gestite, garantendo una piena compatibilità tra apparecchiature di produttori diversi e apportando indiscutibili vantaggi anche al pazi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880920" y="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1120" y="4011480"/>
            <a:ext cx="5394240" cy="44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’applicazione sviluppata intende essere un’implementazione di un QUERY/RETRIEVE SERVICE CLASS USER (Q/R SC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’applicazione è scritta in C Standard, garantendo la portabilità su più piattafor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me si vede dal diagramma, l’applicazione comportandosi come un SCU, apre un’associazione con l’SCP e comunica con quest’ultimo attraverso i comandi ed il protocollo di comunicazione definiti dallo standard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iù in dettaglio, possiamo osservare che per tale implementazione sono utilizzati i seguenti comandi DIM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-FIN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-MO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-ST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l comando C-FIND è utilizzato come strumento per realizzare una que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ed i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-MOVE  per ordinare all’ SCP il trasferimento dell’oggetto eventualmente restituito dalla qu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opo aver aperto un’associazione con il SCP 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’applicazione provvede all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vio del comando C-FIND,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tramite il quale si comunicano i dati per effettuare una query, per esempio l’ID del Paziente o l’ID di una specifica immagin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ed in seguito si pone in attesa della risposta per tale coma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nel caso in cui la ricerca abbia success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(CLICK)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,dopo un breve riepilogo dei dati individuati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viene inviato la richiesta di retrieve attraverso il comando C-MOVE e si pone in attesa che l’SCP avvii la fase di trasferimento attraverso l’invio del comando C-ST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a volta ricevuto il comando C-STORE ha inizio il trasferimento vero e proprio dell’immagine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DICOM fino al salvataggio comple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ncludendo, con questo lavoro di tesi si 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alizzata un’applicazione conforme allo Standard DICO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particolare si è Implementa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un Query/Retrieve Service Class Us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 quale f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rnisce funzionalità di ricerca e trasferimento di immagini in formato DI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me sviluppi futuri, affinché le funzionalità del sistema CAD siano completate, in un prossimo lavoro di tesi sarà implementato un </a:t>
            </a:r>
            <a:r>
              <a:rPr b="0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Store Service Class User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, al fine di compiere l’upload dei risultati della fase di det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Se non ci sono domande, avrei concluso…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presentazione di questa tesi verterà sui punti mostrati nel luci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Introdurrò brevemente il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edical Imaging Group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, un gruppo di ricerca per il quale è stata progettata questa appl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Esporrò le motivazioni che hanno guidato lo sviluppo di questo lavoro di te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Tratterò quindi di come vengano attualmente gestite le immagini mediche nel mondo sanit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... in seguito illustrerò il protocollo DICOM, che negli ultimi anni si è affermato come lo Standard per il trattamento delle immagini medi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Descriverò poi l’applicazione sviluppata come lavoro di te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… ed infine trarrò le conclusioni ed accennerò i possibili sviluppi futu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LICK -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uesto lavoro di tesi si colloca nell’ambito di un gruppo di ricerca chiamato Medical Imaging Group (MIG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l c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Obiettivo è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creazione di un sistema CAD (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mputer Aided Detection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ovvero un sistema automatico creato p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ricerca e lo sviluppo di metodologie e apparati che possano aiutare i medici nella rivelazione e nella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agnosi precoce di tumori al se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-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880920" y="35100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1120" y="4011480"/>
            <a:ext cx="5394240" cy="44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sistema CAD agisce su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immagini in formato digital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ali immagini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 vengono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precedentemente digitalizzat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rtendo da mammografie su supporto tradizionale, ovvero pellicole radiografi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 sono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già fornite in formato digitale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a dispositivi di acquisizione moderni, i cosiddetti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mammografi digital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rima dello sviluppo della mia applicazione, lo scenario nel quale operava il sistema CAD era il seguen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a volta effettuata una mammograf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’immagine mammografica digitale o opportunamente digitalizz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… veniva archiviata su server dedic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fornire le immagini al CAD, esse venivano poi scaricate manualmente sul filesystem del fileserver tramite supporti removibil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questo lavoro di tesi è stato quindi sviluppato per fornire </a:t>
            </a:r>
            <a:r>
              <a:rPr b="0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un’applicazione in grado di trasferire immagini mediche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rendendo così automatico il passaggio delle immagini mammogafiche dai server delle immagini al sistema C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n un prossimo lavoro di tesi, verrà realizzata l’applicazione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l’invio al server della diagnosi rilasciata dal sistema C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Appare evidente come, prima di realizzare l’applicazione, è stato necessario uno </a:t>
            </a:r>
            <a:r>
              <a:rPr b="0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studio sui metodi per il trattamento delle immagini mediche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-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427040" y="338040"/>
            <a:ext cx="4043520" cy="27352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9400" y="321768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ll'interno di un ospedale, la Radiologia è il reparto nel quale si fa maggiore uso di tecnologie avanzat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un ideale sistema informativo integrato per la Radiologia, dovrebbero essere presenti le seguenti funzionalità: 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quisizione in formato digitale delle immagini fornite dalle diverse apparecchiature diagnostiche e dei dati ad esse associati (CLICK);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elaborazione ed archiviazione di informazioni relative ai diversi momenti della storia clinica del paziente  (CLICK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divisione in rete di tutte le informazioni di utilità clinica ed amministra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soddisfare queste esigenze, attualmente, in una moderna struttura ospedaliera sono presenti 3 sistemi informativi, ovvero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l Sistema Informativo Ospedalier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l Sistema Informativo Radiologico o RIS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l Sistema per l'Archiviazione e la Comunicazione delle Immagini o PA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l Sistema Informativo Ospedalier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HIS responsabile prevalentemente della gestione complessiva del paziente (accettazione, prenotazione di esami, fatturazion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) Il Sistema Informativo Radiologico o RIS responsabile prevalentemente della gestione delle attività specifiche locali (programmazione degli esami, esecuzione esame, archiviazione e distribuzione dei refert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) Il Sistema per l'Archiviazione e la Comunicazione delle Immagini o PACS responsabile della parte riguardante le immagini (acquisizione, archiviazione e distribuzione d’immagin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-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’integrazione dei dati clinici costituisce da lungo tempo un obiettivo di primaria importanza per tutte le strutture sanitar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 progetto d’integrazione PACS-RIS-HIS deve partire dall’intento iniziale di realizzare un sistema aperto per l’archiviazione e la consultazione remota d’immagini e dati clinici nell’ambito delle strutture ospedali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n mancanza di norme precise, tale intento era disatteso a causa di 3 motivi sostanzial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la mancanza d’uniformità tra i sistem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 la mancanza di uno standard di formato dei da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 la mancanza di uno standard di comun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C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RIMA DELL’INTRODUZIONE Dello STANDARD DICOM, infatti, come è possibile vedere dalla rappresentazione di un tipico PACS, mancavano le possibilità di realizzare in maniera efficiente e standard tutte quelle operazioni che coinvolgevano immagini mediche, ovvero il trasferimento, la visualizzazione, la stampa, poiché la presenza di apparecchiature di produttori diversi, spesso, comportava incompatibilità nella comunicazi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CLICK -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50760" y="0"/>
            <a:ext cx="4437360" cy="32180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8120" y="3218040"/>
            <a:ext cx="5394240" cy="44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Questi problemi apparvero ancor più evidenti quan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rso la fine degli anni 80, le modalità di acquisizione digitali (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modality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 modalità) iniziarono a diffondersi, ma ciascuna operava su piattaforme proprietar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gni modalità era, quindi, considerata un sistema isolato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e semplicemente collegato alla stazione di visualizzazione ed alla stampante dedic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'intercomunicazione era agevole solo all'interno di una stessa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famiglia di prodott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ituazione non ideale: si sarebbe voluto che macchine di produttori diversi potessero comunicare le une con le altre e che il formato dei dati fosse comu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e potenzialità di questi dispositivi, fecero emerge quindi 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ecessità di codificare (standardizzare) il formato delle immagini medicali in modo da poter realizzare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istemi aperti senza dover necessariamente adottare gli standard previsti dai produttori di modalit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affrontare questo problema, dallo sforzo congiunto di numerosi organismi internazionali, dopo anni di studi, nacque nel  1993 uno standard  per le immagini mediche, denomina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DICOM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1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it-IT" sz="1200" spc="-1" strike="noStrike">
                <a:solidFill>
                  <a:srgbClr val="000099"/>
                </a:solidFill>
                <a:latin typeface="Arial"/>
              </a:rPr>
              <a:t>igital </a:t>
            </a:r>
            <a:r>
              <a:rPr b="1" i="1" lang="it-IT" sz="1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i="1" lang="it-IT" sz="1200" spc="-1" strike="noStrike">
                <a:solidFill>
                  <a:srgbClr val="000099"/>
                </a:solidFill>
                <a:latin typeface="Arial"/>
              </a:rPr>
              <a:t>maging and </a:t>
            </a:r>
            <a:r>
              <a:rPr b="1" i="1" lang="it-IT" sz="12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i="1" lang="it-IT" sz="1200" spc="-1" strike="noStrike">
                <a:solidFill>
                  <a:srgbClr val="000099"/>
                </a:solidFill>
                <a:latin typeface="Arial"/>
              </a:rPr>
              <a:t>mmunications in </a:t>
            </a:r>
            <a:r>
              <a:rPr b="1" i="1" lang="it-IT" sz="1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i="1" lang="it-IT" sz="1200" spc="-1" strike="noStrike">
                <a:solidFill>
                  <a:srgbClr val="000099"/>
                </a:solidFill>
                <a:latin typeface="Arial"/>
              </a:rPr>
              <a:t>edicin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tandard mondiale per il trasferimento e la gestione delle immagini mediche attraverso apparecchiature di produttori diver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Definisce l’interfaccia che rende possibile la connessione tra sistemi diver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appresenta un protocollo non proprietario e specifica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formato delle immagini medich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o scambio di immagini mediche e dati correla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880920" y="193680"/>
            <a:ext cx="4362480" cy="26654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35040" y="2930040"/>
            <a:ext cx="539424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COM è uno standard basato sull’architettura Object-Orien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’entità del mondo reale come un paziente, un ricovero, un’immagine</a:t>
            </a:r>
            <a:r>
              <a:rPr b="0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, è modellata come un oggetto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definito Information Object Definition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ogni oggetto ha in sé una serie d’attributi, per esempio l'oggetto paziente conterrà gli attributi dati anagrafici, data di ricovero ec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Definiti gli oggetti d’intersesse e tutte le loro caratteristiche, DICOM definisce quali operazioni possono essere eseguite e su quali oggetti. Operazioni denominate DIMS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essage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Le operazioni DIMSE realizzano funzionalità dette Service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Modality Worklist Management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gestire il flusso d’informazioni dal RIS alle modalità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Performed Procedure Step</a:t>
            </a:r>
            <a:r>
              <a:rPr b="0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comunicare al RIS che un esame è stato completat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Storage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l’archiviazione di img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Print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gestisce le comunicazioni tra un’applicazione DICOM e la stampant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Query/Retrieve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gestire il trasferimento di img DICOM tra modalità o tra modalità e altri sistemi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asato su un criterio di ricerca semplic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uando due applicazioni DICOM stabiliscono una comunicazi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na fornisce il servizio, detta Service Class Provider (SC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’altra lo utilizza, detta Service Class User(SCU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Grazie all’utilizzo dello standard DICOM tutto il processo di archiviazione e successiva consultazione ottiene un notevole miglioramento, diventando più effici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4A773-CED4-43B2-A2E0-3376682B50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640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4000" y="3766680"/>
            <a:ext cx="8640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00BBD-96AE-489C-8AA6-23A5DB80A5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1640" y="90756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4000" y="376668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1640" y="376668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7EFF3-7226-47D3-8F86-E471087ED2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2782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5400" y="907560"/>
            <a:ext cx="2782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67160" y="907560"/>
            <a:ext cx="2782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24000" y="3766680"/>
            <a:ext cx="2782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5400" y="3766680"/>
            <a:ext cx="2782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67160" y="3766680"/>
            <a:ext cx="2782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C56BD-42F9-4F14-9B9D-88CCC16490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64072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B1294-B748-4EA9-A279-3127780F9A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640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CAE5A-826F-474D-B59F-67553AB222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42163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1640" y="907560"/>
            <a:ext cx="42163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27D44-5559-459D-83BF-023DC902D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A48C9-845A-4D94-B33C-E90DA0B18E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9880" y="144000"/>
            <a:ext cx="822960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A8C15-4597-4D27-A49F-C6FFFDF6E7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1640" y="907560"/>
            <a:ext cx="42163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24000" y="376668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00452-FCD6-48EC-A575-9A6A776CC7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42163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1640" y="90756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1640" y="376668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47C93-ABAB-43CE-82CF-807DADCF0E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1640" y="90756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24000" y="3766680"/>
            <a:ext cx="8640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A8771-9331-48FA-AFE4-6917B8A61C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988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4000" y="907560"/>
            <a:ext cx="8640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516480" y="6584760"/>
            <a:ext cx="51926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675640" y="6585120"/>
            <a:ext cx="4399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9B63-A3F2-4099-9868-3C6FC79F1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5.png"/><Relationship Id="rId6" Type="http://schemas.openxmlformats.org/officeDocument/2006/relationships/image" Target="../media/image2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2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3.xml"/><Relationship Id="rId1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5213520"/>
            <a:ext cx="46083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lato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Chiar.mo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Prof. RENATO CAMPAN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rrelat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Dott.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MATTEO ROFFIL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77080" y="5213520"/>
            <a:ext cx="2197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sentata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MARCO G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4720" y="2708280"/>
            <a:ext cx="80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REALIZZAZIONE DI UNA APPLICAZIONE PER 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TRASFERIMENTO DI IMMAGINI MEDICHE TRAM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PROTOCOLLO DICOM</a:t>
            </a: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49360"/>
            <a:ext cx="7561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UNIVERSITÀ DEGLI STUDI DI BOLOGNA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ACOLTÀ DI SCIENZE MATEMATICHE, FISICHE E NATURALI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rso di Laurea in Scienze dell’Informazion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480" y="14616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applicazione real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68480" y="2044800"/>
            <a:ext cx="1676520" cy="533160"/>
            <a:chOff x="1968480" y="2044800"/>
            <a:chExt cx="1676520" cy="533160"/>
          </a:xfrm>
        </p:grpSpPr>
        <p:sp>
          <p:nvSpPr>
            <p:cNvPr id="226" name=""/>
            <p:cNvSpPr/>
            <p:nvPr/>
          </p:nvSpPr>
          <p:spPr>
            <a:xfrm>
              <a:off x="2349720" y="2044800"/>
              <a:ext cx="8683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Imag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68480" y="2577960"/>
              <a:ext cx="167652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568680" y="1892160"/>
            <a:ext cx="1204920" cy="1357560"/>
            <a:chOff x="3568680" y="1892160"/>
            <a:chExt cx="1204920" cy="1357560"/>
          </a:xfrm>
        </p:grpSpPr>
        <p:pic>
          <p:nvPicPr>
            <p:cNvPr id="229" name="" descr=""/>
            <p:cNvPicPr/>
            <p:nvPr/>
          </p:nvPicPr>
          <p:blipFill>
            <a:blip r:embed="rId2"/>
            <a:stretch/>
          </p:blipFill>
          <p:spPr>
            <a:xfrm>
              <a:off x="3740400" y="1892160"/>
              <a:ext cx="8586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568680" y="2884320"/>
              <a:ext cx="1204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chivi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magin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940280" y="4254480"/>
            <a:ext cx="1523880" cy="533520"/>
            <a:chOff x="4940280" y="4254480"/>
            <a:chExt cx="1523880" cy="533520"/>
          </a:xfrm>
        </p:grpSpPr>
        <p:sp>
          <p:nvSpPr>
            <p:cNvPr id="232" name=""/>
            <p:cNvSpPr/>
            <p:nvPr/>
          </p:nvSpPr>
          <p:spPr>
            <a:xfrm>
              <a:off x="4940280" y="4788000"/>
              <a:ext cx="152388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25720" y="4254480"/>
              <a:ext cx="7617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epor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Ex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520320" y="4254480"/>
            <a:ext cx="860400" cy="1310400"/>
            <a:chOff x="6520320" y="4254480"/>
            <a:chExt cx="860400" cy="1310400"/>
          </a:xfrm>
        </p:grpSpPr>
        <p:sp>
          <p:nvSpPr>
            <p:cNvPr id="235" name=""/>
            <p:cNvSpPr/>
            <p:nvPr/>
          </p:nvSpPr>
          <p:spPr>
            <a:xfrm>
              <a:off x="6520320" y="5168520"/>
              <a:ext cx="8604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epor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" descr=""/>
            <p:cNvPicPr/>
            <p:nvPr/>
          </p:nvPicPr>
          <p:blipFill>
            <a:blip r:embed="rId3"/>
            <a:stretch/>
          </p:blipFill>
          <p:spPr>
            <a:xfrm>
              <a:off x="6540120" y="4254480"/>
              <a:ext cx="774720" cy="92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"/>
          <p:cNvGrpSpPr/>
          <p:nvPr/>
        </p:nvGrpSpPr>
        <p:grpSpPr>
          <a:xfrm>
            <a:off x="645840" y="1892160"/>
            <a:ext cx="1273320" cy="1279800"/>
            <a:chOff x="645840" y="1892160"/>
            <a:chExt cx="1273320" cy="1279800"/>
          </a:xfrm>
        </p:grpSpPr>
        <p:pic>
          <p:nvPicPr>
            <p:cNvPr id="238" name="" descr=""/>
            <p:cNvPicPr/>
            <p:nvPr/>
          </p:nvPicPr>
          <p:blipFill>
            <a:blip r:embed="rId4"/>
            <a:stretch/>
          </p:blipFill>
          <p:spPr>
            <a:xfrm>
              <a:off x="672840" y="1892160"/>
              <a:ext cx="124632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45840" y="2806560"/>
              <a:ext cx="12733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odalità d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quisizion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711680" y="2044800"/>
            <a:ext cx="1600200" cy="533160"/>
            <a:chOff x="4711680" y="2044800"/>
            <a:chExt cx="1600200" cy="533160"/>
          </a:xfrm>
        </p:grpSpPr>
        <p:sp>
          <p:nvSpPr>
            <p:cNvPr id="241" name=""/>
            <p:cNvSpPr/>
            <p:nvPr/>
          </p:nvSpPr>
          <p:spPr>
            <a:xfrm>
              <a:off x="4711680" y="2577960"/>
              <a:ext cx="160020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88000" y="2044800"/>
              <a:ext cx="8683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Imag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etrie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921360" y="2882880"/>
            <a:ext cx="801360" cy="1295280"/>
            <a:chOff x="6921360" y="2882880"/>
            <a:chExt cx="801360" cy="1295280"/>
          </a:xfrm>
        </p:grpSpPr>
        <p:sp>
          <p:nvSpPr>
            <p:cNvPr id="244" name=""/>
            <p:cNvSpPr/>
            <p:nvPr/>
          </p:nvSpPr>
          <p:spPr>
            <a:xfrm>
              <a:off x="7148880" y="3187440"/>
              <a:ext cx="573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e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21360" y="2882880"/>
              <a:ext cx="0" cy="12952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44600" y="1587600"/>
            <a:ext cx="3465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4600" y="356868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4600" y="166356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093160" y="1606680"/>
            <a:ext cx="0" cy="4073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73800" y="5702400"/>
            <a:ext cx="2627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473800" y="356868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30920" y="1587600"/>
            <a:ext cx="3159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98160" y="135576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0000"/>
                </a:solidFill>
                <a:latin typeface="Arial"/>
              </a:rPr>
              <a:t>PA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340080" y="4483080"/>
            <a:ext cx="2001960" cy="1843920"/>
            <a:chOff x="3340080" y="4483080"/>
            <a:chExt cx="2001960" cy="1843920"/>
          </a:xfrm>
        </p:grpSpPr>
        <p:pic>
          <p:nvPicPr>
            <p:cNvPr id="255" name="" descr=""/>
            <p:cNvPicPr/>
            <p:nvPr/>
          </p:nvPicPr>
          <p:blipFill>
            <a:blip r:embed="rId5"/>
            <a:stretch/>
          </p:blipFill>
          <p:spPr>
            <a:xfrm>
              <a:off x="3721320" y="4483080"/>
              <a:ext cx="1217520" cy="14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3340080" y="5930640"/>
              <a:ext cx="20019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linical Documents Reposito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6196680" y="1816200"/>
            <a:ext cx="1452960" cy="1081800"/>
            <a:chOff x="6196680" y="1816200"/>
            <a:chExt cx="1452960" cy="1081800"/>
          </a:xfrm>
        </p:grpSpPr>
        <p:sp>
          <p:nvSpPr>
            <p:cNvPr id="258" name=""/>
            <p:cNvSpPr/>
            <p:nvPr/>
          </p:nvSpPr>
          <p:spPr>
            <a:xfrm>
              <a:off x="6196680" y="2654280"/>
              <a:ext cx="145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rpretazi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9" name="" descr=""/>
            <p:cNvPicPr/>
            <p:nvPr/>
          </p:nvPicPr>
          <p:blipFill>
            <a:blip r:embed="rId6"/>
            <a:srcRect l="0" t="0" r="0" b="38276"/>
            <a:stretch/>
          </p:blipFill>
          <p:spPr>
            <a:xfrm>
              <a:off x="6303960" y="1816200"/>
              <a:ext cx="1206720" cy="73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0" name="" descr=""/>
          <p:cNvPicPr/>
          <p:nvPr/>
        </p:nvPicPr>
        <p:blipFill>
          <a:blip r:embed="rId7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052720" y="4876920"/>
            <a:ext cx="169056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052720" y="5029200"/>
            <a:ext cx="1690560" cy="0"/>
          </a:xfrm>
          <a:prstGeom prst="line">
            <a:avLst/>
          </a:prstGeom>
          <a:ln w="38160">
            <a:solidFill>
              <a:srgbClr val="ff99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1187280" y="2913120"/>
            <a:ext cx="2286000" cy="1371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1263600" y="3065400"/>
            <a:ext cx="2286000" cy="1371600"/>
          </a:xfrm>
          <a:prstGeom prst="line">
            <a:avLst/>
          </a:prstGeom>
          <a:ln w="38160">
            <a:solidFill>
              <a:srgbClr val="ff99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11280" y="4508640"/>
            <a:ext cx="1368360" cy="1584000"/>
            <a:chOff x="611280" y="4508640"/>
            <a:chExt cx="1368360" cy="1584000"/>
          </a:xfrm>
        </p:grpSpPr>
        <p:sp>
          <p:nvSpPr>
            <p:cNvPr id="266" name=""/>
            <p:cNvSpPr/>
            <p:nvPr/>
          </p:nvSpPr>
          <p:spPr>
            <a:xfrm>
              <a:off x="611280" y="4508640"/>
              <a:ext cx="1368360" cy="1584000"/>
            </a:xfrm>
            <a:prstGeom prst="cube">
              <a:avLst>
                <a:gd name="adj" fmla="val 1504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33840" y="5211720"/>
              <a:ext cx="56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t">
              <a:spAutoFit/>
            </a:bodyPr>
            <a:p>
              <a:pPr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000" spc="-1" strike="noStrike">
                  <a:solidFill>
                    <a:srgbClr val="0066cc"/>
                  </a:solidFill>
                  <a:latin typeface="Arial"/>
                </a:rPr>
                <a:t>R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124000" y="5084640"/>
            <a:ext cx="18716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onsul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ocumentazi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li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66840" y="3817800"/>
            <a:ext cx="2051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ccesso a immagi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I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4CC9B-B6BF-4EE0-96EF-5E95404377C0}" type="slidenum">
              <a:t>10</a:t>
            </a:fld>
          </a:p>
        </p:txBody>
      </p:sp>
    </p:spTree>
  </p:cSld>
  <p:transition>
    <p:pull dir="r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5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7547040" y="1557360"/>
            <a:ext cx="1368360" cy="934920"/>
          </a:xfrm>
          <a:prstGeom prst="cube">
            <a:avLst>
              <a:gd name="adj" fmla="val 17319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8366040" y="0"/>
            <a:ext cx="777960" cy="88092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48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applicazione real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2987640" y="2430360"/>
            <a:ext cx="800280" cy="10699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826920" y="907920"/>
            <a:ext cx="3291120" cy="309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00360" y="148428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es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 rot="7321200">
            <a:off x="1862280" y="2608920"/>
            <a:ext cx="791640" cy="1709640"/>
          </a:xfrm>
          <a:custGeom>
            <a:avLst/>
            <a:gdLst>
              <a:gd name="textAreaLeft" fmla="*/ 105840 w 791640"/>
              <a:gd name="textAreaRight" fmla="*/ 685800 w 791640"/>
              <a:gd name="textAreaTop" fmla="*/ 321840 h 1709640"/>
              <a:gd name="textAreaBottom" fmla="*/ 1216080 h 170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43" stAng="-5400000" swAng="5400000"/>
                <a:lnTo>
                  <a:pt x="21600" y="11298"/>
                </a:lnTo>
                <a:arcTo wR="21600" hR="8143" stAng="0" swAng="2813902"/>
                <a:lnTo>
                  <a:pt x="7186" y="21136"/>
                </a:lnTo>
                <a:lnTo>
                  <a:pt x="0" y="17863"/>
                </a:lnTo>
                <a:lnTo>
                  <a:pt x="7186" y="13661"/>
                </a:lnTo>
                <a:lnTo>
                  <a:pt x="7186" y="15821"/>
                </a:lnTo>
                <a:arcTo wR="21600" hR="8143" stAng="2813902" swAng="-2558457"/>
                <a:lnTo>
                  <a:pt x="21191" y="9720"/>
                </a:lnTo>
                <a:arcTo wR="21600" hR="8143" stAng="-255444" swAng="-5144556"/>
                <a:close/>
              </a:path>
              <a:path fill="darkenLess" w="21600" h="21600">
                <a:moveTo>
                  <a:pt x="0" y="0"/>
                </a:moveTo>
                <a:arcTo wR="21600" hR="8143" stAng="-5400000" swAng="5400000"/>
                <a:lnTo>
                  <a:pt x="21600" y="11298"/>
                </a:lnTo>
                <a:arcTo wR="21600" hR="8143" stAng="0" swAng="-255444"/>
                <a:lnTo>
                  <a:pt x="21191" y="9720"/>
                </a:lnTo>
                <a:arcTo wR="21600" hR="8143" stAng="-255444" swAng="-5144556"/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272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84720" y="4869000"/>
            <a:ext cx="1872000" cy="1726920"/>
            <a:chOff x="6084720" y="4869000"/>
            <a:chExt cx="1872000" cy="1726920"/>
          </a:xfrm>
        </p:grpSpPr>
        <p:pic>
          <p:nvPicPr>
            <p:cNvPr id="279" name="" descr=""/>
            <p:cNvPicPr/>
            <p:nvPr/>
          </p:nvPicPr>
          <p:blipFill>
            <a:blip r:embed="rId4"/>
            <a:stretch/>
          </p:blipFill>
          <p:spPr>
            <a:xfrm>
              <a:off x="6616800" y="5421240"/>
              <a:ext cx="96048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084720" y="4869000"/>
              <a:ext cx="1872000" cy="1726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08280" y="505476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Bolog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3828960" y="3548160"/>
            <a:ext cx="3275280" cy="0"/>
          </a:xfrm>
          <a:prstGeom prst="line">
            <a:avLst/>
          </a:prstGeom>
          <a:ln w="507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356000" y="3127320"/>
            <a:ext cx="27370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ccesso a immagini DICOM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iagnosi C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812000" y="1916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C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140360" y="1827360"/>
            <a:ext cx="3311280" cy="17280"/>
          </a:xfrm>
          <a:prstGeom prst="line">
            <a:avLst/>
          </a:prstGeom>
          <a:ln w="507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284720" y="1568520"/>
            <a:ext cx="2736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ccesso a immagini DI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211640" y="2187720"/>
            <a:ext cx="3238560" cy="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653080" y="21877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iagno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489120" y="3875040"/>
            <a:ext cx="3562200" cy="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86400" y="39337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iagno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268360" y="4076640"/>
            <a:ext cx="3743640" cy="1657440"/>
          </a:xfrm>
          <a:custGeom>
            <a:avLst/>
            <a:gdLst/>
            <a:ahLst/>
            <a:rect l="l" t="t" r="r" b="b"/>
            <a:pathLst>
              <a:path w="1905" h="1013">
                <a:moveTo>
                  <a:pt x="272" y="0"/>
                </a:moveTo>
                <a:cubicBezTo>
                  <a:pt x="136" y="355"/>
                  <a:pt x="0" y="711"/>
                  <a:pt x="272" y="862"/>
                </a:cubicBezTo>
                <a:cubicBezTo>
                  <a:pt x="544" y="1013"/>
                  <a:pt x="1633" y="900"/>
                  <a:pt x="1905" y="907"/>
                </a:cubicBezTo>
              </a:path>
            </a:pathLst>
          </a:custGeom>
          <a:noFill/>
          <a:ln w="507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19280" y="4076640"/>
            <a:ext cx="4502160" cy="2305080"/>
          </a:xfrm>
          <a:custGeom>
            <a:avLst/>
            <a:gdLst/>
            <a:ahLst/>
            <a:rect l="l" t="t" r="r" b="b"/>
            <a:pathLst>
              <a:path w="2472" h="1376">
                <a:moveTo>
                  <a:pt x="2472" y="1179"/>
                </a:moveTo>
                <a:cubicBezTo>
                  <a:pt x="1576" y="1277"/>
                  <a:pt x="680" y="1376"/>
                  <a:pt x="340" y="1179"/>
                </a:cubicBezTo>
                <a:cubicBezTo>
                  <a:pt x="0" y="982"/>
                  <a:pt x="415" y="196"/>
                  <a:pt x="430" y="0"/>
                </a:cubicBezTo>
              </a:path>
            </a:pathLst>
          </a:custGeom>
          <a:noFill/>
          <a:ln w="5076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80440" y="5300640"/>
            <a:ext cx="26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ccesso immagini e diagno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80200" y="595008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sito ope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7093080" y="3068640"/>
            <a:ext cx="1439640" cy="1438200"/>
            <a:chOff x="7093080" y="3068640"/>
            <a:chExt cx="1439640" cy="1438200"/>
          </a:xfrm>
        </p:grpSpPr>
        <p:pic>
          <p:nvPicPr>
            <p:cNvPr id="296" name="" descr=""/>
            <p:cNvPicPr/>
            <p:nvPr/>
          </p:nvPicPr>
          <p:blipFill>
            <a:blip r:embed="rId5"/>
            <a:stretch/>
          </p:blipFill>
          <p:spPr>
            <a:xfrm>
              <a:off x="7453440" y="3571920"/>
              <a:ext cx="99540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7254360" y="31669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Forl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3080" y="3068640"/>
              <a:ext cx="1439640" cy="1438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6"/>
          <a:stretch/>
        </p:blipFill>
        <p:spPr>
          <a:xfrm>
            <a:off x="1403280" y="1413000"/>
            <a:ext cx="1190520" cy="147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1E6D3-18FB-4276-B33B-19D36DEB5137}" type="slidenum">
              <a:t>11</a:t>
            </a:fld>
          </a:p>
        </p:txBody>
      </p:sp>
    </p:spTree>
  </p:cSld>
  <p:transition>
    <p:pull dir="r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852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pplicazione svilupp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93760" y="92376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applicazione sviluppata intende essere un’implementazione di un QUERY/RETRIEVE SERVICE CLASS USER (Q/R SC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93760" y="1941480"/>
            <a:ext cx="269244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MSE utilizza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-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-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-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338560" y="2844720"/>
            <a:ext cx="6697080" cy="3465360"/>
            <a:chOff x="2338560" y="2844720"/>
            <a:chExt cx="6697080" cy="3465360"/>
          </a:xfrm>
        </p:grpSpPr>
        <p:sp>
          <p:nvSpPr>
            <p:cNvPr id="306" name=""/>
            <p:cNvSpPr/>
            <p:nvPr/>
          </p:nvSpPr>
          <p:spPr>
            <a:xfrm flipH="1">
              <a:off x="4514760" y="4786200"/>
              <a:ext cx="237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946920" y="4424040"/>
              <a:ext cx="201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Query/Retrie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SC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338560" y="3997080"/>
              <a:ext cx="2160360" cy="151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54120" y="4403520"/>
              <a:ext cx="1944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Query/Retrie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S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14920" y="2989080"/>
              <a:ext cx="0" cy="302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659640" y="3349440"/>
              <a:ext cx="86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Arial"/>
                </a:rPr>
                <a:t>Loc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35640" y="3349440"/>
              <a:ext cx="100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Arial"/>
                </a:rPr>
                <a:t>Rem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91280" y="5941800"/>
              <a:ext cx="30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DICOM Standard Inte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4498560" y="4284360"/>
              <a:ext cx="25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98920" y="5294160"/>
              <a:ext cx="259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75280" y="3909960"/>
              <a:ext cx="2160360" cy="172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65760" y="3982680"/>
              <a:ext cx="79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FI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65680" y="4471920"/>
              <a:ext cx="93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MO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78560" y="4991040"/>
              <a:ext cx="107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633840" y="2844720"/>
              <a:ext cx="15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ssociaz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570560" y="3133440"/>
              <a:ext cx="79164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70560" y="3133440"/>
              <a:ext cx="647280" cy="21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332000" y="1773360"/>
            <a:ext cx="7575480" cy="4752720"/>
            <a:chOff x="1332000" y="1773360"/>
            <a:chExt cx="7575480" cy="4752720"/>
          </a:xfrm>
        </p:grpSpPr>
        <p:sp>
          <p:nvSpPr>
            <p:cNvPr id="324" name=""/>
            <p:cNvSpPr/>
            <p:nvPr/>
          </p:nvSpPr>
          <p:spPr>
            <a:xfrm>
              <a:off x="4803840" y="1773360"/>
              <a:ext cx="4103640" cy="47527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6099120" y="1990800"/>
              <a:ext cx="1508040" cy="1004760"/>
              <a:chOff x="6099120" y="1990800"/>
              <a:chExt cx="1508040" cy="1004760"/>
            </a:xfrm>
          </p:grpSpPr>
          <p:sp>
            <p:nvSpPr>
              <p:cNvPr id="326" name=""/>
              <p:cNvSpPr/>
              <p:nvPr/>
            </p:nvSpPr>
            <p:spPr>
              <a:xfrm>
                <a:off x="6099120" y="1990800"/>
                <a:ext cx="1508040" cy="1004760"/>
              </a:xfrm>
              <a:prstGeom prst="can">
                <a:avLst>
                  <a:gd name="adj" fmla="val 1662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85328" dir="20006097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50040" y="2249640"/>
                <a:ext cx="101412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Garamond"/>
                    <a:ea typeface="Courier New"/>
                  </a:rPr>
                  <a:t>Image Archiv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1332000" y="3789360"/>
              <a:ext cx="3095640" cy="22320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540160" y="5459400"/>
              <a:ext cx="1296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  <a:ea typeface="Courier New"/>
                </a:rPr>
                <a:t>DICO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  <a:ea typeface="Courier New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76440" y="4437000"/>
              <a:ext cx="2496960" cy="9367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rvice Class Use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-FI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-MOV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C-STOR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51560" y="3703680"/>
              <a:ext cx="2592360" cy="217620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rvice Class Provide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-FIND, C-MO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rvice Class Use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-FIND, C-MO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rvice Class Provide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-ST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rvice class Use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-ST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02200" y="4826160"/>
              <a:ext cx="143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4087800" y="5157720"/>
              <a:ext cx="14400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728120" y="3070080"/>
              <a:ext cx="1079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  <a:ea typeface="Courier New"/>
                </a:rPr>
                <a:t>DICOM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  <a:ea typeface="Courier New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075440" y="2998800"/>
              <a:ext cx="0" cy="69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694560" y="2998440"/>
              <a:ext cx="0" cy="69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BEC59-4450-44B7-9F10-435F8318ADEF}" type="slidenum">
              <a:t>12</a:t>
            </a:fld>
          </a:p>
        </p:txBody>
      </p:sp>
    </p:spTree>
  </p:cSld>
  <p:transition>
    <p:pull dir="r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4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852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pplicazione sviluppata: flusso operaz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3451320" y="1338120"/>
            <a:ext cx="5692680" cy="55468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92360" y="2708280"/>
            <a:ext cx="2664000" cy="4334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92360" y="3429000"/>
            <a:ext cx="2951280" cy="1079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492360" y="4581360"/>
            <a:ext cx="2232000" cy="648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492360" y="5300640"/>
            <a:ext cx="4319640" cy="6494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1258920" y="5029200"/>
            <a:ext cx="7777080" cy="1260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346" name=""/>
          <p:cNvSpPr/>
          <p:nvPr/>
        </p:nvSpPr>
        <p:spPr>
          <a:xfrm>
            <a:off x="303120" y="85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7360" y="981000"/>
            <a:ext cx="3287880" cy="16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opo aver aperto 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ssociazione con il SC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vio C-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ttesa risposta C-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5"/>
          <a:srcRect l="0" t="7716" r="0" b="0"/>
          <a:stretch/>
        </p:blipFill>
        <p:spPr>
          <a:xfrm>
            <a:off x="3132000" y="2603520"/>
            <a:ext cx="5400720" cy="8254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grpSp>
        <p:nvGrpSpPr>
          <p:cNvPr id="349" name=""/>
          <p:cNvGrpSpPr/>
          <p:nvPr/>
        </p:nvGrpSpPr>
        <p:grpSpPr>
          <a:xfrm>
            <a:off x="3205080" y="4076640"/>
            <a:ext cx="5543280" cy="1416240"/>
            <a:chOff x="3205080" y="4076640"/>
            <a:chExt cx="5543280" cy="1416240"/>
          </a:xfrm>
        </p:grpSpPr>
        <p:pic>
          <p:nvPicPr>
            <p:cNvPr id="350" name="" descr=""/>
            <p:cNvPicPr/>
            <p:nvPr/>
          </p:nvPicPr>
          <p:blipFill>
            <a:blip r:embed="rId6"/>
            <a:stretch/>
          </p:blipFill>
          <p:spPr>
            <a:xfrm>
              <a:off x="3205080" y="4076640"/>
              <a:ext cx="5543280" cy="141624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pic>
          <p:nvPicPr>
            <p:cNvPr id="351" name="" descr=""/>
            <p:cNvPicPr/>
            <p:nvPr/>
          </p:nvPicPr>
          <p:blipFill>
            <a:blip r:embed="rId7"/>
            <a:srcRect l="0" t="0" r="0" b="19920"/>
            <a:stretch/>
          </p:blipFill>
          <p:spPr>
            <a:xfrm>
              <a:off x="5724360" y="4826160"/>
              <a:ext cx="1652400" cy="30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2" name="" descr=""/>
          <p:cNvPicPr/>
          <p:nvPr/>
        </p:nvPicPr>
        <p:blipFill>
          <a:blip r:embed="rId8"/>
          <a:stretch/>
        </p:blipFill>
        <p:spPr>
          <a:xfrm>
            <a:off x="3203640" y="3213000"/>
            <a:ext cx="5400720" cy="19861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353" name=""/>
          <p:cNvSpPr/>
          <p:nvPr/>
        </p:nvSpPr>
        <p:spPr>
          <a:xfrm>
            <a:off x="122400" y="3112920"/>
            <a:ext cx="266508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vio C-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ttesa comando C-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2400" y="4422600"/>
            <a:ext cx="28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alvataggio imma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47E51-7926-47A8-A36C-076E44C08146}" type="slidenum">
              <a:t>13</a:t>
            </a:fld>
          </a:p>
        </p:txBody>
      </p:sp>
    </p:spTree>
  </p:cSld>
  <p:transition>
    <p:pull dir="r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7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2560" y="144000"/>
            <a:ext cx="62881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clusioni e sviluppi futu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295200" y="1239840"/>
            <a:ext cx="882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85840" y="1298520"/>
            <a:ext cx="2270160" cy="52056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cc"/>
                </a:solidFill>
                <a:latin typeface="Arial"/>
              </a:rPr>
              <a:t>Conclus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11280" y="1901880"/>
            <a:ext cx="85327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Applicazione conforme allo Standard DI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mplementato un Query/Retrieve Service Class Us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Fornisce funzionalità di ricerca e trasferimento di immagini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8320" y="4683240"/>
            <a:ext cx="853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mplementazione di un Store Service Class User, per l’upload dei risultati della fase di det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1440" y="34527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95200" y="4079880"/>
            <a:ext cx="2808360" cy="52056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cc"/>
                </a:solidFill>
                <a:latin typeface="Arial"/>
              </a:rPr>
              <a:t>Sviluppi futu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41760" y="3255840"/>
            <a:ext cx="213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formato DI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8B3CA-1B5A-47B6-AF27-8C7488D4C1B5}" type="slidenum">
              <a:t>14</a:t>
            </a:fld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468360" y="5213520"/>
            <a:ext cx="46083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lato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Chiar.mo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Prof. RENATO CAMPAN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rrelat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Dott.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MATTEO ROFFIL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77080" y="5213520"/>
            <a:ext cx="2197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sentata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MARCO G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04720" y="2708280"/>
            <a:ext cx="80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REALIZZAZIONE DI UNA APPLICAZIONE PER 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TRASFERIMENTO DI IMMAGINI MEDICHE TRAM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PROTOCOLLO DICOM</a:t>
            </a: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4360" y="549360"/>
            <a:ext cx="7561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UNIVERSITÀ DEGLI STUDI DI BOLOGNA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ACOLTÀ DI SCIENZE MATEMATICHE, FISICHE E NATURALI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rso di Laurea in Scienze dell’Informazion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8000" y="14616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ommario della presen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8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IG -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edical Imag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tivazioni di questo lavoro di t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stione immagini med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tocollo DICOM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Digital Imaging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munication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plicazione svilupp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clus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3A10F-3618-4D7D-9E60-CAE44E1730E0}" type="slidenum">
              <a:t>2</a:t>
            </a:fld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" dur="indefinite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" dur="indefinite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" dur="indefinite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" dur="indefinite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" dur="indefinite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" dur="indefinite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edical Imag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2052720"/>
            <a:ext cx="1523880" cy="1447560"/>
            <a:chOff x="609480" y="2052720"/>
            <a:chExt cx="1523880" cy="1447560"/>
          </a:xfrm>
        </p:grpSpPr>
        <p:sp>
          <p:nvSpPr>
            <p:cNvPr id="58" name=""/>
            <p:cNvSpPr/>
            <p:nvPr/>
          </p:nvSpPr>
          <p:spPr>
            <a:xfrm>
              <a:off x="609480" y="2052720"/>
              <a:ext cx="0" cy="1447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9480" y="2052720"/>
              <a:ext cx="1523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935760" y="4286160"/>
            <a:ext cx="1523880" cy="1447920"/>
            <a:chOff x="6935760" y="4286160"/>
            <a:chExt cx="1523880" cy="1447920"/>
          </a:xfrm>
        </p:grpSpPr>
        <p:sp>
          <p:nvSpPr>
            <p:cNvPr id="61" name=""/>
            <p:cNvSpPr/>
            <p:nvPr/>
          </p:nvSpPr>
          <p:spPr>
            <a:xfrm>
              <a:off x="8459640" y="4286160"/>
              <a:ext cx="0" cy="1447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35760" y="5734080"/>
              <a:ext cx="1523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900000" y="229536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esto lavoro di tesi si colloca nell’ambito di un gruppo di ricerca chiamato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edical Imaging Grou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MIG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331956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a50021"/>
                </a:solidFill>
                <a:latin typeface="Times New Roman"/>
              </a:rPr>
              <a:t>Obiettiv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98760" y="4467240"/>
            <a:ext cx="56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ricerca e lo sviluppo di metodologie ed apparati che possano aiutare i medici nella rivelazione e nella diagnosi precoce di tumori al s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332000" y="3645000"/>
            <a:ext cx="4611240" cy="703800"/>
            <a:chOff x="1332000" y="3645000"/>
            <a:chExt cx="4611240" cy="703800"/>
          </a:xfrm>
        </p:grpSpPr>
        <p:sp>
          <p:nvSpPr>
            <p:cNvPr id="67" name=""/>
            <p:cNvSpPr/>
            <p:nvPr/>
          </p:nvSpPr>
          <p:spPr>
            <a:xfrm>
              <a:off x="1908000" y="3645000"/>
              <a:ext cx="4035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la creazione di un sistema CAD (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Arial"/>
                </a:rPr>
                <a:t>Computer Aided Detection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32000" y="3786120"/>
              <a:ext cx="414000" cy="154080"/>
            </a:xfrm>
            <a:prstGeom prst="rightArrow">
              <a:avLst>
                <a:gd name="adj1" fmla="val 50000"/>
                <a:gd name="adj2" fmla="val 67173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 flipH="1" flipV="1" rot="16200000">
            <a:off x="1942200" y="4717080"/>
            <a:ext cx="576360" cy="360360"/>
          </a:xfrm>
          <a:custGeom>
            <a:avLst/>
            <a:gdLst>
              <a:gd name="textAreaLeft" fmla="*/ 137880 w 576360"/>
              <a:gd name="textAreaRight" fmla="*/ 493560 w 576360"/>
              <a:gd name="textAreaTop" fmla="*/ 258840 h 360360"/>
              <a:gd name="textAreaBottom" fmla="*/ 3085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8626"/>
                </a:moveTo>
                <a:lnTo>
                  <a:pt x="15531" y="18626"/>
                </a:lnTo>
                <a:lnTo>
                  <a:pt x="15531" y="5188"/>
                </a:lnTo>
                <a:lnTo>
                  <a:pt x="12436" y="5188"/>
                </a:lnTo>
                <a:lnTo>
                  <a:pt x="17018" y="0"/>
                </a:lnTo>
                <a:lnTo>
                  <a:pt x="21600" y="5188"/>
                </a:lnTo>
                <a:lnTo>
                  <a:pt x="18505" y="5188"/>
                </a:lnTo>
                <a:lnTo>
                  <a:pt x="185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593DF-523C-41C7-9B2A-4748618DDADB}" type="slidenum">
              <a:t>3</a:t>
            </a:fld>
          </a:p>
        </p:txBody>
      </p:sp>
    </p:spTree>
  </p:cSld>
  <p:transition>
    <p:pull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37960" y="2421000"/>
            <a:ext cx="86425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sistema CAD agisce su immagini in formato digit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mmagini digitali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cedentemente digitalizzate partendo da mammografie su pellicole radiograf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nite in formato digitale da dispositivi di acquisizione moderni, i cosiddetti mammografi digit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66920" y="2781360"/>
            <a:ext cx="792360" cy="2160360"/>
          </a:xfrm>
          <a:custGeom>
            <a:avLst/>
            <a:gdLst>
              <a:gd name="textAreaLeft" fmla="*/ 106200 w 792360"/>
              <a:gd name="textAreaRight" fmla="*/ 686160 w 792360"/>
              <a:gd name="textAreaTop" fmla="*/ 407160 h 2160360"/>
              <a:gd name="textAreaBottom" fmla="*/ 153720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43" stAng="-5400000" swAng="5400000"/>
                <a:lnTo>
                  <a:pt x="21600" y="11298"/>
                </a:lnTo>
                <a:arcTo wR="21600" hR="8143" stAng="0" swAng="2813902"/>
                <a:lnTo>
                  <a:pt x="7186" y="21136"/>
                </a:lnTo>
                <a:lnTo>
                  <a:pt x="0" y="17863"/>
                </a:lnTo>
                <a:lnTo>
                  <a:pt x="7186" y="13661"/>
                </a:lnTo>
                <a:lnTo>
                  <a:pt x="7186" y="15821"/>
                </a:lnTo>
                <a:arcTo wR="21600" hR="8143" stAng="2813902" swAng="-2558457"/>
                <a:lnTo>
                  <a:pt x="21191" y="9720"/>
                </a:lnTo>
                <a:arcTo wR="21600" hR="8143" stAng="-255444" swAng="-5144556"/>
                <a:close/>
              </a:path>
              <a:path fill="darkenLess" w="21600" h="21600">
                <a:moveTo>
                  <a:pt x="0" y="0"/>
                </a:moveTo>
                <a:arcTo wR="21600" hR="8143" stAng="-5400000" swAng="5400000"/>
                <a:lnTo>
                  <a:pt x="21600" y="11298"/>
                </a:lnTo>
                <a:arcTo wR="21600" hR="8143" stAng="0" swAng="-255444"/>
                <a:lnTo>
                  <a:pt x="21191" y="9720"/>
                </a:lnTo>
                <a:arcTo wR="21600" hR="8143" stAng="-255444" swAng="-5144556"/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008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otivazioni di questo lavoro di te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84120" y="1332000"/>
            <a:ext cx="1666800" cy="1809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95200" y="3716280"/>
            <a:ext cx="1927440" cy="2638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060720" y="34225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mmogra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580000" y="4965840"/>
            <a:ext cx="1014480" cy="135720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2340000" y="5661000"/>
            <a:ext cx="3095640" cy="504720"/>
            <a:chOff x="2340000" y="5661000"/>
            <a:chExt cx="3095640" cy="504720"/>
          </a:xfrm>
        </p:grpSpPr>
        <p:sp>
          <p:nvSpPr>
            <p:cNvPr id="80" name=""/>
            <p:cNvSpPr/>
            <p:nvPr/>
          </p:nvSpPr>
          <p:spPr>
            <a:xfrm>
              <a:off x="2340000" y="5661000"/>
              <a:ext cx="3095640" cy="504720"/>
            </a:xfrm>
            <a:prstGeom prst="rightArrow">
              <a:avLst>
                <a:gd name="adj1" fmla="val 49685"/>
                <a:gd name="adj2" fmla="val 8473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28320" y="5719680"/>
              <a:ext cx="158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rchiviaz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6659640" y="3860280"/>
            <a:ext cx="360360" cy="158436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664680" y="3651120"/>
            <a:ext cx="2509560" cy="2290320"/>
            <a:chOff x="6664680" y="3651120"/>
            <a:chExt cx="2509560" cy="2290320"/>
          </a:xfrm>
        </p:grpSpPr>
        <p:sp>
          <p:nvSpPr>
            <p:cNvPr id="84" name=""/>
            <p:cNvSpPr/>
            <p:nvPr/>
          </p:nvSpPr>
          <p:spPr>
            <a:xfrm flipV="1" rot="1539000">
              <a:off x="7093080" y="3715920"/>
              <a:ext cx="792360" cy="2160360"/>
            </a:xfrm>
            <a:custGeom>
              <a:avLst/>
              <a:gdLst>
                <a:gd name="textAreaLeft" fmla="*/ 106200 w 792360"/>
                <a:gd name="textAreaRight" fmla="*/ 686160 w 792360"/>
                <a:gd name="textAreaTop" fmla="*/ 407160 h 2160360"/>
                <a:gd name="textAreaBottom" fmla="*/ 1537200 h 21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143" stAng="-5400000" swAng="5400000"/>
                  <a:lnTo>
                    <a:pt x="21600" y="11298"/>
                  </a:lnTo>
                  <a:arcTo wR="21600" hR="8143" stAng="0" swAng="2813902"/>
                  <a:lnTo>
                    <a:pt x="7186" y="21136"/>
                  </a:lnTo>
                  <a:lnTo>
                    <a:pt x="0" y="17863"/>
                  </a:lnTo>
                  <a:lnTo>
                    <a:pt x="7186" y="13661"/>
                  </a:lnTo>
                  <a:lnTo>
                    <a:pt x="7186" y="15821"/>
                  </a:lnTo>
                  <a:arcTo wR="21600" hR="8143" stAng="2813902" swAng="-2558457"/>
                  <a:lnTo>
                    <a:pt x="21191" y="9720"/>
                  </a:lnTo>
                  <a:arcTo wR="21600" hR="8143" stAng="-255444" swAng="-5144556"/>
                  <a:close/>
                </a:path>
                <a:path fill="darkenLess" w="21600" h="21600">
                  <a:moveTo>
                    <a:pt x="0" y="0"/>
                  </a:moveTo>
                  <a:arcTo wR="21600" hR="8143" stAng="-5400000" swAng="5400000"/>
                  <a:lnTo>
                    <a:pt x="21600" y="11298"/>
                  </a:lnTo>
                  <a:arcTo wR="21600" hR="8143" stAng="0" swAng="-255444"/>
                  <a:lnTo>
                    <a:pt x="21191" y="9720"/>
                  </a:lnTo>
                  <a:arcTo wR="21600" hR="8143" stAng="-255444" swAng="-5144556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6942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626600" y="5099040"/>
              <a:ext cx="154764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pplicaz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svilupp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435640" y="765000"/>
            <a:ext cx="3085920" cy="3024360"/>
            <a:chOff x="5435640" y="765000"/>
            <a:chExt cx="3085920" cy="3024360"/>
          </a:xfrm>
        </p:grpSpPr>
        <p:sp>
          <p:nvSpPr>
            <p:cNvPr id="87" name=""/>
            <p:cNvSpPr/>
            <p:nvPr/>
          </p:nvSpPr>
          <p:spPr>
            <a:xfrm>
              <a:off x="7656480" y="765000"/>
              <a:ext cx="86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clus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6300720" y="2854440"/>
              <a:ext cx="1368360" cy="934920"/>
              <a:chOff x="6300720" y="2854440"/>
              <a:chExt cx="1368360" cy="934920"/>
            </a:xfrm>
          </p:grpSpPr>
          <p:sp>
            <p:nvSpPr>
              <p:cNvPr id="89" name=""/>
              <p:cNvSpPr/>
              <p:nvPr/>
            </p:nvSpPr>
            <p:spPr>
              <a:xfrm>
                <a:off x="6300720" y="2854440"/>
                <a:ext cx="1368360" cy="934920"/>
              </a:xfrm>
              <a:prstGeom prst="cube">
                <a:avLst>
                  <a:gd name="adj" fmla="val 17319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565680" y="3213360"/>
                <a:ext cx="79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ffffff"/>
                    </a:solidFill>
                    <a:latin typeface="Arial"/>
                  </a:rPr>
                  <a:t>C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>
              <a:off x="7991640" y="1058760"/>
              <a:ext cx="4572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6"/>
            <a:stretch/>
          </p:blipFill>
          <p:spPr>
            <a:xfrm>
              <a:off x="7346880" y="1058760"/>
              <a:ext cx="4572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7"/>
            <a:stretch/>
          </p:blipFill>
          <p:spPr>
            <a:xfrm>
              <a:off x="6684840" y="1058760"/>
              <a:ext cx="4572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8"/>
            <a:stretch/>
          </p:blipFill>
          <p:spPr>
            <a:xfrm>
              <a:off x="6037200" y="1058760"/>
              <a:ext cx="4572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9"/>
            <a:stretch/>
          </p:blipFill>
          <p:spPr>
            <a:xfrm>
              <a:off x="5435640" y="1058760"/>
              <a:ext cx="457200" cy="90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"/>
            <p:cNvGrpSpPr/>
            <p:nvPr/>
          </p:nvGrpSpPr>
          <p:grpSpPr>
            <a:xfrm>
              <a:off x="5713560" y="1916280"/>
              <a:ext cx="2555640" cy="1008000"/>
              <a:chOff x="5713560" y="1916280"/>
              <a:chExt cx="2555640" cy="1008000"/>
            </a:xfrm>
          </p:grpSpPr>
          <p:sp>
            <p:nvSpPr>
              <p:cNvPr id="97" name=""/>
              <p:cNvSpPr/>
              <p:nvPr/>
            </p:nvSpPr>
            <p:spPr>
              <a:xfrm>
                <a:off x="5714640" y="1916280"/>
                <a:ext cx="0" cy="43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324480" y="1916280"/>
                <a:ext cx="0" cy="43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21560" y="1916280"/>
                <a:ext cx="0" cy="43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269200" y="1916280"/>
                <a:ext cx="0" cy="43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713560" y="2349360"/>
                <a:ext cx="255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987960" y="1916280"/>
                <a:ext cx="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 rot="1153800">
            <a:off x="4859640" y="3213000"/>
            <a:ext cx="792360" cy="2160360"/>
          </a:xfrm>
          <a:custGeom>
            <a:avLst/>
            <a:gdLst>
              <a:gd name="textAreaLeft" fmla="*/ 106200 w 792360"/>
              <a:gd name="textAreaRight" fmla="*/ 686160 w 792360"/>
              <a:gd name="textAreaTop" fmla="*/ 432360 h 2160360"/>
              <a:gd name="textAreaBottom" fmla="*/ 151164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51" stAng="-5400000" swAng="5400000"/>
                <a:lnTo>
                  <a:pt x="21600" y="10789"/>
                </a:lnTo>
                <a:arcTo wR="21600" hR="8651" stAng="0" swAng="2108706"/>
                <a:lnTo>
                  <a:pt x="10681" y="20468"/>
                </a:lnTo>
                <a:lnTo>
                  <a:pt x="0" y="18371"/>
                </a:lnTo>
                <a:lnTo>
                  <a:pt x="10681" y="14010"/>
                </a:lnTo>
                <a:lnTo>
                  <a:pt x="10681" y="16170"/>
                </a:lnTo>
                <a:arcTo wR="21600" hR="8651" stAng="2108706" swAng="-1937398"/>
                <a:lnTo>
                  <a:pt x="21434" y="9720"/>
                </a:lnTo>
                <a:arcTo wR="21600" hR="8651" stAng="-171309" swAng="-5228691"/>
                <a:close/>
              </a:path>
              <a:path fill="darkenLess" w="21600" h="21600">
                <a:moveTo>
                  <a:pt x="0" y="0"/>
                </a:moveTo>
                <a:arcTo wR="21600" hR="8651" stAng="-5400000" swAng="5400000"/>
                <a:lnTo>
                  <a:pt x="21600" y="10789"/>
                </a:lnTo>
                <a:arcTo wR="21600" hR="8651" stAng="0" swAng="-171309"/>
                <a:lnTo>
                  <a:pt x="21434" y="9720"/>
                </a:lnTo>
                <a:arcTo wR="21600" hR="8651" stAng="-171309" swAng="-5228691"/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lin ang="65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F2B8B-4104-4AA5-84EF-AB489C9774B9}" type="slidenum">
              <a:t>4</a:t>
            </a:fld>
          </a:p>
        </p:txBody>
      </p:sp>
    </p:spTree>
  </p:cSld>
  <p:transition>
    <p:pull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5200" y="3097080"/>
            <a:ext cx="7156440" cy="2592360"/>
          </a:xfrm>
          <a:prstGeom prst="rightArrowCallout">
            <a:avLst>
              <a:gd name="adj1" fmla="val 27253"/>
              <a:gd name="adj2" fmla="val 25000"/>
              <a:gd name="adj3" fmla="val 33063"/>
              <a:gd name="adj4" fmla="val 793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74520"/>
            <a:ext cx="8686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gestione delle immagini med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5200" y="907560"/>
            <a:ext cx="8483760" cy="161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l'interno di un ospedale, la Radiologia è il reparto nel quale si f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aggiore uso di tecnologie avanzat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un ideale sistema informativo integrato per la Radiologia, dovrebb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sere presenti le seguenti funzionalit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812000" y="2933640"/>
            <a:ext cx="628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I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840800" y="4024440"/>
            <a:ext cx="628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I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800840" y="5089680"/>
            <a:ext cx="760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C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7800" y="3068640"/>
            <a:ext cx="5761080" cy="26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quisizione in formato digitale delle immagini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fornite dalle diverse apparecchiature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diagnostiche e dei dati ad esse associ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aborazione ed archiviazione di informazioni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relative ai diversi momenti della storia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clinica del paz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divisione in rete di tutte le informazioni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di utilità clinica ed amministr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3502080"/>
            <a:ext cx="89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stema Informativo Radiologico, responsabile prevalentemente della gestione delle attività specifiche locali (programmazione degli esami, esecuzione esame,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rchiviazione e distribuzione dei refert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8000" y="5300640"/>
            <a:ext cx="89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stema per l'Archiviazione e la Comunicazione delle Immagini, responsabile della parte riguardante le immagini (acquisizione, archiviazione e distribuzione d’immagin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2400" y="1685880"/>
            <a:ext cx="89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stema Informativo Ospedaliero, responsabile prevalentemente della gestione complessiva del paziente (accettazione, prenotazione di esami, fatturazion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22120" y="1168560"/>
            <a:ext cx="4681800" cy="4135320"/>
            <a:chOff x="222120" y="1168560"/>
            <a:chExt cx="4681800" cy="4135320"/>
          </a:xfrm>
        </p:grpSpPr>
        <p:sp>
          <p:nvSpPr>
            <p:cNvPr id="118" name=""/>
            <p:cNvSpPr txBox="1"/>
            <p:nvPr/>
          </p:nvSpPr>
          <p:spPr>
            <a:xfrm>
              <a:off x="239760" y="4767120"/>
              <a:ext cx="84780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33ccff"/>
                      </a:gs>
                    </a:gsLst>
                    <a:lin ang="5400000"/>
                  </a:gradFill>
                  <a:latin typeface="Impact"/>
                </a:rPr>
                <a:t>PACS</a:t>
              </a:r>
              <a:endParaRPr b="0" lang="en-US" sz="32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222120" y="2959200"/>
              <a:ext cx="54288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33ccff"/>
                      </a:gs>
                    </a:gsLst>
                    <a:lin ang="5400000"/>
                  </a:gradFill>
                  <a:latin typeface="Impact"/>
                </a:rPr>
                <a:t>RIS</a:t>
              </a:r>
              <a:endParaRPr b="0" lang="en-US" sz="32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1360440" y="5056200"/>
              <a:ext cx="3543480" cy="24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33ccff"/>
                      </a:gs>
                    </a:gsLst>
                    <a:lin ang="5400000"/>
                  </a:gradFill>
                  <a:latin typeface="Impact"/>
                </a:rPr>
                <a:t>Picture Archiving and Communication System</a:t>
              </a:r>
              <a:endParaRPr b="0" lang="en-US" sz="1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1041480" y="3243240"/>
              <a:ext cx="2781360" cy="24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33ccff"/>
                      </a:gs>
                    </a:gsLst>
                    <a:lin ang="5400000"/>
                  </a:gradFill>
                  <a:latin typeface="Impact"/>
                </a:rPr>
                <a:t>Radiological Information System </a:t>
              </a:r>
              <a:endParaRPr b="0" lang="en-US" sz="1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222120" y="1168560"/>
              <a:ext cx="55260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33ccff"/>
                      </a:gs>
                    </a:gsLst>
                    <a:lin ang="5400000"/>
                  </a:gradFill>
                  <a:latin typeface="Impact"/>
                </a:rPr>
                <a:t>HIS</a:t>
              </a:r>
              <a:endParaRPr b="0" lang="en-US" sz="32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1068480" y="1441440"/>
              <a:ext cx="2495520" cy="24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33ccff"/>
                      </a:gs>
                    </a:gsLst>
                    <a:lin ang="5400000"/>
                  </a:gradFill>
                  <a:latin typeface="Impact"/>
                </a:rPr>
                <a:t>Hospital Information System </a:t>
              </a:r>
              <a:endParaRPr b="0" lang="en-US" sz="1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2F7E8-E16F-44E3-AEB9-1A3A629F695D}" type="slidenum">
              <a:t>5</a:t>
            </a:fld>
          </a:p>
        </p:txBody>
      </p:sp>
    </p:spTree>
  </p:cSld>
  <p:transition>
    <p:pull dir="r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4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9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71560" y="1846440"/>
            <a:ext cx="82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tegrazione dei dati clinici dei diversi Sistemi Informativ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0000" y="836640"/>
            <a:ext cx="8062920" cy="5716440"/>
          </a:xfrm>
          <a:prstGeom prst="roundRect">
            <a:avLst>
              <a:gd name="adj" fmla="val 8213"/>
            </a:avLst>
          </a:prstGeom>
          <a:solidFill>
            <a:srgbClr val="ffffff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824120" y="979560"/>
            <a:ext cx="395280" cy="590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202280" y="979560"/>
            <a:ext cx="312480" cy="425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4068720" y="1131840"/>
            <a:ext cx="271440" cy="370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6227640" y="993600"/>
            <a:ext cx="615960" cy="659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7829640" y="907920"/>
            <a:ext cx="633240" cy="608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263120" y="1346040"/>
            <a:ext cx="11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TIFF,BMP,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64840" y="136044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Mod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35080" y="1589040"/>
            <a:ext cx="1800" cy="247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1589040"/>
            <a:ext cx="1440" cy="247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08720" y="1603440"/>
            <a:ext cx="1440" cy="291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1790640" y="1801800"/>
            <a:ext cx="469800" cy="474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411200" y="2884320"/>
            <a:ext cx="7194600" cy="87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1700280" y="5715000"/>
            <a:ext cx="1360440" cy="7952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68440" y="4683240"/>
            <a:ext cx="914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76480" y="4683240"/>
            <a:ext cx="1130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Consul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30320" y="494028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38600" y="4683240"/>
            <a:ext cx="1238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Visualizz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59520" y="4683240"/>
            <a:ext cx="914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ta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73200" y="5543640"/>
            <a:ext cx="18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64160" y="5524560"/>
            <a:ext cx="1800" cy="266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3852720" y="5661000"/>
            <a:ext cx="1295640" cy="8413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361040" y="5524560"/>
            <a:ext cx="1440" cy="266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75120" y="127476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can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0"/>
          <a:srcRect l="0" t="0" r="0" b="20742"/>
          <a:stretch/>
        </p:blipFill>
        <p:spPr>
          <a:xfrm>
            <a:off x="5940360" y="5681520"/>
            <a:ext cx="1368360" cy="782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411200" y="5473800"/>
            <a:ext cx="7128000" cy="1000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11200" y="4038480"/>
            <a:ext cx="3962520" cy="88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33280" y="3389400"/>
            <a:ext cx="13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Imag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1"/>
          <a:stretch/>
        </p:blipFill>
        <p:spPr>
          <a:xfrm>
            <a:off x="6983280" y="3357720"/>
            <a:ext cx="457200" cy="533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600680" y="378000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Stampa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2"/>
          <a:stretch/>
        </p:blipFill>
        <p:spPr>
          <a:xfrm>
            <a:off x="7499520" y="3363840"/>
            <a:ext cx="444240" cy="4888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3"/>
          <a:stretch/>
        </p:blipFill>
        <p:spPr>
          <a:xfrm>
            <a:off x="4114800" y="1801800"/>
            <a:ext cx="468360" cy="474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4"/>
          <a:stretch/>
        </p:blipFill>
        <p:spPr>
          <a:xfrm>
            <a:off x="6192720" y="1816200"/>
            <a:ext cx="468360" cy="474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7689960" y="1898640"/>
            <a:ext cx="914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Aquisi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81360" y="1928880"/>
            <a:ext cx="914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Cap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89240" y="1930320"/>
            <a:ext cx="914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c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5"/>
          <a:stretch/>
        </p:blipFill>
        <p:spPr>
          <a:xfrm>
            <a:off x="3103560" y="3048120"/>
            <a:ext cx="663480" cy="914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6"/>
          <a:stretch/>
        </p:blipFill>
        <p:spPr>
          <a:xfrm>
            <a:off x="3894120" y="3048120"/>
            <a:ext cx="527040" cy="904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718080" y="36576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7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01520"/>
            <a:ext cx="86868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ancanza di integr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22400" y="4119480"/>
            <a:ext cx="0" cy="547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410600" y="4925880"/>
            <a:ext cx="0" cy="547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02680" y="410544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27560" y="4941720"/>
            <a:ext cx="0" cy="547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19640" y="412128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49600" y="494028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41680" y="4119480"/>
            <a:ext cx="0" cy="547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94840" y="1341000"/>
            <a:ext cx="23036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BIET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3760" y="2766960"/>
            <a:ext cx="230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85960" y="3286080"/>
            <a:ext cx="7215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ncanza d’uniformità tra i sist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ncanza di uno standard per il formato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i d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ncanza di uno standard di comunic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79640" y="227664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27664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29240" y="229248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115480" y="15858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101080" y="227664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5508360" y="4076640"/>
            <a:ext cx="1423800" cy="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8640" y="2019240"/>
            <a:ext cx="474840" cy="2043720"/>
          </a:xfrm>
          <a:prstGeom prst="rect">
            <a:avLst/>
          </a:prstGeom>
          <a:solidFill>
            <a:srgbClr val="3366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BF58B-2C24-4D6E-811B-587F86921AC9}" type="slidenum">
              <a:t>6</a:t>
            </a:fld>
          </a:p>
        </p:txBody>
      </p:sp>
    </p:spTree>
  </p:cSld>
  <p:transition>
    <p:pull dir="r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500"/>
                            </p:stCondLst>
                            <p:childTnLst>
                              <p:par>
                                <p:cTn id="480" nodeType="after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79280" y="1195560"/>
            <a:ext cx="8785440" cy="30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rso la fine degli anni 80, le modalità di acquisizione digitali 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odality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 modalità) iniziarono a diffondersi, ma ciascuna operava su piattaforme proprietar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gni modalità era considerata un sistema isol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'intercomunicazione era agevole solo all'interno di una stessa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famigli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tuazione non ideale: si sarebbe voluto che macchine di produttori diversi potessero comunicare le une con le altre e che il formato dei dati fosse comu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79280" y="101520"/>
            <a:ext cx="86868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cessità di uno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249800" y="4078440"/>
            <a:ext cx="646200" cy="790560"/>
          </a:xfrm>
          <a:prstGeom prst="downArrow">
            <a:avLst>
              <a:gd name="adj1" fmla="val 49796"/>
              <a:gd name="adj2" fmla="val 47803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79280" y="5013360"/>
            <a:ext cx="8785440" cy="1042920"/>
            <a:chOff x="179280" y="5013360"/>
            <a:chExt cx="8785440" cy="1042920"/>
          </a:xfrm>
        </p:grpSpPr>
        <p:sp>
          <p:nvSpPr>
            <p:cNvPr id="190" name=""/>
            <p:cNvSpPr/>
            <p:nvPr/>
          </p:nvSpPr>
          <p:spPr>
            <a:xfrm>
              <a:off x="250920" y="5013360"/>
              <a:ext cx="8642160" cy="1042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9280" y="5029200"/>
              <a:ext cx="8785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Necessità di standardizzare il formato delle immagini medicali in modo da poter realizzare sistemi aperti senza dover necessariamente adottare gli standard previsti dai produttori di modalità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755640" y="5013360"/>
            <a:ext cx="7561080" cy="1079280"/>
            <a:chOff x="755640" y="5013360"/>
            <a:chExt cx="7561080" cy="1079280"/>
          </a:xfrm>
        </p:grpSpPr>
        <p:sp>
          <p:nvSpPr>
            <p:cNvPr id="193" name=""/>
            <p:cNvSpPr/>
            <p:nvPr/>
          </p:nvSpPr>
          <p:spPr>
            <a:xfrm>
              <a:off x="755640" y="5013360"/>
              <a:ext cx="7561080" cy="1079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5640" y="5156280"/>
              <a:ext cx="748692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400" spc="-1" strike="noStrike">
                  <a:solidFill>
                    <a:srgbClr val="000099"/>
                  </a:solidFill>
                  <a:latin typeface="Arial"/>
                </a:rPr>
                <a:t>DICOM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8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1" i="1" lang="it-IT" sz="2400" spc="-1" strike="noStrike">
                  <a:solidFill>
                    <a:srgbClr val="000099"/>
                  </a:solidFill>
                  <a:latin typeface="Arial"/>
                </a:rPr>
                <a:t>igital </a:t>
              </a:r>
              <a:r>
                <a:rPr b="1" i="1" lang="it-IT" sz="28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r>
                <a:rPr b="1" i="1" lang="it-IT" sz="2400" spc="-1" strike="noStrike">
                  <a:solidFill>
                    <a:srgbClr val="000099"/>
                  </a:solidFill>
                  <a:latin typeface="Arial"/>
                </a:rPr>
                <a:t>maging and </a:t>
              </a:r>
              <a:r>
                <a:rPr b="1" i="1" lang="it-IT" sz="28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i="1" lang="it-IT" sz="2400" spc="-1" strike="noStrike">
                  <a:solidFill>
                    <a:srgbClr val="000099"/>
                  </a:solidFill>
                  <a:latin typeface="Arial"/>
                </a:rPr>
                <a:t>mmunications in </a:t>
              </a:r>
              <a:r>
                <a:rPr b="1" i="1" lang="it-IT" sz="28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r>
                <a:rPr b="1" i="1" lang="it-IT" sz="2400" spc="-1" strike="noStrike">
                  <a:solidFill>
                    <a:srgbClr val="000099"/>
                  </a:solidFill>
                  <a:latin typeface="Arial"/>
                </a:rPr>
                <a:t>edic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47256-3413-4ED7-BA95-ABA0378B0895}" type="slidenum">
              <a:t>7</a:t>
            </a:fld>
          </a:p>
        </p:txBody>
      </p:sp>
    </p:spTree>
  </p:cSld>
  <p:transition>
    <p:pull dir="r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596360" y="2924280"/>
            <a:ext cx="1428480" cy="1038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50920" y="4723920"/>
            <a:ext cx="650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resenta un protocollo non proprietario e specifica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formato per le immagini medich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 scambio di immagini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di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 dati correl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1448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ICOM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, lo standard per le immagini medi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50920" y="981000"/>
            <a:ext cx="5327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5200" y="1198440"/>
            <a:ext cx="511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tandard mondiale per il trasferimento e la gestione delle immagini mediche attraverso apparecchiature di produttori diver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59640" y="2924280"/>
            <a:ext cx="1366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odalità d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cquisi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496280" y="2241360"/>
            <a:ext cx="0" cy="6109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452000" y="230364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I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2960" y="3087720"/>
            <a:ext cx="517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Definisce l’interfaccia che rende possibil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nnessione tra sistemi diver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7236000" y="4467240"/>
            <a:ext cx="1657080" cy="12668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7093080" y="1125360"/>
            <a:ext cx="1771560" cy="10764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 flipV="1">
            <a:off x="8675640" y="386028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68000" y="392256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I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6">
            <a:lum bright="12000"/>
          </a:blip>
          <a:srcRect l="0" t="0" r="0" b="3231"/>
          <a:stretch/>
        </p:blipFill>
        <p:spPr>
          <a:xfrm>
            <a:off x="5796000" y="3500280"/>
            <a:ext cx="1224000" cy="7905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020000" y="3933720"/>
            <a:ext cx="57636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05192-B63C-450F-8160-B16FF9BACD2E}" type="slidenum">
              <a:t>8</a:t>
            </a:fld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3760" y="966960"/>
            <a:ext cx="77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COM è uno standard basato sull’architettura Object-Orien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3760" y="148428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formazioni del mondo reale (paziente, ricovero, immagini) model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47920" y="1773360"/>
            <a:ext cx="67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e oggetti informativi detti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Information Object Definiti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3760" y="227664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nisce le specifiche delle operazioni denominate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DICOM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8960" y="2585880"/>
            <a:ext cx="76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Servic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DIMSE)  che possono essere eseguite su questi oggetti.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2240" y="3141720"/>
            <a:ext cx="78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 operazioni DIMSE realizzano funzionalità dette Service Cla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8366040" y="0"/>
            <a:ext cx="777960" cy="8809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48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rchitettura di DI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20720" y="352440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ality Worklist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ed Procedure 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/Retri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3760" y="5375160"/>
            <a:ext cx="885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ue applicazioni DICOM stabiliscono una comunicazi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a fornisce il servizio, detta Service Class Provider (SC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altra lo utilizza, detta Service Class User(SCU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18D66-EA14-4771-8239-D3FD0E7A3FAB}" type="slidenum">
              <a:t>9</a:t>
            </a:fld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11:02:24Z</dcterms:created>
  <dc:creator>gierimar</dc:creator>
  <dc:description/>
  <dc:language>en-US</dc:language>
  <cp:lastModifiedBy>gierimar</cp:lastModifiedBy>
  <dcterms:modified xsi:type="dcterms:W3CDTF">2003-03-19T16:48:47Z</dcterms:modified>
  <cp:revision>257</cp:revision>
  <dc:subject/>
  <dc:title>Diapositiva 1</dc:title>
</cp:coreProperties>
</file>