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28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4.png" ContentType="image/png"/>
  <Override PartName="/ppt/media/image2.png" ContentType="image/png"/>
  <Override PartName="/ppt/media/image2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742113" cy="9893300"/>
  <p:custShowLst>
    <p:custShow name="Presentazione personalizzata 1" id="0">
      <p:sldLst>
        <p:sld r:id="rId3"/>
        <p:sld r:id="rId7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106D6-677E-43FC-B007-E60D51A22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BC77-9EDD-448C-9488-F1CF3BFF6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312C8B-B9B8-43BE-A355-EA4551F2D7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77A4D-47D9-48EE-9295-D48A2B67B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E496A-DC34-4F52-BEC1-C9C615FD99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4D220-6A81-4CB7-BB79-DA9836BA9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60AEF-5004-49AD-A325-BCE0C1383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1ED1-4E54-4F49-9C9C-E49F34EC5C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34F8D-ACB5-4C06-9835-852F13A26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30956-2D9A-489F-90CF-A94226AF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3565FE-7BC9-4207-9D22-C818A9B78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F432D-F0E8-4680-9A8E-B2217E120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612613-8066-4D3F-B66A-6BBAB3DD1FC4}" type="datetime">
              <a:rPr b="0" lang="it-IT" sz="1400" spc="-1" strike="noStrike">
                <a:solidFill>
                  <a:srgbClr val="000000"/>
                </a:solidFill>
                <a:latin typeface="Arial"/>
              </a:rPr>
              <a:t>28/07/26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25DA0E-41B7-4528-9E6A-5D6272ABAC82}" type="slidenum">
              <a:rPr b="0" lang="it-IT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image" Target="../media/image24.png"/><Relationship Id="rId4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468360" y="2536920"/>
            <a:ext cx="81360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iltri non isotropici per la segmentazione di           oggetti in mammografia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" y="4437000"/>
            <a:ext cx="40384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47640" y="422100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1547640" y="628344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8172360" y="4221000"/>
            <a:ext cx="0" cy="2062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0" y="4508640"/>
            <a:ext cx="361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59400" y="6283440"/>
            <a:ext cx="3612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826920" y="549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LMA MATER STUDIORUM – UNIVERSITA’ DI BOLO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DE DI CES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ACOLTA’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9" name=""/>
          <p:cNvGraphicFramePr/>
          <p:nvPr/>
        </p:nvGraphicFramePr>
        <p:xfrm>
          <a:off x="1042920" y="4564080"/>
          <a:ext cx="7561440" cy="1463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. Renato Campan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tt. Matteo Roff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ta 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ca Bologn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0" name=""/>
          <p:cNvSpPr/>
          <p:nvPr/>
        </p:nvSpPr>
        <p:spPr>
          <a:xfrm>
            <a:off x="468360" y="249228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68360" y="366696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D0270-BCFD-4BA5-B2D1-F9D7C8300B15}" type="slidenum">
              <a:t>1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656D1BE-E8AE-45FF-932E-136E2A3A5786}" type="datetime1">
              <a:rPr lang="en-US"/>
              <a:t>07/28/26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Segment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42" name=""/>
          <p:cNvGrpSpPr/>
          <p:nvPr/>
        </p:nvGrpSpPr>
        <p:grpSpPr>
          <a:xfrm>
            <a:off x="684360" y="1125360"/>
            <a:ext cx="8135640" cy="4989600"/>
            <a:chOff x="684360" y="1125360"/>
            <a:chExt cx="8135640" cy="4989600"/>
          </a:xfrm>
        </p:grpSpPr>
        <p:sp>
          <p:nvSpPr>
            <p:cNvPr id="243" name=""/>
            <p:cNvSpPr/>
            <p:nvPr/>
          </p:nvSpPr>
          <p:spPr>
            <a:xfrm>
              <a:off x="684360" y="1125360"/>
              <a:ext cx="784836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a segmentazione di un’immagine (memorizzata su un grafo) è realizzata da algoritmi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partizionamento dei grafi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684360" y="2278080"/>
              <a:ext cx="813564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marL="260640" indent="-26064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Fanno parte della stessa partizione nodi adiacenti aventi valori di intensità simi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5" name=""/>
            <p:cNvGrpSpPr/>
            <p:nvPr/>
          </p:nvGrpSpPr>
          <p:grpSpPr>
            <a:xfrm>
              <a:off x="1403280" y="3357720"/>
              <a:ext cx="6408720" cy="2757240"/>
              <a:chOff x="1403280" y="3357720"/>
              <a:chExt cx="6408720" cy="2757240"/>
            </a:xfrm>
          </p:grpSpPr>
          <p:grpSp>
            <p:nvGrpSpPr>
              <p:cNvPr id="246" name=""/>
              <p:cNvGrpSpPr/>
              <p:nvPr/>
            </p:nvGrpSpPr>
            <p:grpSpPr>
              <a:xfrm>
                <a:off x="1403280" y="3357720"/>
                <a:ext cx="6408720" cy="2757240"/>
                <a:chOff x="1403280" y="3357720"/>
                <a:chExt cx="6408720" cy="2757240"/>
              </a:xfrm>
            </p:grpSpPr>
            <p:sp>
              <p:nvSpPr>
                <p:cNvPr id="247" name=""/>
                <p:cNvSpPr/>
                <p:nvPr/>
              </p:nvSpPr>
              <p:spPr>
                <a:xfrm>
                  <a:off x="1403280" y="3357720"/>
                  <a:ext cx="6408720" cy="2757240"/>
                </a:xfrm>
                <a:prstGeom prst="rect">
                  <a:avLst/>
                </a:prstGeom>
                <a:solidFill>
                  <a:srgbClr val="ffffff"/>
                </a:solidFill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grpSp>
              <p:nvGrpSpPr>
                <p:cNvPr id="248" name=""/>
                <p:cNvGrpSpPr/>
                <p:nvPr/>
              </p:nvGrpSpPr>
              <p:grpSpPr>
                <a:xfrm>
                  <a:off x="1527840" y="3419640"/>
                  <a:ext cx="6157440" cy="2615040"/>
                  <a:chOff x="1527840" y="3419640"/>
                  <a:chExt cx="6157440" cy="2615040"/>
                </a:xfrm>
              </p:grpSpPr>
              <p:pic>
                <p:nvPicPr>
                  <p:cNvPr id="249" name="" descr=""/>
                  <p:cNvPicPr/>
                  <p:nvPr/>
                </p:nvPicPr>
                <p:blipFill>
                  <a:blip r:embed="rId1"/>
                  <a:stretch/>
                </p:blipFill>
                <p:spPr>
                  <a:xfrm>
                    <a:off x="5046840" y="3419640"/>
                    <a:ext cx="2638440" cy="26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pic>
                <p:nvPicPr>
                  <p:cNvPr id="2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7840" y="3419640"/>
                    <a:ext cx="2638440" cy="2615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  <p:sp>
                <p:nvSpPr>
                  <p:cNvPr id="251" name=""/>
                  <p:cNvSpPr/>
                  <p:nvPr/>
                </p:nvSpPr>
                <p:spPr>
                  <a:xfrm>
                    <a:off x="4418280" y="4572720"/>
                    <a:ext cx="440640" cy="317520"/>
                  </a:xfrm>
                  <a:prstGeom prst="rightArrow">
                    <a:avLst>
                      <a:gd name="adj1" fmla="val 41741"/>
                      <a:gd name="adj2" fmla="val 57656"/>
                    </a:avLst>
                  </a:prstGeom>
                  <a:solidFill>
                    <a:srgbClr val="0000ff"/>
                  </a:solidFill>
                  <a:ln w="1260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18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252" name=""/>
              <p:cNvSpPr/>
              <p:nvPr/>
            </p:nvSpPr>
            <p:spPr>
              <a:xfrm>
                <a:off x="4001400" y="5169240"/>
                <a:ext cx="25704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x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3" name=""/>
              <p:cNvSpPr/>
              <p:nvPr/>
            </p:nvSpPr>
            <p:spPr>
              <a:xfrm>
                <a:off x="3549240" y="5658480"/>
                <a:ext cx="254160" cy="33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54" name=""/>
              <p:cNvSpPr/>
              <p:nvPr/>
            </p:nvSpPr>
            <p:spPr>
              <a:xfrm>
                <a:off x="3726000" y="5445720"/>
                <a:ext cx="447840" cy="37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600" spc="-1" strike="noStrike">
                    <a:solidFill>
                      <a:srgbClr val="000000"/>
                    </a:solidFill>
                    <a:latin typeface="Arial"/>
                  </a:rPr>
                  <a:t>w</a:t>
                </a:r>
                <a:r>
                  <a:rPr b="0" lang="it-IT" sz="1600" spc="-1" strike="noStrike" baseline="-25000">
                    <a:solidFill>
                      <a:srgbClr val="000000"/>
                    </a:solidFill>
                    <a:latin typeface="Arial"/>
                  </a:rPr>
                  <a:t>xy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5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21069-176E-4619-A6E9-2547E59447A6}" type="slidenum">
              <a:t>1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160690-F563-4FB3-8D89-0AD8026A2124}" type="datetime1">
              <a:rPr lang="en-US"/>
              <a:t>07/28/26</a:t>
            </a:fld>
          </a:p>
        </p:txBody>
      </p:sp>
    </p:spTree>
  </p:cSld>
  <p:timing>
    <p:tnLst>
      <p:par>
        <p:cTn id="428" dur="indefinite" restart="never" nodeType="tmRoot">
          <p:childTnLst>
            <p:seq>
              <p:cTn id="429" dur="indefinite" nodeType="mainSeq">
                <p:childTnLst>
                  <p:par>
                    <p:cTn id="430" fill="hold">
                      <p:stCondLst>
                        <p:cond delay="0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34" dur="3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Applicazion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11280" y="1268280"/>
            <a:ext cx="8066160" cy="1468080"/>
            <a:chOff x="611280" y="1268280"/>
            <a:chExt cx="8066160" cy="1468080"/>
          </a:xfrm>
        </p:grpSpPr>
        <p:sp>
          <p:nvSpPr>
            <p:cNvPr id="258" name="PlaceHolder 2"/>
            <p:cNvSpPr>
              <a:spLocks noGrp="1"/>
            </p:cNvSpPr>
            <p:nvPr>
              <p:ph/>
            </p:nvPr>
          </p:nvSpPr>
          <p:spPr>
            <a:xfrm>
              <a:off x="611280" y="1268280"/>
              <a:ext cx="8066160" cy="648000"/>
            </a:xfrm>
            <a:prstGeom prst="rect">
              <a:avLst/>
            </a:prstGeom>
            <a:noFill/>
            <a:ln w="0">
              <a:noFill/>
            </a:ln>
          </p:spPr>
          <p:txBody>
            <a:bodyPr anchor="t">
              <a:normAutofit fontScale="95000"/>
            </a:bodyPr>
            <a:p>
              <a:pPr marL="325800" indent="-325800">
                <a:lnSpc>
                  <a:spcPct val="80000"/>
                </a:lnSpc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Si applica la tecnica di Grady alle mammografie digitali considerando solo le regioni di interesse – ROI (lesioni)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1332000" y="2276640"/>
              <a:ext cx="720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Il background (tessuto sano) rimane sfuoca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332000" y="1916280"/>
              <a:ext cx="576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e lesioni sono “messe a fuoco”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61" name="" descr=""/>
          <p:cNvPicPr/>
          <p:nvPr/>
        </p:nvPicPr>
        <p:blipFill>
          <a:blip r:embed="rId1"/>
          <a:stretch/>
        </p:blipFill>
        <p:spPr>
          <a:xfrm>
            <a:off x="2195640" y="2997360"/>
            <a:ext cx="2200320" cy="3024000"/>
          </a:xfrm>
          <a:prstGeom prst="rect">
            <a:avLst/>
          </a:prstGeom>
          <a:ln w="0">
            <a:noFill/>
          </a:ln>
        </p:spPr>
      </p:pic>
      <p:pic>
        <p:nvPicPr>
          <p:cNvPr id="262" name="" descr=""/>
          <p:cNvPicPr/>
          <p:nvPr/>
        </p:nvPicPr>
        <p:blipFill>
          <a:blip r:embed="rId2"/>
          <a:stretch/>
        </p:blipFill>
        <p:spPr>
          <a:xfrm>
            <a:off x="2195640" y="2997360"/>
            <a:ext cx="2200320" cy="3024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63" name="" descr=""/>
          <p:cNvPicPr/>
          <p:nvPr/>
        </p:nvPicPr>
        <p:blipFill>
          <a:blip r:embed="rId3"/>
          <a:stretch/>
        </p:blipFill>
        <p:spPr>
          <a:xfrm>
            <a:off x="5651640" y="3502080"/>
            <a:ext cx="1079280" cy="1079280"/>
          </a:xfrm>
          <a:prstGeom prst="rect">
            <a:avLst/>
          </a:prstGeom>
          <a:ln w="0">
            <a:noFill/>
          </a:ln>
        </p:spPr>
      </p:pic>
      <p:sp>
        <p:nvSpPr>
          <p:cNvPr id="264" name=""/>
          <p:cNvSpPr/>
          <p:nvPr/>
        </p:nvSpPr>
        <p:spPr>
          <a:xfrm>
            <a:off x="4861080" y="5230800"/>
            <a:ext cx="2520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Mammografia digita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859280" y="5237280"/>
            <a:ext cx="252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Regioni di interes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4859280" y="5230800"/>
            <a:ext cx="2521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Campionamento visivo uman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3165480" y="3803760"/>
            <a:ext cx="2595600" cy="1092240"/>
            <a:chOff x="3165480" y="3803760"/>
            <a:chExt cx="2595600" cy="1092240"/>
          </a:xfrm>
        </p:grpSpPr>
        <p:sp>
          <p:nvSpPr>
            <p:cNvPr id="268" name=""/>
            <p:cNvSpPr/>
            <p:nvPr/>
          </p:nvSpPr>
          <p:spPr>
            <a:xfrm rot="15640800">
              <a:off x="4116240" y="3091680"/>
              <a:ext cx="693720" cy="2516400"/>
            </a:xfrm>
            <a:custGeom>
              <a:avLst/>
              <a:gdLst>
                <a:gd name="textAreaLeft" fmla="*/ 239400 w 693720"/>
                <a:gd name="textAreaRight" fmla="*/ 454320 w 693720"/>
                <a:gd name="textAreaTop" fmla="*/ 868320 h 2516400"/>
                <a:gd name="textAreaBottom" fmla="*/ 1648080 h 251640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334" y="21600"/>
                  </a:lnTo>
                  <a:lnTo>
                    <a:pt x="10266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135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3228840" y="4208400"/>
              <a:ext cx="576360" cy="57636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0" name=""/>
          <p:cNvGrpSpPr/>
          <p:nvPr/>
        </p:nvGrpSpPr>
        <p:grpSpPr>
          <a:xfrm>
            <a:off x="2987640" y="3835440"/>
            <a:ext cx="2724120" cy="544320"/>
            <a:chOff x="2987640" y="3835440"/>
            <a:chExt cx="2724120" cy="544320"/>
          </a:xfrm>
        </p:grpSpPr>
        <p:sp>
          <p:nvSpPr>
            <p:cNvPr id="271" name=""/>
            <p:cNvSpPr/>
            <p:nvPr/>
          </p:nvSpPr>
          <p:spPr>
            <a:xfrm rot="16200000">
              <a:off x="4077360" y="2745360"/>
              <a:ext cx="544320" cy="2724120"/>
            </a:xfrm>
            <a:custGeom>
              <a:avLst/>
              <a:gdLst>
                <a:gd name="textAreaLeft" fmla="*/ 189000 w 544320"/>
                <a:gd name="textAreaRight" fmla="*/ 355320 w 544320"/>
                <a:gd name="textAreaTop" fmla="*/ 946080 h 2724120"/>
                <a:gd name="textAreaBottom" fmla="*/ 1778040 h 2724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247" y="21600"/>
                  </a:lnTo>
                  <a:lnTo>
                    <a:pt x="1035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2987640" y="3860640"/>
              <a:ext cx="504720" cy="50472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3" name=""/>
          <p:cNvGrpSpPr/>
          <p:nvPr/>
        </p:nvGrpSpPr>
        <p:grpSpPr>
          <a:xfrm>
            <a:off x="3486240" y="3205080"/>
            <a:ext cx="2303280" cy="1343520"/>
            <a:chOff x="3486240" y="3205080"/>
            <a:chExt cx="2303280" cy="1343520"/>
          </a:xfrm>
        </p:grpSpPr>
        <p:sp>
          <p:nvSpPr>
            <p:cNvPr id="274" name=""/>
            <p:cNvSpPr/>
            <p:nvPr/>
          </p:nvSpPr>
          <p:spPr>
            <a:xfrm rot="16903800">
              <a:off x="4176000" y="2796120"/>
              <a:ext cx="923760" cy="2160720"/>
            </a:xfrm>
            <a:custGeom>
              <a:avLst/>
              <a:gdLst>
                <a:gd name="textAreaLeft" fmla="*/ 317520 w 923760"/>
                <a:gd name="textAreaRight" fmla="*/ 606240 w 923760"/>
                <a:gd name="textAreaTop" fmla="*/ 742680 h 2160720"/>
                <a:gd name="textAreaBottom" fmla="*/ 1418040 h 2160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21600" y="0"/>
                  </a:lnTo>
                  <a:lnTo>
                    <a:pt x="11387" y="21600"/>
                  </a:lnTo>
                  <a:lnTo>
                    <a:pt x="10213" y="21600"/>
                  </a:lnTo>
                  <a:close/>
                </a:path>
              </a:pathLst>
            </a:custGeom>
            <a:gradFill rotWithShape="0">
              <a:gsLst>
                <a:gs pos="0">
                  <a:srgbClr val="ff0000">
                    <a:alpha val="0"/>
                  </a:srgbClr>
                </a:gs>
                <a:gs pos="100000">
                  <a:srgbClr val="ff0000">
                    <a:alpha val="60392"/>
                  </a:srgbClr>
                </a:gs>
              </a:gsLst>
              <a:lin ang="10098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3635280" y="3384720"/>
              <a:ext cx="719280" cy="719280"/>
            </a:xfrm>
            <a:prstGeom prst="ellipse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539D6-7C9E-49D9-8DC4-60B335CB6FDB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796AB6-2496-48CC-AA19-3A7C6D5BCA06}" type="datetime1">
              <a:rPr lang="en-US"/>
              <a:t>07/28/26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1" dur="3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6" dur="3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49" dur="3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30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3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1600"/>
                            </p:stCondLst>
                            <p:childTnLst>
                              <p:par>
                                <p:cTn id="455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7" fill="hold">
                            <p:stCondLst>
                              <p:cond delay="1600"/>
                            </p:stCondLst>
                            <p:childTnLst>
                              <p:par>
                                <p:cTn id="45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3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1" fill="hold">
                            <p:stCondLst>
                              <p:cond delay="1900"/>
                            </p:stCondLst>
                            <p:childTnLst>
                              <p:par>
                                <p:cTn id="462" nodeType="afterEffect" fill="hold" presetClass="entr" presetID="12" presetSubtype="2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464" dur="2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5" fill="hold">
                            <p:stCondLst>
                              <p:cond delay="2600"/>
                            </p:stCondLst>
                            <p:childTnLst>
                              <p:par>
                                <p:cTn id="466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0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2900"/>
                            </p:stCondLst>
                            <p:childTnLst>
                              <p:par>
                                <p:cTn id="472" nodeType="afterEffect" fill="hold" presetClass="entr" presetID="18" presetSubtype="12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74" dur="3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5" fill="hold">
                            <p:stCondLst>
                              <p:cond delay="3300"/>
                            </p:stCondLst>
                            <p:childTnLst>
                              <p:par>
                                <p:cTn id="476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3500"/>
                            </p:stCondLst>
                            <p:childTnLst>
                              <p:par>
                                <p:cTn id="479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1" dur="3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3800"/>
                            </p:stCondLst>
                            <p:childTnLst>
                              <p:par>
                                <p:cTn id="483" nodeType="afterEffect" fill="hold" presetClass="exit" presetID="1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488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9" fill="hold">
                            <p:stCondLst>
                              <p:cond delay="4300"/>
                            </p:stCondLst>
                            <p:childTnLst>
                              <p:par>
                                <p:cTn id="490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1" dur="3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3" fill="hold">
                            <p:stCondLst>
                              <p:cond delay="5100"/>
                            </p:stCondLst>
                            <p:childTnLst>
                              <p:par>
                                <p:cTn id="494" nodeType="after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5" dur="3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xit" presetID="10">
                                  <p:stCondLst>
                                    <p:cond delay="5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98" dur="3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164160"/>
            <a:ext cx="8229600" cy="673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Arial"/>
              </a:rPr>
              <a:t>Metodologie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84360" y="1341360"/>
            <a:ext cx="7920000" cy="4248360"/>
            <a:chOff x="684360" y="1341360"/>
            <a:chExt cx="7920000" cy="4248360"/>
          </a:xfrm>
        </p:grpSpPr>
        <p:sp>
          <p:nvSpPr>
            <p:cNvPr id="279" name=""/>
            <p:cNvSpPr/>
            <p:nvPr/>
          </p:nvSpPr>
          <p:spPr>
            <a:xfrm>
              <a:off x="4788000" y="2708280"/>
              <a:ext cx="3456000" cy="5745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4788000" y="3718080"/>
              <a:ext cx="3456000" cy="86328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egion Growing +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788000" y="5014800"/>
              <a:ext cx="3456000" cy="57492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4360" y="3573360"/>
              <a:ext cx="2735280" cy="865440"/>
            </a:xfrm>
            <a:prstGeom prst="ellipse">
              <a:avLst/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icerca contorn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851280" y="278136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3851280" y="392904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3851280" y="507996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755640" y="1341360"/>
              <a:ext cx="7848720" cy="64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6000"/>
            </a:bodyPr>
            <a:p>
              <a:pPr marL="260640" indent="-26064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cniche sperimentate per identificare correttamente il contorno delle lesioni tumora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7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036C6-1B79-4E5A-A7D0-E800D615E462}" type="slidenum">
              <a:t>1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F25FCB-8ED7-4EAE-B590-65E15636AF21}" type="datetime1">
              <a:rPr lang="en-US"/>
              <a:t>07/28/26</a:t>
            </a:fld>
          </a:p>
        </p:txBody>
      </p:sp>
    </p:spTree>
  </p:cSld>
  <p:timing>
    <p:tnLst>
      <p:par>
        <p:cTn id="500" dur="indefinite" restart="never" nodeType="tmRoot">
          <p:childTnLst>
            <p:seq>
              <p:cTn id="501" dur="indefinite" nodeType="mainSeq">
                <p:childTnLst>
                  <p:par>
                    <p:cTn id="502" fill="hold">
                      <p:stCondLst>
                        <p:cond delay="0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06" dur="3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1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9" name=""/>
          <p:cNvGrpSpPr/>
          <p:nvPr/>
        </p:nvGrpSpPr>
        <p:grpSpPr>
          <a:xfrm>
            <a:off x="468360" y="1182600"/>
            <a:ext cx="7991280" cy="4838760"/>
            <a:chOff x="468360" y="1182600"/>
            <a:chExt cx="7991280" cy="4838760"/>
          </a:xfrm>
        </p:grpSpPr>
        <p:pic>
          <p:nvPicPr>
            <p:cNvPr id="290" name="" descr=""/>
            <p:cNvPicPr/>
            <p:nvPr/>
          </p:nvPicPr>
          <p:blipFill>
            <a:blip r:embed="rId1"/>
            <a:stretch/>
          </p:blipFill>
          <p:spPr>
            <a:xfrm>
              <a:off x="898560" y="3284640"/>
              <a:ext cx="756108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91" name="" descr=""/>
            <p:cNvPicPr/>
            <p:nvPr/>
          </p:nvPicPr>
          <p:blipFill>
            <a:blip r:embed="rId2"/>
            <a:stretch/>
          </p:blipFill>
          <p:spPr>
            <a:xfrm>
              <a:off x="898560" y="1844640"/>
              <a:ext cx="7561080" cy="1325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2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97" name="" descr=""/>
            <p:cNvPicPr/>
            <p:nvPr/>
          </p:nvPicPr>
          <p:blipFill>
            <a:blip r:embed="rId3"/>
            <a:stretch/>
          </p:blipFill>
          <p:spPr>
            <a:xfrm>
              <a:off x="898560" y="469728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a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479520" y="5232240"/>
              <a:ext cx="447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c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ED8-9E4D-49D7-A6D9-B6DFEBF0A9E2}" type="slidenum">
              <a:t>1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4351B3C-09E9-4EEF-9D48-62172D37141C}" type="datetime1">
              <a:rPr lang="en-US"/>
              <a:t>07/28/26</a:t>
            </a:fld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13" dur="3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2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3" name=""/>
          <p:cNvGrpSpPr/>
          <p:nvPr/>
        </p:nvGrpSpPr>
        <p:grpSpPr>
          <a:xfrm>
            <a:off x="468360" y="1182600"/>
            <a:ext cx="7991280" cy="4838760"/>
            <a:chOff x="468360" y="1182600"/>
            <a:chExt cx="7991280" cy="4838760"/>
          </a:xfrm>
        </p:grpSpPr>
        <p:pic>
          <p:nvPicPr>
            <p:cNvPr id="304" name="" descr=""/>
            <p:cNvPicPr/>
            <p:nvPr/>
          </p:nvPicPr>
          <p:blipFill>
            <a:blip r:embed="rId1"/>
            <a:stretch/>
          </p:blipFill>
          <p:spPr>
            <a:xfrm>
              <a:off x="898560" y="184464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5" name="" descr=""/>
            <p:cNvPicPr/>
            <p:nvPr/>
          </p:nvPicPr>
          <p:blipFill>
            <a:blip r:embed="rId2"/>
            <a:stretch/>
          </p:blipFill>
          <p:spPr>
            <a:xfrm>
              <a:off x="898560" y="3284640"/>
              <a:ext cx="7561080" cy="1323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06" name="" descr=""/>
            <p:cNvPicPr/>
            <p:nvPr/>
          </p:nvPicPr>
          <p:blipFill>
            <a:blip r:embed="rId3"/>
            <a:stretch/>
          </p:blipFill>
          <p:spPr>
            <a:xfrm>
              <a:off x="898560" y="4697280"/>
              <a:ext cx="7561080" cy="132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07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d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e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504720" y="5232240"/>
              <a:ext cx="3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(f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1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2B992-3858-454C-98F7-40ABC67D78C3}" type="slidenum">
              <a:t>1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6BA142-F85D-4C64-89D6-C4F9AB95002A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0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0" dur="3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fronto dei Risultati [3]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17" name=""/>
          <p:cNvGrpSpPr/>
          <p:nvPr/>
        </p:nvGrpSpPr>
        <p:grpSpPr>
          <a:xfrm>
            <a:off x="468360" y="1182600"/>
            <a:ext cx="7991280" cy="4873680"/>
            <a:chOff x="468360" y="1182600"/>
            <a:chExt cx="7991280" cy="4873680"/>
          </a:xfrm>
        </p:grpSpPr>
        <p:pic>
          <p:nvPicPr>
            <p:cNvPr id="318" name="" descr=""/>
            <p:cNvPicPr/>
            <p:nvPr/>
          </p:nvPicPr>
          <p:blipFill>
            <a:blip r:embed="rId1"/>
            <a:stretch/>
          </p:blipFill>
          <p:spPr>
            <a:xfrm>
              <a:off x="900000" y="1844640"/>
              <a:ext cx="7559640" cy="1332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19" name="" descr=""/>
            <p:cNvPicPr/>
            <p:nvPr/>
          </p:nvPicPr>
          <p:blipFill>
            <a:blip r:embed="rId2"/>
            <a:stretch/>
          </p:blipFill>
          <p:spPr>
            <a:xfrm>
              <a:off x="900000" y="3284640"/>
              <a:ext cx="7559640" cy="1330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320" name="" descr=""/>
            <p:cNvPicPr/>
            <p:nvPr/>
          </p:nvPicPr>
          <p:blipFill>
            <a:blip r:embed="rId3"/>
            <a:stretch/>
          </p:blipFill>
          <p:spPr>
            <a:xfrm>
              <a:off x="900000" y="4724280"/>
              <a:ext cx="7559640" cy="1332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21" name=""/>
            <p:cNvSpPr/>
            <p:nvPr/>
          </p:nvSpPr>
          <p:spPr>
            <a:xfrm>
              <a:off x="1042920" y="1182600"/>
              <a:ext cx="10796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Lesioni tumorali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2554200" y="1182600"/>
              <a:ext cx="12240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Regioni di interess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408132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5264280" y="1182600"/>
              <a:ext cx="19447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Region growing        + Snak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091280" y="1268280"/>
              <a:ext cx="129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468360" y="229716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g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68360" y="3736800"/>
              <a:ext cx="4597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h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11560" y="5232240"/>
              <a:ext cx="38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(i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2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93AB5-4A3D-4275-A66E-DA68CCF62588}" type="slidenum">
              <a:t>1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B05D5B7-6FC2-45D1-BB6D-81D1D4FF43A4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1" dur="indefinite" restart="never" nodeType="tmRoot">
          <p:childTnLst>
            <p:seq>
              <p:cTn id="522" dur="indefinite" nodeType="mainSeq">
                <p:childTnLst>
                  <p:par>
                    <p:cTn id="523" fill="hold">
                      <p:stCondLst>
                        <p:cond delay="0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7" dur="3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1" name=""/>
          <p:cNvGrpSpPr/>
          <p:nvPr/>
        </p:nvGrpSpPr>
        <p:grpSpPr>
          <a:xfrm>
            <a:off x="380880" y="1365120"/>
            <a:ext cx="8763120" cy="4233960"/>
            <a:chOff x="380880" y="1365120"/>
            <a:chExt cx="8763120" cy="4233960"/>
          </a:xfrm>
        </p:grpSpPr>
        <p:sp>
          <p:nvSpPr>
            <p:cNvPr id="332" name=""/>
            <p:cNvSpPr/>
            <p:nvPr/>
          </p:nvSpPr>
          <p:spPr>
            <a:xfrm>
              <a:off x="958680" y="2940120"/>
              <a:ext cx="730440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Esecuzione dei test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971640" y="2436840"/>
              <a:ext cx="817236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Implementazione degli algoritmi di segmentazione 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87360" y="1365120"/>
              <a:ext cx="7756560" cy="479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7000"/>
            </a:bodyPr>
            <a:p>
              <a:pPr marL="332640" indent="-33264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Realizzazione di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80880" y="4005360"/>
              <a:ext cx="8496360" cy="358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66000"/>
            </a:bodyPr>
            <a:p>
              <a:pPr marL="226080" indent="-226080">
                <a:spcBef>
                  <a:spcPts val="64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Dal confronto visivo dei risultati dei test è emerso: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1341360" y="4579920"/>
              <a:ext cx="3995640" cy="489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600" spc="-1" strike="noStrike">
                  <a:solidFill>
                    <a:srgbClr val="000000"/>
                  </a:solidFill>
                  <a:latin typeface="Arial"/>
                </a:rPr>
                <a:t>Segmentazione migliore</a:t>
              </a:r>
              <a:endParaRPr b="0" lang="en-US" sz="2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332000" y="5078520"/>
              <a:ext cx="70293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Arial"/>
                </a:rPr>
                <a:t>Region growing + Active Contour Snake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55640" y="1844640"/>
              <a:ext cx="79200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800" spc="-1" strike="noStrike">
                  <a:solidFill>
                    <a:srgbClr val="000000"/>
                  </a:solidFill>
                  <a:latin typeface="Arial"/>
                </a:rPr>
                <a:t>Advanced Segmentation Toolbox in Matlab™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7905E-94A9-44BB-A3A0-17859AED4387}" type="slidenum">
              <a:t>1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F005C7-24AB-41BC-BAB4-EAC65E716445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28" dur="indefinite" restart="never" nodeType="tmRoot">
          <p:childTnLst>
            <p:seq>
              <p:cTn id="529" dur="indefinite" nodeType="mainSeq">
                <p:childTnLst>
                  <p:par>
                    <p:cTn id="530" fill="hold">
                      <p:stCondLst>
                        <p:cond delay="0"/>
                      </p:stCondLst>
                      <p:childTnLst>
                        <p:par>
                          <p:cTn id="531" fill="hold">
                            <p:stCondLst>
                              <p:cond delay="0"/>
                            </p:stCondLst>
                            <p:childTnLst>
                              <p:par>
                                <p:cTn id="53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34" dur="3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viluppi Futur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1" name=""/>
          <p:cNvGrpSpPr/>
          <p:nvPr/>
        </p:nvGrpSpPr>
        <p:grpSpPr>
          <a:xfrm>
            <a:off x="755640" y="1339920"/>
            <a:ext cx="7848720" cy="4249800"/>
            <a:chOff x="755640" y="1339920"/>
            <a:chExt cx="7848720" cy="4249800"/>
          </a:xfrm>
        </p:grpSpPr>
        <p:sp>
          <p:nvSpPr>
            <p:cNvPr id="342" name=""/>
            <p:cNvSpPr/>
            <p:nvPr/>
          </p:nvSpPr>
          <p:spPr>
            <a:xfrm>
              <a:off x="900000" y="2635200"/>
              <a:ext cx="3024360" cy="86364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Region Growing +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900000" y="4724280"/>
              <a:ext cx="3097440" cy="86544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Grady /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Region Growin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 rot="5400000">
              <a:off x="2271240" y="3928680"/>
              <a:ext cx="504720" cy="365400"/>
            </a:xfrm>
            <a:prstGeom prst="rightArrow">
              <a:avLst>
                <a:gd name="adj1" fmla="val 41741"/>
                <a:gd name="adj2" fmla="val 57387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45" name="" descr=""/>
            <p:cNvPicPr/>
            <p:nvPr/>
          </p:nvPicPr>
          <p:blipFill>
            <a:blip r:embed="rId1"/>
            <a:stretch/>
          </p:blipFill>
          <p:spPr>
            <a:xfrm>
              <a:off x="4500720" y="3210120"/>
              <a:ext cx="1874520" cy="18745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pic>
          <p:nvPicPr>
            <p:cNvPr id="346" name="" descr=""/>
            <p:cNvPicPr/>
            <p:nvPr/>
          </p:nvPicPr>
          <p:blipFill>
            <a:blip r:embed="rId2"/>
            <a:stretch/>
          </p:blipFill>
          <p:spPr>
            <a:xfrm>
              <a:off x="6588000" y="3210120"/>
              <a:ext cx="1873440" cy="187308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347" name=""/>
            <p:cNvSpPr/>
            <p:nvPr/>
          </p:nvSpPr>
          <p:spPr>
            <a:xfrm>
              <a:off x="755640" y="1339920"/>
              <a:ext cx="784872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Esecuzione di ulteriori test per il miglioramento della segment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D613-0311-4DD0-99B8-E333186C1062}" type="slidenum">
              <a:t>1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4E63B7-3CAC-4BB7-9C46-DFEF4C65BF93}" type="datetime1">
              <a:rPr lang="en-US"/>
              <a:t>07/28/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5" dur="indefinite" restart="never" nodeType="tmRoot">
          <p:childTnLst>
            <p:seq>
              <p:cTn id="536" dur="indefinite" nodeType="mainSeq">
                <p:childTnLst>
                  <p:par>
                    <p:cTn id="537" fill="hold">
                      <p:stCondLst>
                        <p:cond delay="0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41" dur="3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"/>
          <p:cNvSpPr/>
          <p:nvPr/>
        </p:nvSpPr>
        <p:spPr>
          <a:xfrm>
            <a:off x="468360" y="2536920"/>
            <a:ext cx="8136000" cy="11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800" spc="-1" strike="noStrike">
                <a:solidFill>
                  <a:srgbClr val="000000"/>
                </a:solidFill>
                <a:latin typeface="Tahoma"/>
              </a:rPr>
              <a:t>Filtri non isotropici per la segmentazione di           oggetti in mammografia digital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457200" y="4437000"/>
            <a:ext cx="4038480" cy="169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99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1547640" y="422100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47640" y="6283440"/>
            <a:ext cx="30117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8172360" y="4221000"/>
            <a:ext cx="0" cy="20624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4572000" y="4508640"/>
            <a:ext cx="361332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4559400" y="6283440"/>
            <a:ext cx="3612960" cy="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26920" y="549360"/>
            <a:ext cx="75614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ALMA MATER STUDIORUM – UNIVERSITA’ DI BOLOG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SEDE DI CESEN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FACOLTA’ DI SCIENZE MATEMATICHE, FISICHE E NATURALI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Tahoma"/>
              </a:rPr>
              <a:t>CORSO DI LAUREA IN SCIENZE DELL’INFORMAZIO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57" name=""/>
          <p:cNvGraphicFramePr/>
          <p:nvPr/>
        </p:nvGraphicFramePr>
        <p:xfrm>
          <a:off x="1042920" y="4564080"/>
          <a:ext cx="7561440" cy="1463760"/>
        </p:xfrm>
        <a:graphic>
          <a:graphicData uri="http://schemas.openxmlformats.org/drawingml/2006/table">
            <a:tbl>
              <a:tblPr/>
              <a:tblGrid>
                <a:gridCol w="3781440"/>
                <a:gridCol w="3780000"/>
              </a:tblGrid>
              <a:tr h="1465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of. Renato Campanin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-relator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Dott. Matteo Roffill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Presentata d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it-IT" sz="18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Luca Bolognesi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58" name=""/>
          <p:cNvSpPr/>
          <p:nvPr/>
        </p:nvSpPr>
        <p:spPr>
          <a:xfrm>
            <a:off x="468360" y="249228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468360" y="3666960"/>
            <a:ext cx="8207280" cy="367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0080" bIns="-100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43312-A279-49B0-AB83-415887FE36DE}" type="slidenum">
              <a:t>18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2CE980-7B6B-4397-BBBE-82FA03060CFF}" type="datetime1">
              <a:rPr lang="en-US"/>
              <a:t>07/28/26</a:t>
            </a:fld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2" name=""/>
          <p:cNvGrpSpPr/>
          <p:nvPr/>
        </p:nvGrpSpPr>
        <p:grpSpPr>
          <a:xfrm>
            <a:off x="826920" y="1195560"/>
            <a:ext cx="7773840" cy="4900320"/>
            <a:chOff x="826920" y="1195560"/>
            <a:chExt cx="7773840" cy="4900320"/>
          </a:xfrm>
        </p:grpSpPr>
        <p:pic>
          <p:nvPicPr>
            <p:cNvPr id="53" name="" descr=""/>
            <p:cNvPicPr/>
            <p:nvPr/>
          </p:nvPicPr>
          <p:blipFill>
            <a:blip r:embed="rId1"/>
            <a:stretch/>
          </p:blipFill>
          <p:spPr>
            <a:xfrm>
              <a:off x="4993920" y="2421000"/>
              <a:ext cx="2671920" cy="367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4" name=""/>
            <p:cNvSpPr/>
            <p:nvPr/>
          </p:nvSpPr>
          <p:spPr>
            <a:xfrm>
              <a:off x="1409400" y="2709720"/>
              <a:ext cx="233064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ahoma"/>
                </a:rPr>
                <a:t>Input:</a:t>
              </a:r>
              <a:r>
                <a:rPr b="0" lang="it-IT" sz="2200" spc="-1" strike="noStrike">
                  <a:solidFill>
                    <a:srgbClr val="000000"/>
                  </a:solidFill>
                  <a:latin typeface="Tahoma"/>
                </a:rPr>
                <a:t>                 Mammografia           digital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112400" y="4708440"/>
              <a:ext cx="2887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it-IT" sz="2200" spc="-1" strike="noStrike">
                  <a:solidFill>
                    <a:srgbClr val="000000"/>
                  </a:solidFill>
                  <a:latin typeface="Tahoma"/>
                </a:rPr>
                <a:t>Output:</a:t>
              </a:r>
              <a:r>
                <a:rPr b="0" lang="it-IT" sz="2200" spc="-1" strike="noStrike">
                  <a:solidFill>
                    <a:srgbClr val="000000"/>
                  </a:solidFill>
                  <a:latin typeface="Tahoma"/>
                </a:rPr>
                <a:t>                 Segnalazione di       eventuali lesio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 rot="5400000">
              <a:off x="2307960" y="4075200"/>
              <a:ext cx="504720" cy="365040"/>
            </a:xfrm>
            <a:prstGeom prst="rightArrow">
              <a:avLst>
                <a:gd name="adj1" fmla="val 41741"/>
                <a:gd name="adj2" fmla="val 57444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26920" y="1195560"/>
              <a:ext cx="77738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esi inserita nel progetto di sviluppo di un sistema CAD      per il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riconoscimento di lesioni tumorali in mammografie digitali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mputer Aided Detection - C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4994280" y="2421000"/>
            <a:ext cx="2670120" cy="3674880"/>
          </a:xfrm>
          <a:prstGeom prst="rect">
            <a:avLst/>
          </a:prstGeom>
          <a:ln w="0">
            <a:noFill/>
          </a:ln>
        </p:spPr>
      </p:pic>
      <p:sp>
        <p:nvSpPr>
          <p:cNvPr id="60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FE29-16CE-47ED-9D4D-2B19E2A8AA9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40EAF5F-3915-4672-93E7-2706DED2290B}" type="datetime1">
              <a:rPr lang="en-US"/>
              <a:t>07/28/26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7" dur="3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" dur="3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remess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2" name=""/>
          <p:cNvGrpSpPr/>
          <p:nvPr/>
        </p:nvGrpSpPr>
        <p:grpSpPr>
          <a:xfrm>
            <a:off x="574560" y="1125360"/>
            <a:ext cx="8101080" cy="4969440"/>
            <a:chOff x="574560" y="1125360"/>
            <a:chExt cx="8101080" cy="4969440"/>
          </a:xfrm>
        </p:grpSpPr>
        <p:sp>
          <p:nvSpPr>
            <p:cNvPr id="63" name=""/>
            <p:cNvSpPr/>
            <p:nvPr/>
          </p:nvSpPr>
          <p:spPr>
            <a:xfrm>
              <a:off x="576360" y="2838600"/>
              <a:ext cx="190800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37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Tahoma"/>
                </a:rPr>
                <a:t>OBIETTIVO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576360" y="4227480"/>
              <a:ext cx="2305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ETODOLOGI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1230480" y="461628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Active contour snak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230480" y="533700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Kuwahar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1230480" y="5695920"/>
              <a:ext cx="143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Grady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30480" y="4976640"/>
              <a:ext cx="540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Region Growing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574560" y="1125360"/>
              <a:ext cx="2954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Tahoma"/>
                </a:rPr>
                <a:t>MASSE TUMORALI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224000" y="1508040"/>
              <a:ext cx="51134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Luminose sul mammogramma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224000" y="1878120"/>
              <a:ext cx="7451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Grande variabilità in dimensione (3-40 mm), bordo e densità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224000" y="2239920"/>
              <a:ext cx="57960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499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000" spc="-1" strike="noStrike">
                  <a:solidFill>
                    <a:srgbClr val="000000"/>
                  </a:solidFill>
                  <a:latin typeface="Arial"/>
                </a:rPr>
                <a:t>Difficoltà nella distinzione dalle zone sane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900000" y="3284640"/>
              <a:ext cx="777564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Aumento del numero di lesioni rilevate dal CAD attraverso una corretta identificazione dei loro contorni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12800" y="3381480"/>
              <a:ext cx="108000" cy="576000"/>
            </a:xfrm>
            <a:prstGeom prst="rect">
              <a:avLst/>
            </a:prstGeom>
            <a:solidFill>
              <a:srgbClr val="ff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5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42D37-D828-4A78-9651-54EAE449C1DC}" type="slidenum">
              <a:t>3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4CF86-492C-4412-B503-19B3E466CAD8}" type="datetime1">
              <a:rPr lang="en-US"/>
              <a:t>07/28/26</a:t>
            </a:fld>
          </a:p>
        </p:txBody>
      </p:sp>
    </p:spTree>
  </p:cSld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19" dur="3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6" name=""/>
          <p:cNvGrpSpPr/>
          <p:nvPr/>
        </p:nvGrpSpPr>
        <p:grpSpPr>
          <a:xfrm>
            <a:off x="755640" y="1484280"/>
            <a:ext cx="7920000" cy="4308120"/>
            <a:chOff x="755640" y="1484280"/>
            <a:chExt cx="7920000" cy="4308120"/>
          </a:xfrm>
        </p:grpSpPr>
        <p:sp>
          <p:nvSpPr>
            <p:cNvPr id="77" name=""/>
            <p:cNvSpPr/>
            <p:nvPr/>
          </p:nvSpPr>
          <p:spPr>
            <a:xfrm>
              <a:off x="755640" y="1959120"/>
              <a:ext cx="76914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no snake è una curva modellata da forze che la spingono a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onformarsi alla periferia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di un oggett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755640" y="1484280"/>
              <a:ext cx="7920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tilizzato per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eliminare concavità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79" name=""/>
            <p:cNvGrpSpPr/>
            <p:nvPr/>
          </p:nvGrpSpPr>
          <p:grpSpPr>
            <a:xfrm>
              <a:off x="1042920" y="3213000"/>
              <a:ext cx="2579400" cy="2579400"/>
              <a:chOff x="1042920" y="3213000"/>
              <a:chExt cx="2579400" cy="2579400"/>
            </a:xfrm>
          </p:grpSpPr>
          <p:pic>
            <p:nvPicPr>
              <p:cNvPr id="80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1042920" y="3213000"/>
                <a:ext cx="2579400" cy="25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81" name=""/>
              <p:cNvSpPr/>
              <p:nvPr/>
            </p:nvSpPr>
            <p:spPr>
              <a:xfrm>
                <a:off x="1266840" y="3419640"/>
                <a:ext cx="2148840" cy="2149200"/>
              </a:xfrm>
              <a:prstGeom prst="ellipse">
                <a:avLst/>
              </a:prstGeom>
              <a:noFill/>
              <a:ln w="15840">
                <a:solidFill>
                  <a:srgbClr val="ff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Active Contour Snak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" descr=""/>
          <p:cNvPicPr/>
          <p:nvPr/>
        </p:nvPicPr>
        <p:blipFill>
          <a:blip r:embed="rId2"/>
          <a:stretch/>
        </p:blipFill>
        <p:spPr>
          <a:xfrm>
            <a:off x="1042920" y="3213000"/>
            <a:ext cx="2579760" cy="2579760"/>
          </a:xfrm>
          <a:prstGeom prst="rect">
            <a:avLst/>
          </a:prstGeom>
          <a:ln w="0">
            <a:noFill/>
          </a:ln>
        </p:spPr>
      </p:pic>
      <p:pic>
        <p:nvPicPr>
          <p:cNvPr id="84" name="" descr=""/>
          <p:cNvPicPr/>
          <p:nvPr/>
        </p:nvPicPr>
        <p:blipFill>
          <a:blip r:embed="rId3"/>
          <a:stretch/>
        </p:blipFill>
        <p:spPr>
          <a:xfrm>
            <a:off x="1042920" y="3213000"/>
            <a:ext cx="2579760" cy="2579760"/>
          </a:xfrm>
          <a:prstGeom prst="rect">
            <a:avLst/>
          </a:prstGeom>
          <a:ln w="0">
            <a:noFill/>
          </a:ln>
        </p:spPr>
      </p:pic>
      <p:sp>
        <p:nvSpPr>
          <p:cNvPr id="85" name=""/>
          <p:cNvSpPr/>
          <p:nvPr/>
        </p:nvSpPr>
        <p:spPr>
          <a:xfrm>
            <a:off x="4227480" y="3429000"/>
            <a:ext cx="448308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osizione iniziale dello sn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4227480" y="4249800"/>
            <a:ext cx="415944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Posizione finale dello snak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4227480" y="5089680"/>
            <a:ext cx="3132000" cy="42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550"/>
              </a:spcBef>
              <a:buClr>
                <a:srgbClr val="0033cc"/>
              </a:buClr>
              <a:buSzPct val="6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000000"/>
                </a:solidFill>
                <a:latin typeface="Arial"/>
              </a:rPr>
              <a:t>Fill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44E22-55B5-40AF-99B2-562CA410586B}" type="slidenum">
              <a:t>4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41108AE-B929-4934-95B3-3A960A5309D6}" type="datetime1">
              <a:rPr lang="en-US"/>
              <a:t>07/28/26</a:t>
            </a:fld>
          </a:p>
        </p:txBody>
      </p:sp>
    </p:spTree>
  </p:cSld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0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6" dur="3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9" dur="3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3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37" dur="3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3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5" dur="3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"/>
          <p:cNvGrpSpPr/>
          <p:nvPr/>
        </p:nvGrpSpPr>
        <p:grpSpPr>
          <a:xfrm>
            <a:off x="684360" y="1311120"/>
            <a:ext cx="8640360" cy="4921200"/>
            <a:chOff x="684360" y="1311120"/>
            <a:chExt cx="8640360" cy="4921200"/>
          </a:xfrm>
        </p:grpSpPr>
        <p:pic>
          <p:nvPicPr>
            <p:cNvPr id="90" name="" descr=""/>
            <p:cNvPicPr/>
            <p:nvPr/>
          </p:nvPicPr>
          <p:blipFill>
            <a:blip r:embed="rId1"/>
            <a:stretch/>
          </p:blipFill>
          <p:spPr>
            <a:xfrm>
              <a:off x="900000" y="2708280"/>
              <a:ext cx="3167280" cy="31669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91" name=""/>
            <p:cNvSpPr/>
            <p:nvPr/>
          </p:nvSpPr>
          <p:spPr>
            <a:xfrm>
              <a:off x="684360" y="1311120"/>
              <a:ext cx="77752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Raggruppa pixel adiacenti aventi valori di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intensità simili 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tra loro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2" name=""/>
            <p:cNvGrpSpPr/>
            <p:nvPr/>
          </p:nvGrpSpPr>
          <p:grpSpPr>
            <a:xfrm>
              <a:off x="4356000" y="2421000"/>
              <a:ext cx="4897080" cy="752400"/>
              <a:chOff x="4356000" y="2421000"/>
              <a:chExt cx="4897080" cy="752400"/>
            </a:xfrm>
          </p:grpSpPr>
          <p:sp>
            <p:nvSpPr>
              <p:cNvPr id="93" name=""/>
              <p:cNvSpPr/>
              <p:nvPr/>
            </p:nvSpPr>
            <p:spPr>
              <a:xfrm>
                <a:off x="4438800" y="2805120"/>
                <a:ext cx="48142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sceglie il seme R (pixel iniziale)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"/>
              <p:cNvSpPr/>
              <p:nvPr/>
            </p:nvSpPr>
            <p:spPr>
              <a:xfrm>
                <a:off x="4356000" y="2421000"/>
                <a:ext cx="22039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INIZIALIZZAZIONE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5" name=""/>
            <p:cNvGrpSpPr/>
            <p:nvPr/>
          </p:nvGrpSpPr>
          <p:grpSpPr>
            <a:xfrm>
              <a:off x="4356000" y="3357720"/>
              <a:ext cx="4968720" cy="2874600"/>
              <a:chOff x="4356000" y="3357720"/>
              <a:chExt cx="4968720" cy="2874600"/>
            </a:xfrm>
          </p:grpSpPr>
          <p:sp>
            <p:nvSpPr>
              <p:cNvPr id="96" name=""/>
              <p:cNvSpPr/>
              <p:nvPr/>
            </p:nvSpPr>
            <p:spPr>
              <a:xfrm>
                <a:off x="4437000" y="4311720"/>
                <a:ext cx="440532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onsiderano tutti i pixel p adiacenti ad R: sia I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l’intensità di p corrente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>
                <a:off x="4437000" y="3716280"/>
                <a:ext cx="408564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alcola la media avg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dei valori di intensità di 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4356000" y="3357720"/>
                <a:ext cx="296388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CRITERIO DI SIMILARITA’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4438800" y="4935600"/>
                <a:ext cx="4885920" cy="680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e |avg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R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 – I</a:t>
                </a:r>
                <a:r>
                  <a:rPr b="0" lang="it-IT" sz="1800" spc="-1" strike="noStrike" baseline="-25000">
                    <a:solidFill>
                      <a:srgbClr val="000000"/>
                    </a:solidFill>
                    <a:latin typeface="Arial"/>
                  </a:rPr>
                  <a:t>p</a:t>
                </a: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| è abbastanza piccolo           si aggiunge p ad R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4437000" y="5589720"/>
                <a:ext cx="4885920" cy="6426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marL="343080" indent="-343080">
                  <a:spcBef>
                    <a:spcPts val="451"/>
                  </a:spcBef>
                  <a:buClr>
                    <a:srgbClr val="0033cc"/>
                  </a:buClr>
                  <a:buSzPct val="60000"/>
                  <a:buFont typeface="Wingdings" charset="2"/>
                  <a:buChar char=""/>
                  <a:tabLst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it-IT" sz="1800" spc="-1" strike="noStrike">
                    <a:solidFill>
                      <a:srgbClr val="000000"/>
                    </a:solidFill>
                    <a:latin typeface="Arial"/>
                  </a:rPr>
                  <a:t>Si continua finchè nessun pixel supera        il criterio di similarità.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1" name=""/>
          <p:cNvSpPr/>
          <p:nvPr/>
        </p:nvSpPr>
        <p:spPr>
          <a:xfrm>
            <a:off x="175248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96056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056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166840" y="44020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2166840" y="46101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6684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96056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1752480" y="48182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75248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056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6684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2374920" y="41925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374920" y="440064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2374920" y="460836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2374920" y="481644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6684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96056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175248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374920" y="5024520"/>
            <a:ext cx="20808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544760" y="44020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544760" y="4818240"/>
            <a:ext cx="20772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544760" y="41925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132876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2166840" y="397656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2374920" y="3978360"/>
            <a:ext cx="208080" cy="21276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2581200" y="397656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58120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2581200" y="440064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581200" y="46083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81200" y="481644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328760" y="44020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328760" y="46101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1112760" y="419112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74920" y="3770280"/>
            <a:ext cx="20808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581200" y="37702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2797200" y="377028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797200" y="397656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797200" y="41925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2797200" y="4400640"/>
            <a:ext cx="216000" cy="2077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797200" y="460836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112760" y="3983040"/>
            <a:ext cx="21600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166840" y="355428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374920" y="355428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581200" y="355428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97200" y="3554280"/>
            <a:ext cx="21600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3013200" y="37702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013200" y="3976560"/>
            <a:ext cx="20772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3013200" y="41925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013200" y="440208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2166840" y="3338640"/>
            <a:ext cx="208080" cy="21564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374920" y="3338640"/>
            <a:ext cx="208080" cy="21564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3219480" y="3975120"/>
            <a:ext cx="208080" cy="21600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374920" y="3141720"/>
            <a:ext cx="208080" cy="19692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7308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Region Grow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1544760" y="4610160"/>
            <a:ext cx="207720" cy="208080"/>
          </a:xfrm>
          <a:prstGeom prst="rect">
            <a:avLst/>
          </a:prstGeom>
          <a:noFill/>
          <a:ln w="1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930320" y="4575240"/>
            <a:ext cx="2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Tahoma"/>
              </a:rPr>
              <a:t>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884160" y="2693880"/>
            <a:ext cx="3195720" cy="319572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CC87C8-DFAC-46FE-BC00-EFA2075F1B95}" type="slidenum">
              <a:t>5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5EF0489-D655-4925-B372-35AA3CC83187}" type="datetime1">
              <a:rPr lang="en-US"/>
              <a:t>07/28/26</a:t>
            </a:fld>
          </a:p>
        </p:txBody>
      </p:sp>
    </p:spTree>
  </p:cSld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52" dur="3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" dur="1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1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5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5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5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2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5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25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5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300"/>
                            </p:stCondLst>
                            <p:childTnLst>
                              <p:par>
                                <p:cTn id="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5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50"/>
                            </p:stCondLst>
                            <p:childTnLst>
                              <p:par>
                                <p:cTn id="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5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400"/>
                            </p:stCondLst>
                            <p:childTnLst>
                              <p:par>
                                <p:cTn id="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450"/>
                            </p:stCondLst>
                            <p:childTnLst>
                              <p:par>
                                <p:cTn id="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fill="hold">
                            <p:stCondLst>
                              <p:cond delay="500"/>
                            </p:stCondLst>
                            <p:childTnLst>
                              <p:par>
                                <p:cTn id="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5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550"/>
                            </p:stCondLst>
                            <p:childTnLst>
                              <p:par>
                                <p:cTn id="1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3" dur="5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600"/>
                            </p:stCondLst>
                            <p:childTnLst>
                              <p:par>
                                <p:cTn id="1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5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650"/>
                            </p:stCondLst>
                            <p:childTnLst>
                              <p:par>
                                <p:cTn id="1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1" dur="5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700"/>
                            </p:stCondLst>
                            <p:childTnLst>
                              <p:par>
                                <p:cTn id="1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75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5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8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5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850"/>
                            </p:stCondLst>
                            <p:childTnLst>
                              <p:par>
                                <p:cTn id="1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5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9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5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" fill="hold">
                            <p:stCondLst>
                              <p:cond delay="950"/>
                            </p:stCondLst>
                            <p:childTnLst>
                              <p:par>
                                <p:cTn id="1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5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1000"/>
                            </p:stCondLst>
                            <p:childTnLst>
                              <p:par>
                                <p:cTn id="1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9" dur="5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50"/>
                            </p:stCondLst>
                            <p:childTnLst>
                              <p:par>
                                <p:cTn id="1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100"/>
                            </p:stCondLst>
                            <p:childTnLst>
                              <p:par>
                                <p:cTn id="1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5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1150"/>
                            </p:stCondLst>
                            <p:childTnLst>
                              <p:par>
                                <p:cTn id="1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2" fill="hold">
                            <p:stCondLst>
                              <p:cond delay="1200"/>
                            </p:stCondLst>
                            <p:childTnLst>
                              <p:par>
                                <p:cTn id="1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5" dur="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1250"/>
                            </p:stCondLst>
                            <p:childTnLst>
                              <p:par>
                                <p:cTn id="1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300"/>
                            </p:stCondLst>
                            <p:childTnLst>
                              <p:par>
                                <p:cTn id="1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350"/>
                            </p:stCondLst>
                            <p:childTnLst>
                              <p:par>
                                <p:cTn id="1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7" dur="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400"/>
                            </p:stCondLst>
                            <p:childTnLst>
                              <p:par>
                                <p:cTn id="1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1450"/>
                            </p:stCondLst>
                            <p:childTnLst>
                              <p:par>
                                <p:cTn id="1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5" dur="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1500"/>
                            </p:stCondLst>
                            <p:childTnLst>
                              <p:par>
                                <p:cTn id="1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9" dur="5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1550"/>
                            </p:stCondLst>
                            <p:childTnLst>
                              <p:par>
                                <p:cTn id="18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5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4" fill="hold">
                            <p:stCondLst>
                              <p:cond delay="1600"/>
                            </p:stCondLst>
                            <p:childTnLst>
                              <p:par>
                                <p:cTn id="1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7" dur="5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8" fill="hold">
                            <p:stCondLst>
                              <p:cond delay="1650"/>
                            </p:stCondLst>
                            <p:childTnLst>
                              <p:par>
                                <p:cTn id="18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1" dur="5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700"/>
                            </p:stCondLst>
                            <p:childTnLst>
                              <p:par>
                                <p:cTn id="19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5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750"/>
                            </p:stCondLst>
                            <p:childTnLst>
                              <p:par>
                                <p:cTn id="1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9" dur="5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800"/>
                            </p:stCondLst>
                            <p:childTnLst>
                              <p:par>
                                <p:cTn id="2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3" dur="5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185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5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900"/>
                            </p:stCondLst>
                            <p:childTnLst>
                              <p:par>
                                <p:cTn id="2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1" dur="5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1950"/>
                            </p:stCondLst>
                            <p:childTnLst>
                              <p:par>
                                <p:cTn id="2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5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2000"/>
                            </p:stCondLst>
                            <p:childTnLst>
                              <p:par>
                                <p:cTn id="2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9" dur="5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2050"/>
                            </p:stCondLst>
                            <p:childTnLst>
                              <p:par>
                                <p:cTn id="2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3" dur="5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2100"/>
                            </p:stCondLst>
                            <p:childTnLst>
                              <p:par>
                                <p:cTn id="2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5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15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5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2200"/>
                            </p:stCondLst>
                            <p:childTnLst>
                              <p:par>
                                <p:cTn id="2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5" dur="5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2250"/>
                            </p:stCondLst>
                            <p:childTnLst>
                              <p:par>
                                <p:cTn id="2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5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300"/>
                            </p:stCondLst>
                            <p:childTnLst>
                              <p:par>
                                <p:cTn id="24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5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350"/>
                            </p:stCondLst>
                            <p:childTnLst>
                              <p:par>
                                <p:cTn id="24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7" dur="5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400"/>
                            </p:stCondLst>
                            <p:childTnLst>
                              <p:par>
                                <p:cTn id="24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1" dur="5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2450"/>
                            </p:stCondLst>
                            <p:childTnLst>
                              <p:par>
                                <p:cTn id="25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5" dur="5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2500"/>
                            </p:stCondLst>
                            <p:childTnLst>
                              <p:par>
                                <p:cTn id="2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9" dur="5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255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2600"/>
                            </p:stCondLst>
                            <p:childTnLst>
                              <p:par>
                                <p:cTn id="2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7" dur="5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2650"/>
                            </p:stCondLst>
                            <p:childTnLst>
                              <p:par>
                                <p:cTn id="2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1" dur="5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2700"/>
                            </p:stCondLst>
                            <p:childTnLst>
                              <p:par>
                                <p:cTn id="2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5" dur="5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750"/>
                            </p:stCondLst>
                            <p:childTnLst>
                              <p:par>
                                <p:cTn id="277" nodeType="afterEffect" fill="hold" presetClass="entr" presetID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3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0" name=""/>
          <p:cNvGrpSpPr/>
          <p:nvPr/>
        </p:nvGrpSpPr>
        <p:grpSpPr>
          <a:xfrm>
            <a:off x="1186920" y="3033360"/>
            <a:ext cx="864000" cy="864000"/>
            <a:chOff x="1186920" y="3033360"/>
            <a:chExt cx="864000" cy="864000"/>
          </a:xfrm>
        </p:grpSpPr>
        <p:sp>
          <p:nvSpPr>
            <p:cNvPr id="161" name=""/>
            <p:cNvSpPr/>
            <p:nvPr/>
          </p:nvSpPr>
          <p:spPr>
            <a:xfrm>
              <a:off x="1187280" y="3033720"/>
              <a:ext cx="863640" cy="86364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187280" y="303372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557360" y="303372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87280" y="340380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557360" y="3403800"/>
              <a:ext cx="493560" cy="49356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 flipV="1">
              <a:off x="1557360" y="303336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 flipV="1">
              <a:off x="1680840" y="3033360"/>
              <a:ext cx="0" cy="8636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>
              <a:off x="1186920" y="352728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>
              <a:off x="1186920" y="3403800"/>
              <a:ext cx="86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557360" y="3403800"/>
              <a:ext cx="123480" cy="12348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Kuwahar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187280" y="3029040"/>
            <a:ext cx="2519640" cy="2519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87280" y="3029040"/>
            <a:ext cx="1440000" cy="14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66920" y="3029040"/>
            <a:ext cx="1440000" cy="1439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87280" y="4108320"/>
            <a:ext cx="1440000" cy="14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2266920" y="4108320"/>
            <a:ext cx="1440000" cy="1440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2200" y="3597120"/>
            <a:ext cx="28872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1763640" y="4684680"/>
            <a:ext cx="28908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843280" y="4697280"/>
            <a:ext cx="288720" cy="28764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4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830680" y="3592440"/>
            <a:ext cx="288720" cy="287280"/>
          </a:xfrm>
          <a:prstGeom prst="ellipse">
            <a:avLst/>
          </a:prstGeom>
          <a:solidFill>
            <a:srgbClr val="ffffff"/>
          </a:solidFill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Tahoma"/>
              </a:rPr>
              <a:t>2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2266920" y="3029040"/>
            <a:ext cx="0" cy="25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 flipV="1">
            <a:off x="2627280" y="3029040"/>
            <a:ext cx="0" cy="2519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 flipH="1">
            <a:off x="1186920" y="4468680"/>
            <a:ext cx="251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 flipH="1">
            <a:off x="1186920" y="4108320"/>
            <a:ext cx="251964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2266920" y="4108320"/>
            <a:ext cx="360360" cy="36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2195640" y="269712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55640" y="4106880"/>
            <a:ext cx="50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"/>
          <p:cNvGrpSpPr/>
          <p:nvPr/>
        </p:nvGrpSpPr>
        <p:grpSpPr>
          <a:xfrm>
            <a:off x="826920" y="1413000"/>
            <a:ext cx="7993080" cy="4466520"/>
            <a:chOff x="826920" y="1413000"/>
            <a:chExt cx="7993080" cy="4466520"/>
          </a:xfrm>
        </p:grpSpPr>
        <p:sp>
          <p:nvSpPr>
            <p:cNvPr id="189" name=""/>
            <p:cNvSpPr/>
            <p:nvPr/>
          </p:nvSpPr>
          <p:spPr>
            <a:xfrm>
              <a:off x="4127400" y="3936960"/>
              <a:ext cx="4248360" cy="76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Si calcola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media 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e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varianza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 delle regioni 1,2,3 e 4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4140360" y="4780080"/>
              <a:ext cx="439092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Il pixel centrale (i, j) assume il valore della media della regione con varianza minima.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26920" y="1413000"/>
              <a:ext cx="7345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Utilizzato per la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onservazione dei bordi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26920" y="1844640"/>
              <a:ext cx="799308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Per ogni pixel dell’immagine si applica il seguente procedi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127400" y="2781360"/>
              <a:ext cx="4248360" cy="109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Si suddivide una finestra quadrata in 4 </a:t>
              </a: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regioni sovrapposte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.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187280" y="3029040"/>
            <a:ext cx="25210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195" name="" descr=""/>
          <p:cNvPicPr/>
          <p:nvPr/>
        </p:nvPicPr>
        <p:blipFill>
          <a:blip r:embed="rId2"/>
          <a:stretch/>
        </p:blipFill>
        <p:spPr>
          <a:xfrm>
            <a:off x="1187280" y="3029040"/>
            <a:ext cx="2521080" cy="25207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19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E2FC9-F3F9-4044-9B5D-251F0397B674}" type="slidenum">
              <a:t>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4927870-3C65-40BF-9AAC-160445EFC901}" type="datetime1">
              <a:rPr lang="en-US"/>
              <a:t>07/28/26</a:t>
            </a:fld>
          </a:p>
        </p:txBody>
      </p:sp>
    </p:spTree>
  </p:cSld>
  <p:timing>
    <p:tnLst>
      <p:par>
        <p:cTn id="280" dur="indefinite" restart="never" nodeType="tmRoot">
          <p:childTnLst>
            <p:seq>
              <p:cTn id="281" dur="indefinite" nodeType="mainSeq">
                <p:childTnLst>
                  <p:par>
                    <p:cTn id="282" fill="hold">
                      <p:stCondLst>
                        <p:cond delay="0"/>
                      </p:stCondLst>
                      <p:childTnLst>
                        <p:par>
                          <p:cTn id="283" fill="hold">
                            <p:stCondLst>
                              <p:cond delay="0"/>
                            </p:stCondLst>
                            <p:childTnLst>
                              <p:par>
                                <p:cTn id="284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6" dur="3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289" dur="3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93" dur="2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94" dur="100" autoRev="1" fill="hold"/>
                                        <p:tgtEl>
                                          <p:spTgt spid="173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295" nodeType="withEffect" fill="remove" presetClass="emph" presetID="1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4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297" dur="400"/>
                                        <p:tgtEl>
                                          <p:spTgt spid="1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400"/>
                            </p:stCondLst>
                            <p:childTnLst>
                              <p:par>
                                <p:cTn id="30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02" dur="2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3" dur="100" autoRev="1" fill="hold"/>
                                        <p:tgtEl>
                                          <p:spTgt spid="17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04" nodeType="withEffect" fill="remove" presetClass="emph" presetID="1" presetSubtype="1" repeatCount="75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5" dur="53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06" dur="53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798"/>
                            </p:stCondLst>
                            <p:childTnLst>
                              <p:par>
                                <p:cTn id="310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11" dur="2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2" dur="100" autoRev="1" fill="hold"/>
                                        <p:tgtEl>
                                          <p:spTgt spid="17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13" nodeType="withEffect" fill="remove" presetClass="emph" presetID="1" presetSubtype="1" repeatCount="3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33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15" dur="133"/>
                                        <p:tgtEl>
                                          <p:spTgt spid="1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1197"/>
                            </p:stCondLst>
                            <p:childTnLst>
                              <p:par>
                                <p:cTn id="319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0" dur="2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1" dur="100" autoRev="1" fill="hold"/>
                                        <p:tgtEl>
                                          <p:spTgt spid="176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22" nodeType="withEffect" fill="hold" presetClass="emph" presetID="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24" dur="4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1597"/>
                            </p:stCondLst>
                            <p:childTnLst>
                              <p:par>
                                <p:cTn id="328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29" dur="2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30" dur="100" autoRev="1" fill="hold"/>
                                        <p:tgtEl>
                                          <p:spTgt spid="185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331" nodeType="withEffect" fill="hold" presetClass="emph" presetID="1" presetSubtype="1">
                                  <p:stCondLst>
                                    <p:cond delay="0"/>
                                  </p:stCondLst>
                                  <p:endCondLst>
                                    <p:cond evt="onNext"/>
                                  </p:endCondLst>
                                  <p:childTnLst>
                                    <p:set>
                                      <p:cBhvr>
                                        <p:cTn id="332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51,-103,-1)"/>
                                      </p:to>
                                    </p:set>
                                    <p:set>
                                      <p:cBhvr>
                                        <p:cTn id="333" dur="indefinite"/>
                                        <p:tgtEl>
                                          <p:spTgt spid="1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0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3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6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8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49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2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4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5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7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58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0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3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6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7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9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2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3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5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6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79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1" nodeType="withEffect" fill="hold" presetClass="exit" presetID="10" repeatCount="1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82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6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7" fill="hold">
                            <p:stCondLst>
                              <p:cond delay="500"/>
                            </p:stCondLst>
                            <p:childTnLst>
                              <p:par>
                                <p:cTn id="388" nodeType="afterEffect" fill="hold" presetClass="entr" presetID="10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3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1" fill="hold">
                            <p:stCondLst>
                              <p:cond delay="1000"/>
                            </p:stCondLst>
                            <p:childTnLst>
                              <p:par>
                                <p:cTn id="392" nodeType="afterEffect" fill="hold" presetClass="entr" presetID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3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323640" y="133920"/>
            <a:ext cx="843588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Visualizzazione Biologic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5364000" y="3860640"/>
            <a:ext cx="3384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Diminuisce la dimensione dei campioni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550880" y="5726160"/>
            <a:ext cx="154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000000"/>
                </a:solidFill>
                <a:latin typeface="Arial"/>
              </a:rPr>
              <a:t>Campo vis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4932360" y="3421080"/>
            <a:ext cx="144360" cy="1808280"/>
          </a:xfrm>
          <a:prstGeom prst="upArrow">
            <a:avLst>
              <a:gd name="adj1" fmla="val 30398"/>
              <a:gd name="adj2" fmla="val 193228"/>
            </a:avLst>
          </a:prstGeom>
          <a:solidFill>
            <a:srgbClr val="333333"/>
          </a:solidFill>
          <a:ln w="1260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5363280" y="3379680"/>
            <a:ext cx="275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000000"/>
                </a:solidFill>
                <a:latin typeface="Arial"/>
              </a:rPr>
              <a:t>Aumenta la risoluzion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755640" y="1197000"/>
            <a:ext cx="7559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Si basa sul campionamento non lineare di un immagine effettuato dal </a:t>
            </a: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sistema visivo uma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755640" y="2055960"/>
            <a:ext cx="7704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spcBef>
                <a:spcPts val="601"/>
              </a:spcBef>
              <a:buClr>
                <a:srgbClr val="0033cc"/>
              </a:buClr>
              <a:buSzPct val="6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000000"/>
                </a:solidFill>
                <a:latin typeface="Arial"/>
              </a:rPr>
              <a:t>La risoluzione spaziale non è uniforme </a:t>
            </a: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per tutta l’area osserv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1001880" y="3041640"/>
            <a:ext cx="2590560" cy="2590920"/>
            <a:chOff x="1001880" y="3041640"/>
            <a:chExt cx="2590560" cy="2590920"/>
          </a:xfrm>
        </p:grpSpPr>
        <p:sp>
          <p:nvSpPr>
            <p:cNvPr id="205" name=""/>
            <p:cNvSpPr/>
            <p:nvPr/>
          </p:nvSpPr>
          <p:spPr>
            <a:xfrm>
              <a:off x="1001880" y="3041640"/>
              <a:ext cx="2590560" cy="2590920"/>
            </a:xfrm>
            <a:prstGeom prst="ellipse">
              <a:avLst/>
            </a:prstGeom>
            <a:solidFill>
              <a:srgbClr val="f8f8f8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1440000" y="3475080"/>
              <a:ext cx="1728720" cy="1727280"/>
            </a:xfrm>
            <a:prstGeom prst="ellipse">
              <a:avLst/>
            </a:prstGeom>
            <a:solidFill>
              <a:srgbClr val="d6d6d6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757520" y="3787920"/>
              <a:ext cx="1081080" cy="1081080"/>
            </a:xfrm>
            <a:prstGeom prst="ellipse">
              <a:avLst/>
            </a:prstGeom>
            <a:solidFill>
              <a:srgbClr val="80808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1940040" y="3973680"/>
              <a:ext cx="717480" cy="718920"/>
            </a:xfrm>
            <a:prstGeom prst="ellipse">
              <a:avLst/>
            </a:prstGeom>
            <a:solidFill>
              <a:srgbClr val="474747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128680" y="4162320"/>
              <a:ext cx="346320" cy="346320"/>
            </a:xfrm>
            <a:prstGeom prst="ellipse">
              <a:avLst/>
            </a:prstGeom>
            <a:solidFill>
              <a:srgbClr val="000000"/>
            </a:solidFill>
            <a:ln w="1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4068720" y="3429000"/>
            <a:ext cx="432000" cy="1799640"/>
            <a:chOff x="4068720" y="3429000"/>
            <a:chExt cx="432000" cy="1799640"/>
          </a:xfrm>
        </p:grpSpPr>
        <p:sp>
          <p:nvSpPr>
            <p:cNvPr id="211" name=""/>
            <p:cNvSpPr/>
            <p:nvPr/>
          </p:nvSpPr>
          <p:spPr>
            <a:xfrm>
              <a:off x="4068720" y="3788640"/>
              <a:ext cx="432000" cy="364320"/>
            </a:xfrm>
            <a:prstGeom prst="rect">
              <a:avLst/>
            </a:prstGeom>
            <a:solidFill>
              <a:srgbClr val="47474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4068720" y="4147560"/>
              <a:ext cx="432000" cy="362520"/>
            </a:xfrm>
            <a:prstGeom prst="rect">
              <a:avLst/>
            </a:prstGeom>
            <a:solidFill>
              <a:srgbClr val="80808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068720" y="4507200"/>
              <a:ext cx="432000" cy="361800"/>
            </a:xfrm>
            <a:prstGeom prst="rect">
              <a:avLst/>
            </a:prstGeom>
            <a:solidFill>
              <a:srgbClr val="d6d6d6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068720" y="4866840"/>
              <a:ext cx="432000" cy="361800"/>
            </a:xfrm>
            <a:prstGeom prst="rect">
              <a:avLst/>
            </a:prstGeom>
            <a:solidFill>
              <a:srgbClr val="f8f8f8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4068720" y="3429000"/>
              <a:ext cx="432000" cy="361800"/>
            </a:xfrm>
            <a:prstGeom prst="rect">
              <a:avLst/>
            </a:prstGeom>
            <a:solidFill>
              <a:srgbClr val="00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6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B8E69-E707-4064-8975-3D938126A954}" type="slidenum">
              <a:t>7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B6915-4111-4551-87F3-FE4E484EF7DA}" type="datetime1">
              <a:rPr lang="en-US"/>
              <a:t>07/28/26</a:t>
            </a:fld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Metodologi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"/>
          <p:cNvGrpSpPr/>
          <p:nvPr/>
        </p:nvGrpSpPr>
        <p:grpSpPr>
          <a:xfrm>
            <a:off x="5478480" y="4222800"/>
            <a:ext cx="2519280" cy="1295280"/>
            <a:chOff x="5478480" y="4222800"/>
            <a:chExt cx="2519280" cy="1295280"/>
          </a:xfrm>
        </p:grpSpPr>
        <p:sp>
          <p:nvSpPr>
            <p:cNvPr id="219" name=""/>
            <p:cNvSpPr/>
            <p:nvPr/>
          </p:nvSpPr>
          <p:spPr>
            <a:xfrm>
              <a:off x="5478480" y="4943520"/>
              <a:ext cx="2519280" cy="5745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Segmentazione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 rot="5400000">
              <a:off x="6482520" y="4292640"/>
              <a:ext cx="504720" cy="364680"/>
            </a:xfrm>
            <a:prstGeom prst="rightArrow">
              <a:avLst>
                <a:gd name="adj1" fmla="val 41741"/>
                <a:gd name="adj2" fmla="val 57500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"/>
          <p:cNvSpPr/>
          <p:nvPr/>
        </p:nvSpPr>
        <p:spPr>
          <a:xfrm>
            <a:off x="5435640" y="1773360"/>
            <a:ext cx="2592360" cy="720720"/>
          </a:xfrm>
          <a:prstGeom prst="ellipse">
            <a:avLst/>
          </a:prstGeom>
          <a:solidFill>
            <a:srgbClr val="ff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400" spc="-1" strike="noStrike">
                <a:solidFill>
                  <a:srgbClr val="000000"/>
                </a:solidFill>
                <a:latin typeface="Arial"/>
              </a:rPr>
              <a:t>Immagine inizia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2" name=""/>
          <p:cNvGrpSpPr/>
          <p:nvPr/>
        </p:nvGrpSpPr>
        <p:grpSpPr>
          <a:xfrm>
            <a:off x="5478480" y="2709720"/>
            <a:ext cx="2592360" cy="1297080"/>
            <a:chOff x="5478480" y="2709720"/>
            <a:chExt cx="2592360" cy="1297080"/>
          </a:xfrm>
        </p:grpSpPr>
        <p:sp>
          <p:nvSpPr>
            <p:cNvPr id="223" name=""/>
            <p:cNvSpPr/>
            <p:nvPr/>
          </p:nvSpPr>
          <p:spPr>
            <a:xfrm>
              <a:off x="5478480" y="3430440"/>
              <a:ext cx="2592360" cy="576360"/>
            </a:xfrm>
            <a:prstGeom prst="roundRect">
              <a:avLst>
                <a:gd name="adj" fmla="val 17667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Campio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 rot="5400000">
              <a:off x="6482520" y="2779920"/>
              <a:ext cx="505080" cy="364680"/>
            </a:xfrm>
            <a:prstGeom prst="rightArrow">
              <a:avLst>
                <a:gd name="adj1" fmla="val 41741"/>
                <a:gd name="adj2" fmla="val 57541"/>
              </a:avLst>
            </a:prstGeom>
            <a:solidFill>
              <a:srgbClr val="ff000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25" name="" descr=""/>
          <p:cNvPicPr/>
          <p:nvPr/>
        </p:nvPicPr>
        <p:blipFill>
          <a:blip r:embed="rId1"/>
          <a:stretch/>
        </p:blipFill>
        <p:spPr>
          <a:xfrm>
            <a:off x="1042920" y="2060640"/>
            <a:ext cx="3229200" cy="3228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6" name="" descr=""/>
          <p:cNvPicPr/>
          <p:nvPr/>
        </p:nvPicPr>
        <p:blipFill>
          <a:blip r:embed="rId2"/>
          <a:stretch/>
        </p:blipFill>
        <p:spPr>
          <a:xfrm>
            <a:off x="1042920" y="2060640"/>
            <a:ext cx="3227400" cy="32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227" name="" descr=""/>
          <p:cNvPicPr/>
          <p:nvPr/>
        </p:nvPicPr>
        <p:blipFill>
          <a:blip r:embed="rId3"/>
          <a:stretch/>
        </p:blipFill>
        <p:spPr>
          <a:xfrm>
            <a:off x="1042920" y="2060640"/>
            <a:ext cx="3227400" cy="32274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228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21AC1-C732-430B-8099-329705D1B4EA}" type="slidenum">
              <a:t>8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B7C755C-2E5E-4217-ACCF-80032C335E33}" type="datetime1">
              <a:rPr lang="en-US"/>
              <a:t>07/28/26</a:t>
            </a:fld>
          </a:p>
        </p:txBody>
      </p:sp>
    </p:spTree>
  </p:cSld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1" dur="3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2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4" dur="3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5" fill="hold">
                      <p:stCondLst>
                        <p:cond delay="indefinite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09" dur="3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3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17" dur="3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0" dur="3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1339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000000"/>
                </a:solidFill>
                <a:latin typeface="Arial"/>
              </a:rPr>
              <a:t>Grady – Campionament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0" name=""/>
          <p:cNvGrpSpPr/>
          <p:nvPr/>
        </p:nvGrpSpPr>
        <p:grpSpPr>
          <a:xfrm>
            <a:off x="611280" y="1413000"/>
            <a:ext cx="8353440" cy="4537080"/>
            <a:chOff x="611280" y="1413000"/>
            <a:chExt cx="8353440" cy="4537080"/>
          </a:xfrm>
        </p:grpSpPr>
        <p:sp>
          <p:nvSpPr>
            <p:cNvPr id="231" name=""/>
            <p:cNvSpPr/>
            <p:nvPr/>
          </p:nvSpPr>
          <p:spPr>
            <a:xfrm>
              <a:off x="4176720" y="1844640"/>
              <a:ext cx="4788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Importazione dell’immagine su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32" name="" descr=""/>
            <p:cNvPicPr/>
            <p:nvPr/>
          </p:nvPicPr>
          <p:blipFill>
            <a:blip r:embed="rId1"/>
            <a:stretch/>
          </p:blipFill>
          <p:spPr>
            <a:xfrm>
              <a:off x="1042920" y="2781360"/>
              <a:ext cx="3168720" cy="3168720"/>
            </a:xfrm>
            <a:prstGeom prst="rect">
              <a:avLst/>
            </a:prstGeom>
            <a:ln w="9360">
              <a:solidFill>
                <a:srgbClr val="000000"/>
              </a:solidFill>
              <a:miter/>
            </a:ln>
          </p:spPr>
        </p:pic>
        <p:sp>
          <p:nvSpPr>
            <p:cNvPr id="233" name=""/>
            <p:cNvSpPr/>
            <p:nvPr/>
          </p:nvSpPr>
          <p:spPr>
            <a:xfrm>
              <a:off x="1189080" y="5518080"/>
              <a:ext cx="431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800" spc="-1" strike="noStrike">
                  <a:solidFill>
                    <a:srgbClr val="000000"/>
                  </a:solidFill>
                  <a:latin typeface="Arial"/>
                </a:rPr>
                <a:t>G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4716360" y="3573360"/>
              <a:ext cx="388944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Nodi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Informazioni su un singolo campione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4716360" y="4976640"/>
              <a:ext cx="3961080" cy="83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marL="343080" indent="-343080">
                <a:spcBef>
                  <a:spcPts val="550"/>
                </a:spcBef>
                <a:buClr>
                  <a:srgbClr val="0033cc"/>
                </a:buClr>
                <a:buSzPct val="60000"/>
                <a:buFont typeface="Wingdings" charset="2"/>
                <a:buChar char="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it-IT" sz="2200" spc="-1" strike="noStrike">
                  <a:solidFill>
                    <a:srgbClr val="000000"/>
                  </a:solidFill>
                  <a:latin typeface="Arial"/>
                </a:rPr>
                <a:t>Lati: 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	</a:t>
              </a: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Adiacenza fra campioni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716360" y="2852640"/>
              <a:ext cx="3529080" cy="429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200" spc="-1" strike="noStrike">
                  <a:solidFill>
                    <a:srgbClr val="000000"/>
                  </a:solidFill>
                  <a:latin typeface="Arial"/>
                </a:rPr>
                <a:t>Contenuto informativo di G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611280" y="1413000"/>
              <a:ext cx="8208720" cy="36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73000"/>
            </a:bodyPr>
            <a:p>
              <a:pPr marL="250200" indent="-25020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La topologia retinale umana è rappresentata dal </a:t>
              </a:r>
              <a:r>
                <a:rPr b="1" lang="it-IT" sz="2400" spc="-1" strike="noStrike">
                  <a:solidFill>
                    <a:srgbClr val="000000"/>
                  </a:solidFill>
                  <a:latin typeface="Arial"/>
                </a:rPr>
                <a:t>grafo</a:t>
              </a: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 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611280" y="1851120"/>
              <a:ext cx="2881080" cy="43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3000"/>
            </a:bodyPr>
            <a:p>
              <a:pPr marL="318960" indent="-318960">
                <a:spcBef>
                  <a:spcPts val="601"/>
                </a:spcBef>
                <a:buClr>
                  <a:srgbClr val="0033cc"/>
                </a:buClr>
                <a:buSzPct val="60000"/>
                <a:buFont typeface="Wingdings" charset="2"/>
                <a:buChar char="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2400" spc="-1" strike="noStrike">
                  <a:solidFill>
                    <a:srgbClr val="000000"/>
                  </a:solidFill>
                  <a:latin typeface="Arial"/>
                </a:rPr>
                <a:t>Campionament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490920" y="1987560"/>
              <a:ext cx="574560" cy="217440"/>
            </a:xfrm>
            <a:prstGeom prst="leftRightArrow">
              <a:avLst>
                <a:gd name="adj1" fmla="val 43065"/>
                <a:gd name="adj2" fmla="val 59123"/>
              </a:avLst>
            </a:prstGeom>
            <a:gradFill rotWithShape="0">
              <a:gsLst>
                <a:gs pos="0">
                  <a:srgbClr val="ff0000"/>
                </a:gs>
                <a:gs pos="100000">
                  <a:srgbClr val="ff0000"/>
                </a:gs>
              </a:gsLst>
              <a:lin ang="5400000"/>
            </a:gra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468360" y="836640"/>
            <a:ext cx="8207280" cy="71280"/>
          </a:xfrm>
          <a:prstGeom prst="rect">
            <a:avLst/>
          </a:prstGeom>
          <a:gradFill rotWithShape="0">
            <a:gsLst>
              <a:gs pos="0">
                <a:srgbClr val="ffcc99"/>
              </a:gs>
              <a:gs pos="50000">
                <a:srgbClr val="ff0000"/>
              </a:gs>
              <a:gs pos="100000">
                <a:srgbClr val="ffcc99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480" bIns="2448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60026-DAA8-40F4-99B0-2A20A619CC8B}" type="slidenum">
              <a:t>9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999AB-B1A2-43F4-9B12-9051601B5E45}" type="datetime1">
              <a:rPr lang="en-US"/>
              <a:t>07/28/26</a:t>
            </a:fld>
          </a:p>
        </p:txBody>
      </p:sp>
    </p:spTree>
  </p:cSld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0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withEffect" fill="hold" presetClass="entr" presetID="18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Right)" transition="in">
                                      <p:cBhvr additive="repl">
                                        <p:cTn id="427" dur="3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07T15:18:52Z</dcterms:created>
  <dc:creator>Luca</dc:creator>
  <dc:description/>
  <dc:language>en-US</dc:language>
  <cp:lastModifiedBy>John Nash</cp:lastModifiedBy>
  <dcterms:modified xsi:type="dcterms:W3CDTF">2004-12-16T09:04:04Z</dcterms:modified>
  <cp:revision>788</cp:revision>
  <dc:subject/>
  <dc:title>Diapositiva 1</dc:title>
</cp:coreProperties>
</file>