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F86-3E10-4964-ACA4-A6495159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546-5FDC-4A7D-9321-8A600084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52C-E813-45EE-BEC8-19A3A4A5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4CF-BA51-4DA3-846F-FC99C4AC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60F-14FD-42D1-B12D-6DE354F4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13C-87F4-4648-87D1-DDA399BB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6C8-F133-440D-AC35-B6CD68A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090-A73A-418D-B48C-3526D51B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FE-3B6F-407F-8A35-4AC3832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03E-29D5-4FE9-8879-C6DDA8C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D9F-0E0F-499B-B588-4C298E3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9D5-5CCA-4CFF-B224-EE6AA32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EA88-8DCD-40B4-A25A-13FACA94C612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1268-C038-4342-BFE8-C84FA9BDC4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9E9-E5BC-4587-8A30-19DC4E57F6A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7C4FC-D2AC-4864-8236-F3255974CBC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293-239E-4170-84A0-17A92A9A44B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453D7-9CED-4E71-8532-63A4BA6F89AD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873-0AD6-4533-BAD7-02484A98DE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6DA5D-3521-4217-B2A1-866DCF874CD1}" type="datetime1">
              <a:rPr lang="en-US"/>
              <a:t>07/31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239-9970-444C-9540-E5885D2344E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6064-4120-474E-BC89-72D52D9B30D6}" type="datetime1">
              <a:rPr lang="en-US"/>
              <a:t>07/31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EDE-420D-4420-98F9-72A7C0CE08A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992EB-A944-4143-9B71-7389D9FBB451}" type="datetime1">
              <a:rPr lang="en-US"/>
              <a:t>07/31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912-2F40-4012-B5F2-2C12B41453B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949BC-277B-428C-92E6-30A748F767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83E-BD9B-4FBB-A848-6618545BC36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71807-7956-48FF-A932-30B12CFCE5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31E-94FD-4E46-91F5-87C4EA8D152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7A463-3256-4CFF-B7F3-34B4C4F5A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1FD-0AD3-4292-9245-0E298474107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6FE1-96D4-415C-978E-C9B76787B1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601-0FA8-4061-A327-65CF718AC35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D3470-18CB-49C5-8BD4-72E517ED49D8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B1B-7CD6-4F3C-8B6F-CE1E32D6D7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29D84-8C3B-4E8A-99C6-C4555CAA874C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B1C-7CEE-4F24-B47C-3B79369E6C7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319E8-E0A1-4FC9-ADDC-AD79E3183AC1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4D3-B14C-47BC-960B-D88419C638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ECC44-4C55-483F-857D-A65BD3178762}" type="datetime1">
              <a:rPr lang="en-US"/>
              <a:t>07/31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871-48ED-4B88-8C6F-87D2F68C00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28CBB-BF63-4A63-A40A-73A2FD4A1453}" type="datetime1">
              <a:rPr lang="en-US"/>
              <a:t>07/31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5D1-60C7-4136-AA4F-12A65666C1D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EACEA-F623-4898-8F3B-A64EB5C9EC3C}" type="datetime1">
              <a:rPr lang="en-US"/>
              <a:t>07/31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062-A638-4B6D-A6F7-925CB1E7DAA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4F86-F110-47C6-AC27-5ACC7923BF4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FBC-4478-46F3-A3C3-2ABE4AC4C2A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7D2FD-53B0-4E19-942E-D447EB2E9043}" type="datetime1">
              <a:rPr lang="en-US"/>
              <a:t>07/31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127-01B6-4A6D-90D1-AFA4ACC0DF5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CB6EB-AE86-473E-99E0-9C737B72DF0C}" type="datetime1">
              <a:rPr lang="en-US"/>
              <a:t>07/31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